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640-F533-4B18-AC0A-57BB1622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B61-54AF-4EED-9187-9B6D655F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62D-8A71-4986-AF33-CDA14677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81E-E9EA-410A-A81E-C49CF216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3E1-BF24-41B8-8AFF-9D95427D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1BA-16B7-469A-ABC8-4AA908F8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203-058C-4552-84D3-1FD90150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C85-E484-4C0D-9CDE-F5536E92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F0B-43AF-44BB-974E-9075675B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A20-69B7-4E15-BB79-2F76EC28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E58-2FF2-49F3-A397-516E11BD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626-775D-4424-BF12-40969D98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2EF4-2DFF-4599-A43F-47779C5C1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, April 9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4343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7080" y="238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7432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32 + 143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3.9 - 12.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9 x .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71600" y="2362320"/>
                <a:ext cx="12193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609480" y="3429000"/>
            <a:ext cx="13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19320" y="3429000"/>
                <a:ext cx="13716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09480" y="464652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219320" y="4800600"/>
                <a:ext cx="1257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¸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401840" y="234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894" y="6524"/>
                </a:moveTo>
                <a:lnTo>
                  <a:pt x="3894" y="652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43040" y="2367000"/>
            <a:ext cx="330120" cy="776160"/>
          </a:xfrm>
          <a:custGeom>
            <a:avLst/>
            <a:gdLst/>
            <a:ahLst/>
            <a:rect l="l" t="t" r="r" b="b"/>
            <a:pathLst>
              <a:path w="919" h="2159">
                <a:moveTo>
                  <a:pt x="5482" y="6573"/>
                </a:moveTo>
                <a:cubicBezTo>
                  <a:pt x="5401" y="6583"/>
                  <a:pt x="5338" y="6625"/>
                  <a:pt x="5259" y="6648"/>
                </a:cubicBezTo>
                <a:cubicBezTo>
                  <a:pt x="5232" y="6656"/>
                  <a:pt x="5193" y="6776"/>
                  <a:pt x="5184" y="6821"/>
                </a:cubicBezTo>
                <a:cubicBezTo>
                  <a:pt x="5184" y="6838"/>
                  <a:pt x="5184" y="6854"/>
                  <a:pt x="5184" y="6871"/>
                </a:cubicBezTo>
                <a:cubicBezTo>
                  <a:pt x="5269" y="6837"/>
                  <a:pt x="5327" y="6804"/>
                  <a:pt x="5432" y="6796"/>
                </a:cubicBezTo>
                <a:cubicBezTo>
                  <a:pt x="5432" y="6940"/>
                  <a:pt x="5417" y="7015"/>
                  <a:pt x="5283" y="7094"/>
                </a:cubicBezTo>
                <a:cubicBezTo>
                  <a:pt x="5242" y="7111"/>
                  <a:pt x="5200" y="7127"/>
                  <a:pt x="5159" y="7144"/>
                </a:cubicBezTo>
              </a:path>
              <a:path w="919" h="2159">
                <a:moveTo>
                  <a:pt x="5060" y="6697"/>
                </a:moveTo>
                <a:cubicBezTo>
                  <a:pt x="4924" y="6892"/>
                  <a:pt x="4830" y="7099"/>
                  <a:pt x="4738" y="7317"/>
                </a:cubicBezTo>
              </a:path>
              <a:path w="919" h="2159">
                <a:moveTo>
                  <a:pt x="4986" y="8136"/>
                </a:moveTo>
                <a:cubicBezTo>
                  <a:pt x="4986" y="8111"/>
                  <a:pt x="4986" y="8103"/>
                  <a:pt x="4986" y="8086"/>
                </a:cubicBezTo>
                <a:cubicBezTo>
                  <a:pt x="4875" y="8086"/>
                  <a:pt x="4753" y="8358"/>
                  <a:pt x="4713" y="8434"/>
                </a:cubicBezTo>
                <a:cubicBezTo>
                  <a:pt x="4644" y="8593"/>
                  <a:pt x="4626" y="8639"/>
                  <a:pt x="4564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4920" y="2394000"/>
            <a:ext cx="250920" cy="677880"/>
          </a:xfrm>
          <a:custGeom>
            <a:avLst/>
            <a:gdLst/>
            <a:ahLst/>
            <a:rect l="l" t="t" r="r" b="b"/>
            <a:pathLst>
              <a:path w="696" h="1886">
                <a:moveTo>
                  <a:pt x="7094" y="7962"/>
                </a:moveTo>
                <a:cubicBezTo>
                  <a:pt x="6943" y="8136"/>
                  <a:pt x="6817" y="8329"/>
                  <a:pt x="6672" y="8508"/>
                </a:cubicBezTo>
                <a:cubicBezTo>
                  <a:pt x="6635" y="8546"/>
                  <a:pt x="6637" y="8539"/>
                  <a:pt x="6697" y="8458"/>
                </a:cubicBezTo>
              </a:path>
              <a:path w="696" h="1886">
                <a:moveTo>
                  <a:pt x="7293" y="6672"/>
                </a:moveTo>
                <a:cubicBezTo>
                  <a:pt x="7241" y="6597"/>
                  <a:pt x="7078" y="6838"/>
                  <a:pt x="7045" y="6871"/>
                </a:cubicBezTo>
                <a:cubicBezTo>
                  <a:pt x="6892" y="7026"/>
                  <a:pt x="6747" y="7184"/>
                  <a:pt x="6598" y="73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95760" y="2384280"/>
            <a:ext cx="133200" cy="187560"/>
          </a:xfrm>
          <a:custGeom>
            <a:avLst/>
            <a:gdLst/>
            <a:ahLst/>
            <a:rect l="l" t="t" r="r" b="b"/>
            <a:pathLst>
              <a:path w="373" h="522">
                <a:moveTo>
                  <a:pt x="7938" y="6623"/>
                </a:moveTo>
                <a:cubicBezTo>
                  <a:pt x="7884" y="6641"/>
                  <a:pt x="7870" y="6738"/>
                  <a:pt x="7838" y="6796"/>
                </a:cubicBezTo>
                <a:cubicBezTo>
                  <a:pt x="7789" y="6884"/>
                  <a:pt x="7771" y="6967"/>
                  <a:pt x="7764" y="7069"/>
                </a:cubicBezTo>
                <a:cubicBezTo>
                  <a:pt x="7764" y="7102"/>
                  <a:pt x="7764" y="7119"/>
                  <a:pt x="7764" y="7144"/>
                </a:cubicBezTo>
                <a:cubicBezTo>
                  <a:pt x="7857" y="7144"/>
                  <a:pt x="7931" y="7114"/>
                  <a:pt x="8012" y="7069"/>
                </a:cubicBezTo>
                <a:cubicBezTo>
                  <a:pt x="8080" y="7032"/>
                  <a:pt x="8136" y="6999"/>
                  <a:pt x="8136" y="6921"/>
                </a:cubicBezTo>
                <a:cubicBezTo>
                  <a:pt x="8082" y="6930"/>
                  <a:pt x="7966" y="6967"/>
                  <a:pt x="7938" y="7020"/>
                </a:cubicBezTo>
                <a:cubicBezTo>
                  <a:pt x="7925" y="7044"/>
                  <a:pt x="7919" y="7114"/>
                  <a:pt x="7913" y="7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13080" y="2705040"/>
            <a:ext cx="115920" cy="12564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9203" y="7565"/>
                </a:moveTo>
                <a:cubicBezTo>
                  <a:pt x="9310" y="7593"/>
                  <a:pt x="9337" y="7563"/>
                  <a:pt x="9451" y="7541"/>
                </a:cubicBezTo>
                <a:cubicBezTo>
                  <a:pt x="9509" y="7541"/>
                  <a:pt x="9533" y="7557"/>
                  <a:pt x="9525" y="7516"/>
                </a:cubicBezTo>
              </a:path>
              <a:path w="323" h="348">
                <a:moveTo>
                  <a:pt x="9252" y="7863"/>
                </a:moveTo>
                <a:cubicBezTo>
                  <a:pt x="9326" y="7863"/>
                  <a:pt x="9401" y="7863"/>
                  <a:pt x="9475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43200" y="2357280"/>
            <a:ext cx="955800" cy="554040"/>
          </a:xfrm>
          <a:custGeom>
            <a:avLst/>
            <a:gdLst/>
            <a:ahLst/>
            <a:rect l="l" t="t" r="r" b="b"/>
            <a:pathLst>
              <a:path w="2655" h="1539">
                <a:moveTo>
                  <a:pt x="10988" y="7045"/>
                </a:moveTo>
                <a:cubicBezTo>
                  <a:pt x="10892" y="7067"/>
                  <a:pt x="10795" y="7080"/>
                  <a:pt x="10691" y="7069"/>
                </a:cubicBezTo>
                <a:cubicBezTo>
                  <a:pt x="10595" y="7058"/>
                  <a:pt x="10513" y="7028"/>
                  <a:pt x="10418" y="7020"/>
                </a:cubicBezTo>
                <a:cubicBezTo>
                  <a:pt x="10390" y="7184"/>
                  <a:pt x="10377" y="7349"/>
                  <a:pt x="10368" y="7516"/>
                </a:cubicBezTo>
                <a:cubicBezTo>
                  <a:pt x="10400" y="7453"/>
                  <a:pt x="10428" y="7387"/>
                  <a:pt x="10517" y="7367"/>
                </a:cubicBezTo>
                <a:cubicBezTo>
                  <a:pt x="10684" y="7329"/>
                  <a:pt x="10827" y="7478"/>
                  <a:pt x="10815" y="7640"/>
                </a:cubicBezTo>
                <a:cubicBezTo>
                  <a:pt x="10802" y="7812"/>
                  <a:pt x="10641" y="8038"/>
                  <a:pt x="10468" y="8086"/>
                </a:cubicBezTo>
                <a:cubicBezTo>
                  <a:pt x="10346" y="8120"/>
                  <a:pt x="9993" y="7962"/>
                  <a:pt x="10120" y="7962"/>
                </a:cubicBezTo>
                <a:cubicBezTo>
                  <a:pt x="10156" y="7962"/>
                  <a:pt x="10186" y="7979"/>
                  <a:pt x="10220" y="7987"/>
                </a:cubicBezTo>
              </a:path>
              <a:path w="2655" h="1539">
                <a:moveTo>
                  <a:pt x="11584" y="6548"/>
                </a:moveTo>
                <a:cubicBezTo>
                  <a:pt x="11528" y="6660"/>
                  <a:pt x="11481" y="6771"/>
                  <a:pt x="11460" y="6896"/>
                </a:cubicBezTo>
                <a:cubicBezTo>
                  <a:pt x="11460" y="6912"/>
                  <a:pt x="11460" y="6929"/>
                  <a:pt x="11460" y="6945"/>
                </a:cubicBezTo>
              </a:path>
              <a:path w="2655" h="1539">
                <a:moveTo>
                  <a:pt x="11782" y="6548"/>
                </a:moveTo>
                <a:cubicBezTo>
                  <a:pt x="11810" y="6679"/>
                  <a:pt x="11818" y="6838"/>
                  <a:pt x="11782" y="6970"/>
                </a:cubicBezTo>
                <a:cubicBezTo>
                  <a:pt x="11774" y="6978"/>
                  <a:pt x="11765" y="6987"/>
                  <a:pt x="11757" y="6995"/>
                </a:cubicBezTo>
              </a:path>
              <a:path w="2655" h="1539">
                <a:moveTo>
                  <a:pt x="11336" y="7169"/>
                </a:moveTo>
                <a:cubicBezTo>
                  <a:pt x="11469" y="7152"/>
                  <a:pt x="11623" y="7091"/>
                  <a:pt x="11757" y="7094"/>
                </a:cubicBezTo>
                <a:cubicBezTo>
                  <a:pt x="11790" y="7102"/>
                  <a:pt x="11824" y="7111"/>
                  <a:pt x="11857" y="7119"/>
                </a:cubicBezTo>
              </a:path>
              <a:path w="2655" h="1539">
                <a:moveTo>
                  <a:pt x="11385" y="7590"/>
                </a:moveTo>
                <a:cubicBezTo>
                  <a:pt x="11355" y="7703"/>
                  <a:pt x="11339" y="7907"/>
                  <a:pt x="11286" y="8012"/>
                </a:cubicBezTo>
                <a:cubicBezTo>
                  <a:pt x="11286" y="8004"/>
                  <a:pt x="11286" y="7995"/>
                  <a:pt x="11286" y="7987"/>
                </a:cubicBezTo>
              </a:path>
              <a:path w="2655" h="1539">
                <a:moveTo>
                  <a:pt x="11733" y="7466"/>
                </a:moveTo>
                <a:cubicBezTo>
                  <a:pt x="11711" y="7594"/>
                  <a:pt x="11613" y="7677"/>
                  <a:pt x="11609" y="7813"/>
                </a:cubicBezTo>
                <a:cubicBezTo>
                  <a:pt x="11632" y="7909"/>
                  <a:pt x="11637" y="7938"/>
                  <a:pt x="11683" y="7987"/>
                </a:cubicBezTo>
                <a:cubicBezTo>
                  <a:pt x="11857" y="7921"/>
                  <a:pt x="11982" y="7824"/>
                  <a:pt x="12005" y="7615"/>
                </a:cubicBezTo>
                <a:cubicBezTo>
                  <a:pt x="12020" y="7473"/>
                  <a:pt x="11832" y="7499"/>
                  <a:pt x="11757" y="7491"/>
                </a:cubicBezTo>
              </a:path>
              <a:path w="2655" h="1539">
                <a:moveTo>
                  <a:pt x="12452" y="7268"/>
                </a:moveTo>
                <a:cubicBezTo>
                  <a:pt x="12559" y="7268"/>
                  <a:pt x="12667" y="7268"/>
                  <a:pt x="12774" y="7268"/>
                </a:cubicBezTo>
              </a:path>
              <a:path w="2655" h="1539">
                <a:moveTo>
                  <a:pt x="12502" y="7541"/>
                </a:moveTo>
                <a:cubicBezTo>
                  <a:pt x="12596" y="7517"/>
                  <a:pt x="12679" y="7498"/>
                  <a:pt x="12774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67200" y="2401920"/>
            <a:ext cx="633600" cy="509400"/>
          </a:xfrm>
          <a:custGeom>
            <a:avLst/>
            <a:gdLst/>
            <a:ahLst/>
            <a:rect l="l" t="t" r="r" b="b"/>
            <a:pathLst>
              <a:path w="1762" h="1415">
                <a:moveTo>
                  <a:pt x="13866" y="6995"/>
                </a:moveTo>
                <a:cubicBezTo>
                  <a:pt x="13771" y="7074"/>
                  <a:pt x="13748" y="7158"/>
                  <a:pt x="13692" y="7268"/>
                </a:cubicBezTo>
                <a:cubicBezTo>
                  <a:pt x="13589" y="7471"/>
                  <a:pt x="13499" y="7633"/>
                  <a:pt x="13543" y="7863"/>
                </a:cubicBezTo>
                <a:cubicBezTo>
                  <a:pt x="13577" y="8041"/>
                  <a:pt x="13858" y="7947"/>
                  <a:pt x="13965" y="7888"/>
                </a:cubicBezTo>
                <a:cubicBezTo>
                  <a:pt x="14076" y="7827"/>
                  <a:pt x="14293" y="7685"/>
                  <a:pt x="14312" y="7541"/>
                </a:cubicBezTo>
                <a:cubicBezTo>
                  <a:pt x="14304" y="7524"/>
                  <a:pt x="14296" y="7508"/>
                  <a:pt x="14288" y="7491"/>
                </a:cubicBezTo>
                <a:cubicBezTo>
                  <a:pt x="14177" y="7454"/>
                  <a:pt x="14057" y="7470"/>
                  <a:pt x="13990" y="7590"/>
                </a:cubicBezTo>
                <a:cubicBezTo>
                  <a:pt x="13927" y="7702"/>
                  <a:pt x="13858" y="7983"/>
                  <a:pt x="13965" y="7913"/>
                </a:cubicBezTo>
                <a:cubicBezTo>
                  <a:pt x="13998" y="7880"/>
                  <a:pt x="14031" y="7846"/>
                  <a:pt x="14064" y="7813"/>
                </a:cubicBezTo>
              </a:path>
              <a:path w="1762" h="1415">
                <a:moveTo>
                  <a:pt x="15106" y="6672"/>
                </a:moveTo>
                <a:cubicBezTo>
                  <a:pt x="15091" y="6810"/>
                  <a:pt x="15101" y="6958"/>
                  <a:pt x="15081" y="7094"/>
                </a:cubicBezTo>
                <a:cubicBezTo>
                  <a:pt x="15073" y="7119"/>
                  <a:pt x="15064" y="7144"/>
                  <a:pt x="15056" y="7169"/>
                </a:cubicBezTo>
              </a:path>
              <a:path w="1762" h="1415">
                <a:moveTo>
                  <a:pt x="14808" y="7169"/>
                </a:moveTo>
                <a:cubicBezTo>
                  <a:pt x="14932" y="7169"/>
                  <a:pt x="15056" y="7169"/>
                  <a:pt x="15180" y="7169"/>
                </a:cubicBezTo>
              </a:path>
              <a:path w="1762" h="1415">
                <a:moveTo>
                  <a:pt x="14734" y="7541"/>
                </a:moveTo>
                <a:cubicBezTo>
                  <a:pt x="14691" y="7702"/>
                  <a:pt x="14669" y="7864"/>
                  <a:pt x="14585" y="8012"/>
                </a:cubicBezTo>
                <a:cubicBezTo>
                  <a:pt x="14577" y="8020"/>
                  <a:pt x="14568" y="8029"/>
                  <a:pt x="14560" y="8037"/>
                </a:cubicBezTo>
              </a:path>
              <a:path w="1762" h="1415">
                <a:moveTo>
                  <a:pt x="15056" y="7739"/>
                </a:moveTo>
                <a:cubicBezTo>
                  <a:pt x="14993" y="7866"/>
                  <a:pt x="14965" y="7949"/>
                  <a:pt x="15007" y="8086"/>
                </a:cubicBezTo>
                <a:cubicBezTo>
                  <a:pt x="15140" y="8055"/>
                  <a:pt x="15275" y="7979"/>
                  <a:pt x="15280" y="7813"/>
                </a:cubicBezTo>
                <a:cubicBezTo>
                  <a:pt x="15253" y="7732"/>
                  <a:pt x="15237" y="7708"/>
                  <a:pt x="15156" y="77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720" y="3009960"/>
            <a:ext cx="1884240" cy="1285920"/>
          </a:xfrm>
          <a:custGeom>
            <a:avLst/>
            <a:gdLst/>
            <a:ahLst/>
            <a:rect l="l" t="t" r="r" b="b"/>
            <a:pathLst>
              <a:path w="5235" h="3573">
                <a:moveTo>
                  <a:pt x="5283" y="8384"/>
                </a:moveTo>
                <a:cubicBezTo>
                  <a:pt x="5283" y="8507"/>
                  <a:pt x="5252" y="8611"/>
                  <a:pt x="5234" y="8731"/>
                </a:cubicBezTo>
                <a:cubicBezTo>
                  <a:pt x="5234" y="8773"/>
                  <a:pt x="5234" y="8781"/>
                  <a:pt x="5234" y="8806"/>
                </a:cubicBezTo>
              </a:path>
              <a:path w="5235" h="3573">
                <a:moveTo>
                  <a:pt x="5556" y="8434"/>
                </a:moveTo>
                <a:cubicBezTo>
                  <a:pt x="5540" y="8538"/>
                  <a:pt x="5531" y="8626"/>
                  <a:pt x="5531" y="8731"/>
                </a:cubicBezTo>
                <a:cubicBezTo>
                  <a:pt x="5607" y="8716"/>
                  <a:pt x="5721" y="8625"/>
                  <a:pt x="5705" y="8533"/>
                </a:cubicBezTo>
                <a:cubicBezTo>
                  <a:pt x="5686" y="8427"/>
                  <a:pt x="5533" y="8476"/>
                  <a:pt x="5482" y="8483"/>
                </a:cubicBezTo>
              </a:path>
              <a:path w="5235" h="3573">
                <a:moveTo>
                  <a:pt x="7466" y="8359"/>
                </a:moveTo>
                <a:cubicBezTo>
                  <a:pt x="7442" y="8491"/>
                  <a:pt x="7427" y="8604"/>
                  <a:pt x="7466" y="8731"/>
                </a:cubicBezTo>
              </a:path>
              <a:path w="5235" h="3573">
                <a:moveTo>
                  <a:pt x="7739" y="8384"/>
                </a:moveTo>
                <a:cubicBezTo>
                  <a:pt x="7739" y="8465"/>
                  <a:pt x="7731" y="8518"/>
                  <a:pt x="7764" y="8582"/>
                </a:cubicBezTo>
                <a:cubicBezTo>
                  <a:pt x="7858" y="8590"/>
                  <a:pt x="8057" y="8545"/>
                  <a:pt x="8012" y="8384"/>
                </a:cubicBezTo>
                <a:cubicBezTo>
                  <a:pt x="7992" y="8312"/>
                  <a:pt x="7827" y="8375"/>
                  <a:pt x="7789" y="8384"/>
                </a:cubicBezTo>
              </a:path>
              <a:path w="5235" h="3573">
                <a:moveTo>
                  <a:pt x="4787" y="11063"/>
                </a:moveTo>
                <a:cubicBezTo>
                  <a:pt x="4847" y="10973"/>
                  <a:pt x="4664" y="11134"/>
                  <a:pt x="4589" y="11212"/>
                </a:cubicBezTo>
                <a:cubicBezTo>
                  <a:pt x="4411" y="11397"/>
                  <a:pt x="4210" y="11593"/>
                  <a:pt x="4043" y="11782"/>
                </a:cubicBezTo>
                <a:cubicBezTo>
                  <a:pt x="4043" y="11790"/>
                  <a:pt x="4043" y="11799"/>
                  <a:pt x="4043" y="11807"/>
                </a:cubicBezTo>
              </a:path>
              <a:path w="5235" h="3573">
                <a:moveTo>
                  <a:pt x="5011" y="11435"/>
                </a:moveTo>
                <a:cubicBezTo>
                  <a:pt x="4907" y="11435"/>
                  <a:pt x="4844" y="11464"/>
                  <a:pt x="4762" y="11534"/>
                </a:cubicBezTo>
                <a:cubicBezTo>
                  <a:pt x="4700" y="11587"/>
                  <a:pt x="4677" y="11612"/>
                  <a:pt x="4663" y="11683"/>
                </a:cubicBezTo>
                <a:cubicBezTo>
                  <a:pt x="4748" y="11709"/>
                  <a:pt x="4903" y="11713"/>
                  <a:pt x="4936" y="11807"/>
                </a:cubicBezTo>
                <a:cubicBezTo>
                  <a:pt x="4965" y="11889"/>
                  <a:pt x="4890" y="11908"/>
                  <a:pt x="4837" y="11931"/>
                </a:cubicBezTo>
                <a:cubicBezTo>
                  <a:pt x="4801" y="11789"/>
                  <a:pt x="4834" y="11737"/>
                  <a:pt x="4911" y="11609"/>
                </a:cubicBezTo>
                <a:cubicBezTo>
                  <a:pt x="4944" y="11554"/>
                  <a:pt x="5022" y="11500"/>
                  <a:pt x="5035" y="11460"/>
                </a:cubicBezTo>
              </a:path>
              <a:path w="5235" h="3573">
                <a:moveTo>
                  <a:pt x="4837" y="9575"/>
                </a:moveTo>
                <a:cubicBezTo>
                  <a:pt x="4730" y="9679"/>
                  <a:pt x="4649" y="9788"/>
                  <a:pt x="4539" y="9897"/>
                </a:cubicBezTo>
                <a:cubicBezTo>
                  <a:pt x="4395" y="10039"/>
                  <a:pt x="4252" y="10169"/>
                  <a:pt x="4093" y="10294"/>
                </a:cubicBezTo>
              </a:path>
              <a:path w="5235" h="3573">
                <a:moveTo>
                  <a:pt x="5110" y="9575"/>
                </a:moveTo>
                <a:cubicBezTo>
                  <a:pt x="5069" y="9599"/>
                  <a:pt x="4995" y="9672"/>
                  <a:pt x="4961" y="9723"/>
                </a:cubicBezTo>
                <a:cubicBezTo>
                  <a:pt x="4922" y="9781"/>
                  <a:pt x="4916" y="9879"/>
                  <a:pt x="4911" y="9947"/>
                </a:cubicBezTo>
                <a:cubicBezTo>
                  <a:pt x="4905" y="10029"/>
                  <a:pt x="4971" y="10043"/>
                  <a:pt x="5035" y="10046"/>
                </a:cubicBezTo>
                <a:cubicBezTo>
                  <a:pt x="5140" y="10051"/>
                  <a:pt x="5221" y="9990"/>
                  <a:pt x="5283" y="9922"/>
                </a:cubicBezTo>
                <a:cubicBezTo>
                  <a:pt x="5315" y="9887"/>
                  <a:pt x="5321" y="9885"/>
                  <a:pt x="5283" y="9872"/>
                </a:cubicBezTo>
                <a:cubicBezTo>
                  <a:pt x="5254" y="9857"/>
                  <a:pt x="5192" y="9853"/>
                  <a:pt x="5159" y="9897"/>
                </a:cubicBezTo>
                <a:cubicBezTo>
                  <a:pt x="5133" y="9932"/>
                  <a:pt x="5098" y="10008"/>
                  <a:pt x="5085" y="10046"/>
                </a:cubicBezTo>
                <a:cubicBezTo>
                  <a:pt x="5085" y="10071"/>
                  <a:pt x="5085" y="10079"/>
                  <a:pt x="5110" y="10071"/>
                </a:cubicBezTo>
              </a:path>
              <a:path w="5235" h="3573">
                <a:moveTo>
                  <a:pt x="3621" y="10269"/>
                </a:moveTo>
                <a:cubicBezTo>
                  <a:pt x="3662" y="10433"/>
                  <a:pt x="3719" y="10646"/>
                  <a:pt x="3770" y="10815"/>
                </a:cubicBezTo>
                <a:cubicBezTo>
                  <a:pt x="3822" y="10987"/>
                  <a:pt x="3880" y="11156"/>
                  <a:pt x="3894" y="11336"/>
                </a:cubicBezTo>
                <a:cubicBezTo>
                  <a:pt x="3894" y="11344"/>
                  <a:pt x="3894" y="11353"/>
                  <a:pt x="3894" y="11361"/>
                </a:cubicBezTo>
              </a:path>
              <a:path w="5235" h="3573">
                <a:moveTo>
                  <a:pt x="2902" y="9451"/>
                </a:moveTo>
                <a:cubicBezTo>
                  <a:pt x="3005" y="9553"/>
                  <a:pt x="2986" y="9676"/>
                  <a:pt x="2952" y="9823"/>
                </a:cubicBezTo>
                <a:cubicBezTo>
                  <a:pt x="2933" y="9880"/>
                  <a:pt x="2924" y="9887"/>
                  <a:pt x="2927" y="9922"/>
                </a:cubicBezTo>
                <a:cubicBezTo>
                  <a:pt x="3065" y="9922"/>
                  <a:pt x="3151" y="9882"/>
                  <a:pt x="3274" y="9823"/>
                </a:cubicBezTo>
                <a:cubicBezTo>
                  <a:pt x="3315" y="9803"/>
                  <a:pt x="3321" y="9794"/>
                  <a:pt x="3349" y="9798"/>
                </a:cubicBezTo>
              </a:path>
              <a:path w="5235" h="3573">
                <a:moveTo>
                  <a:pt x="3324" y="9252"/>
                </a:moveTo>
                <a:cubicBezTo>
                  <a:pt x="3324" y="9536"/>
                  <a:pt x="3320" y="9815"/>
                  <a:pt x="3299" y="10096"/>
                </a:cubicBezTo>
                <a:cubicBezTo>
                  <a:pt x="3299" y="10154"/>
                  <a:pt x="3299" y="10162"/>
                  <a:pt x="3299" y="10195"/>
                </a:cubicBezTo>
              </a:path>
              <a:path w="5235" h="3573">
                <a:moveTo>
                  <a:pt x="5556" y="9550"/>
                </a:moveTo>
                <a:cubicBezTo>
                  <a:pt x="5556" y="9542"/>
                  <a:pt x="5556" y="9533"/>
                  <a:pt x="5556" y="9525"/>
                </a:cubicBezTo>
                <a:cubicBezTo>
                  <a:pt x="5521" y="9606"/>
                  <a:pt x="5531" y="9702"/>
                  <a:pt x="5531" y="9798"/>
                </a:cubicBezTo>
              </a:path>
              <a:path w="5235" h="3573">
                <a:moveTo>
                  <a:pt x="5432" y="9723"/>
                </a:moveTo>
                <a:cubicBezTo>
                  <a:pt x="5467" y="9653"/>
                  <a:pt x="5494" y="9623"/>
                  <a:pt x="5556" y="9599"/>
                </a:cubicBezTo>
              </a:path>
              <a:path w="5235" h="3573">
                <a:moveTo>
                  <a:pt x="5854" y="9302"/>
                </a:moveTo>
                <a:cubicBezTo>
                  <a:pt x="5802" y="9354"/>
                  <a:pt x="5751" y="9397"/>
                  <a:pt x="5705" y="9451"/>
                </a:cubicBezTo>
                <a:cubicBezTo>
                  <a:pt x="5697" y="9459"/>
                  <a:pt x="5688" y="9467"/>
                  <a:pt x="5680" y="9475"/>
                </a:cubicBezTo>
                <a:cubicBezTo>
                  <a:pt x="5745" y="9529"/>
                  <a:pt x="5860" y="9554"/>
                  <a:pt x="5904" y="9624"/>
                </a:cubicBezTo>
                <a:cubicBezTo>
                  <a:pt x="5964" y="9720"/>
                  <a:pt x="5897" y="9792"/>
                  <a:pt x="5854" y="9872"/>
                </a:cubicBezTo>
                <a:cubicBezTo>
                  <a:pt x="5750" y="9857"/>
                  <a:pt x="5732" y="9754"/>
                  <a:pt x="5755" y="9649"/>
                </a:cubicBezTo>
                <a:cubicBezTo>
                  <a:pt x="5780" y="9535"/>
                  <a:pt x="5829" y="9415"/>
                  <a:pt x="5904" y="9327"/>
                </a:cubicBezTo>
              </a:path>
              <a:path w="5235" h="3573">
                <a:moveTo>
                  <a:pt x="6152" y="9327"/>
                </a:moveTo>
                <a:cubicBezTo>
                  <a:pt x="6212" y="9283"/>
                  <a:pt x="6250" y="9267"/>
                  <a:pt x="6276" y="9203"/>
                </a:cubicBezTo>
              </a:path>
              <a:path w="5235" h="3573">
                <a:moveTo>
                  <a:pt x="6176" y="9475"/>
                </a:moveTo>
                <a:cubicBezTo>
                  <a:pt x="6201" y="9450"/>
                  <a:pt x="6226" y="9426"/>
                  <a:pt x="6251" y="9401"/>
                </a:cubicBezTo>
              </a:path>
              <a:path w="5235" h="3573">
                <a:moveTo>
                  <a:pt x="6499" y="8954"/>
                </a:moveTo>
                <a:cubicBezTo>
                  <a:pt x="6513" y="9062"/>
                  <a:pt x="6545" y="9163"/>
                  <a:pt x="6548" y="9277"/>
                </a:cubicBezTo>
                <a:cubicBezTo>
                  <a:pt x="6548" y="9335"/>
                  <a:pt x="6548" y="9343"/>
                  <a:pt x="6548" y="9376"/>
                </a:cubicBezTo>
              </a:path>
              <a:path w="5235" h="3573">
                <a:moveTo>
                  <a:pt x="6722" y="8905"/>
                </a:moveTo>
                <a:cubicBezTo>
                  <a:pt x="6729" y="8942"/>
                  <a:pt x="6731" y="9023"/>
                  <a:pt x="6747" y="9054"/>
                </a:cubicBezTo>
                <a:cubicBezTo>
                  <a:pt x="6800" y="9159"/>
                  <a:pt x="6905" y="9063"/>
                  <a:pt x="6970" y="9029"/>
                </a:cubicBezTo>
                <a:cubicBezTo>
                  <a:pt x="6987" y="9021"/>
                  <a:pt x="7003" y="9012"/>
                  <a:pt x="7020" y="9004"/>
                </a:cubicBezTo>
              </a:path>
              <a:path w="5235" h="3573">
                <a:moveTo>
                  <a:pt x="6871" y="8930"/>
                </a:moveTo>
                <a:cubicBezTo>
                  <a:pt x="6871" y="9062"/>
                  <a:pt x="6871" y="9195"/>
                  <a:pt x="6871" y="9327"/>
                </a:cubicBezTo>
              </a:path>
              <a:path w="5235" h="3573">
                <a:moveTo>
                  <a:pt x="7764" y="10740"/>
                </a:moveTo>
                <a:cubicBezTo>
                  <a:pt x="7888" y="10750"/>
                  <a:pt x="7987" y="10750"/>
                  <a:pt x="8111" y="10740"/>
                </a:cubicBezTo>
              </a:path>
              <a:path w="5235" h="3573">
                <a:moveTo>
                  <a:pt x="7863" y="10988"/>
                </a:moveTo>
                <a:cubicBezTo>
                  <a:pt x="7954" y="10988"/>
                  <a:pt x="8045" y="10988"/>
                  <a:pt x="8136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02000" y="3510000"/>
            <a:ext cx="376200" cy="677880"/>
          </a:xfrm>
          <a:custGeom>
            <a:avLst/>
            <a:gdLst/>
            <a:ahLst/>
            <a:rect l="l" t="t" r="r" b="b"/>
            <a:pathLst>
              <a:path w="1042" h="1886">
                <a:moveTo>
                  <a:pt x="9699" y="9773"/>
                </a:moveTo>
                <a:cubicBezTo>
                  <a:pt x="9852" y="9795"/>
                  <a:pt x="10013" y="9791"/>
                  <a:pt x="10170" y="9773"/>
                </a:cubicBezTo>
                <a:cubicBezTo>
                  <a:pt x="10269" y="9753"/>
                  <a:pt x="10285" y="9745"/>
                  <a:pt x="10344" y="9748"/>
                </a:cubicBezTo>
                <a:cubicBezTo>
                  <a:pt x="10304" y="9929"/>
                  <a:pt x="10149" y="10086"/>
                  <a:pt x="10046" y="10244"/>
                </a:cubicBezTo>
                <a:cubicBezTo>
                  <a:pt x="9986" y="10336"/>
                  <a:pt x="9917" y="10471"/>
                  <a:pt x="10046" y="10344"/>
                </a:cubicBezTo>
              </a:path>
              <a:path w="1042" h="1886">
                <a:moveTo>
                  <a:pt x="9674" y="10592"/>
                </a:moveTo>
                <a:cubicBezTo>
                  <a:pt x="9939" y="10527"/>
                  <a:pt x="10200" y="10442"/>
                  <a:pt x="10468" y="10393"/>
                </a:cubicBezTo>
                <a:cubicBezTo>
                  <a:pt x="10501" y="10393"/>
                  <a:pt x="10509" y="10402"/>
                  <a:pt x="10492" y="10443"/>
                </a:cubicBezTo>
              </a:path>
              <a:path w="1042" h="1886">
                <a:moveTo>
                  <a:pt x="9947" y="10939"/>
                </a:moveTo>
                <a:cubicBezTo>
                  <a:pt x="9945" y="10750"/>
                  <a:pt x="9662" y="10956"/>
                  <a:pt x="9550" y="11038"/>
                </a:cubicBezTo>
                <a:cubicBezTo>
                  <a:pt x="9517" y="11071"/>
                  <a:pt x="9484" y="11104"/>
                  <a:pt x="9451" y="11137"/>
                </a:cubicBezTo>
                <a:cubicBezTo>
                  <a:pt x="9525" y="11342"/>
                  <a:pt x="9728" y="11219"/>
                  <a:pt x="9922" y="11311"/>
                </a:cubicBezTo>
                <a:cubicBezTo>
                  <a:pt x="10141" y="11415"/>
                  <a:pt x="9606" y="11624"/>
                  <a:pt x="9575" y="11633"/>
                </a:cubicBezTo>
                <a:cubicBezTo>
                  <a:pt x="9574" y="11379"/>
                  <a:pt x="9793" y="11220"/>
                  <a:pt x="9971" y="11038"/>
                </a:cubicBezTo>
                <a:cubicBezTo>
                  <a:pt x="10027" y="10983"/>
                  <a:pt x="10079" y="10958"/>
                  <a:pt x="10021" y="109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5040" y="3268800"/>
            <a:ext cx="955800" cy="704880"/>
          </a:xfrm>
          <a:custGeom>
            <a:avLst/>
            <a:gdLst/>
            <a:ahLst/>
            <a:rect l="l" t="t" r="r" b="b"/>
            <a:pathLst>
              <a:path w="2655" h="1960">
                <a:moveTo>
                  <a:pt x="18777" y="9376"/>
                </a:moveTo>
                <a:cubicBezTo>
                  <a:pt x="18752" y="9376"/>
                  <a:pt x="18744" y="9376"/>
                  <a:pt x="18728" y="9376"/>
                </a:cubicBezTo>
                <a:cubicBezTo>
                  <a:pt x="18707" y="9440"/>
                  <a:pt x="18705" y="9371"/>
                  <a:pt x="18777" y="9401"/>
                </a:cubicBezTo>
                <a:cubicBezTo>
                  <a:pt x="18962" y="9479"/>
                  <a:pt x="18670" y="9720"/>
                  <a:pt x="18628" y="9748"/>
                </a:cubicBezTo>
                <a:cubicBezTo>
                  <a:pt x="18492" y="9838"/>
                  <a:pt x="18361" y="9876"/>
                  <a:pt x="18207" y="9897"/>
                </a:cubicBezTo>
                <a:cubicBezTo>
                  <a:pt x="18263" y="9803"/>
                  <a:pt x="18393" y="9772"/>
                  <a:pt x="18504" y="9823"/>
                </a:cubicBezTo>
                <a:cubicBezTo>
                  <a:pt x="18573" y="9854"/>
                  <a:pt x="18625" y="9919"/>
                  <a:pt x="18678" y="9971"/>
                </a:cubicBezTo>
              </a:path>
              <a:path w="2655" h="1960">
                <a:moveTo>
                  <a:pt x="19100" y="9525"/>
                </a:moveTo>
                <a:cubicBezTo>
                  <a:pt x="19170" y="9525"/>
                  <a:pt x="19232" y="9519"/>
                  <a:pt x="19298" y="9550"/>
                </a:cubicBezTo>
                <a:cubicBezTo>
                  <a:pt x="19306" y="9558"/>
                  <a:pt x="19315" y="9567"/>
                  <a:pt x="19323" y="9575"/>
                </a:cubicBezTo>
                <a:cubicBezTo>
                  <a:pt x="19271" y="9678"/>
                  <a:pt x="19171" y="9687"/>
                  <a:pt x="19050" y="9723"/>
                </a:cubicBezTo>
                <a:cubicBezTo>
                  <a:pt x="19131" y="9708"/>
                  <a:pt x="19209" y="9820"/>
                  <a:pt x="19273" y="9897"/>
                </a:cubicBezTo>
                <a:cubicBezTo>
                  <a:pt x="19171" y="9999"/>
                  <a:pt x="19049" y="9996"/>
                  <a:pt x="18901" y="9971"/>
                </a:cubicBezTo>
                <a:cubicBezTo>
                  <a:pt x="18868" y="9963"/>
                  <a:pt x="18835" y="9955"/>
                  <a:pt x="18802" y="9947"/>
                </a:cubicBezTo>
              </a:path>
              <a:path w="2655" h="1960">
                <a:moveTo>
                  <a:pt x="18281" y="10195"/>
                </a:moveTo>
                <a:cubicBezTo>
                  <a:pt x="18502" y="10195"/>
                  <a:pt x="18714" y="10180"/>
                  <a:pt x="18926" y="10244"/>
                </a:cubicBezTo>
              </a:path>
              <a:path w="2655" h="1960">
                <a:moveTo>
                  <a:pt x="18479" y="10294"/>
                </a:moveTo>
                <a:cubicBezTo>
                  <a:pt x="18451" y="10364"/>
                  <a:pt x="18385" y="10432"/>
                  <a:pt x="18331" y="10492"/>
                </a:cubicBezTo>
                <a:cubicBezTo>
                  <a:pt x="18424" y="10587"/>
                  <a:pt x="18585" y="10590"/>
                  <a:pt x="18728" y="10567"/>
                </a:cubicBezTo>
                <a:cubicBezTo>
                  <a:pt x="18744" y="10559"/>
                  <a:pt x="18761" y="10550"/>
                  <a:pt x="18777" y="10542"/>
                </a:cubicBezTo>
              </a:path>
              <a:path w="2655" h="1960">
                <a:moveTo>
                  <a:pt x="18728" y="10368"/>
                </a:moveTo>
                <a:cubicBezTo>
                  <a:pt x="18670" y="10520"/>
                  <a:pt x="18602" y="10653"/>
                  <a:pt x="18529" y="10790"/>
                </a:cubicBezTo>
                <a:cubicBezTo>
                  <a:pt x="18529" y="10815"/>
                  <a:pt x="18529" y="10823"/>
                  <a:pt x="18529" y="10840"/>
                </a:cubicBezTo>
              </a:path>
              <a:path w="2655" h="1960">
                <a:moveTo>
                  <a:pt x="19596" y="10418"/>
                </a:moveTo>
                <a:cubicBezTo>
                  <a:pt x="19705" y="10429"/>
                  <a:pt x="19807" y="10443"/>
                  <a:pt x="19918" y="10443"/>
                </a:cubicBezTo>
              </a:path>
              <a:path w="2655" h="1960">
                <a:moveTo>
                  <a:pt x="17735" y="10666"/>
                </a:moveTo>
                <a:cubicBezTo>
                  <a:pt x="17670" y="10666"/>
                  <a:pt x="17753" y="10666"/>
                  <a:pt x="17760" y="10666"/>
                </a:cubicBezTo>
                <a:cubicBezTo>
                  <a:pt x="17703" y="10695"/>
                  <a:pt x="17590" y="10682"/>
                  <a:pt x="17537" y="10716"/>
                </a:cubicBezTo>
                <a:cubicBezTo>
                  <a:pt x="17476" y="10756"/>
                  <a:pt x="17633" y="10813"/>
                  <a:pt x="17686" y="10864"/>
                </a:cubicBezTo>
                <a:cubicBezTo>
                  <a:pt x="17758" y="10933"/>
                  <a:pt x="17771" y="10930"/>
                  <a:pt x="17760" y="11013"/>
                </a:cubicBezTo>
                <a:cubicBezTo>
                  <a:pt x="17701" y="11035"/>
                  <a:pt x="17675" y="11038"/>
                  <a:pt x="17611" y="11038"/>
                </a:cubicBezTo>
                <a:cubicBezTo>
                  <a:pt x="17580" y="10892"/>
                  <a:pt x="17661" y="10839"/>
                  <a:pt x="17785" y="10765"/>
                </a:cubicBezTo>
                <a:cubicBezTo>
                  <a:pt x="17828" y="10743"/>
                  <a:pt x="17840" y="10740"/>
                  <a:pt x="17859" y="10716"/>
                </a:cubicBezTo>
              </a:path>
              <a:path w="2655" h="1960">
                <a:moveTo>
                  <a:pt x="18256" y="10269"/>
                </a:moveTo>
                <a:cubicBezTo>
                  <a:pt x="18231" y="10269"/>
                  <a:pt x="18223" y="10269"/>
                  <a:pt x="18231" y="10244"/>
                </a:cubicBezTo>
                <a:cubicBezTo>
                  <a:pt x="18231" y="10295"/>
                  <a:pt x="18238" y="10302"/>
                  <a:pt x="18256" y="10344"/>
                </a:cubicBezTo>
                <a:cubicBezTo>
                  <a:pt x="18321" y="10498"/>
                  <a:pt x="18370" y="10661"/>
                  <a:pt x="18430" y="10815"/>
                </a:cubicBezTo>
                <a:cubicBezTo>
                  <a:pt x="18438" y="10836"/>
                  <a:pt x="18468" y="10955"/>
                  <a:pt x="18479" y="10964"/>
                </a:cubicBezTo>
                <a:cubicBezTo>
                  <a:pt x="18497" y="10979"/>
                  <a:pt x="18504" y="10980"/>
                  <a:pt x="18529" y="10988"/>
                </a:cubicBezTo>
              </a:path>
              <a:path w="2655" h="1960">
                <a:moveTo>
                  <a:pt x="18529" y="9426"/>
                </a:moveTo>
                <a:cubicBezTo>
                  <a:pt x="18541" y="9507"/>
                  <a:pt x="18592" y="9545"/>
                  <a:pt x="18628" y="9624"/>
                </a:cubicBezTo>
                <a:cubicBezTo>
                  <a:pt x="18692" y="9764"/>
                  <a:pt x="18788" y="9872"/>
                  <a:pt x="18876" y="9996"/>
                </a:cubicBezTo>
                <a:cubicBezTo>
                  <a:pt x="18908" y="10041"/>
                  <a:pt x="18979" y="10096"/>
                  <a:pt x="19000" y="10145"/>
                </a:cubicBezTo>
                <a:cubicBezTo>
                  <a:pt x="19000" y="10170"/>
                  <a:pt x="19000" y="10178"/>
                  <a:pt x="19025" y="10170"/>
                </a:cubicBezTo>
              </a:path>
              <a:path w="2655" h="1960">
                <a:moveTo>
                  <a:pt x="17363" y="9128"/>
                </a:moveTo>
                <a:cubicBezTo>
                  <a:pt x="17363" y="9103"/>
                  <a:pt x="17363" y="9095"/>
                  <a:pt x="17388" y="9103"/>
                </a:cubicBezTo>
                <a:cubicBezTo>
                  <a:pt x="17345" y="9146"/>
                  <a:pt x="17288" y="9199"/>
                  <a:pt x="17264" y="9252"/>
                </a:cubicBezTo>
                <a:cubicBezTo>
                  <a:pt x="17264" y="9260"/>
                  <a:pt x="17264" y="9269"/>
                  <a:pt x="17264" y="9277"/>
                </a:cubicBezTo>
                <a:cubicBezTo>
                  <a:pt x="17331" y="9318"/>
                  <a:pt x="17381" y="9281"/>
                  <a:pt x="17462" y="9277"/>
                </a:cubicBezTo>
                <a:cubicBezTo>
                  <a:pt x="17520" y="9274"/>
                  <a:pt x="17521" y="9271"/>
                  <a:pt x="17562" y="9302"/>
                </a:cubicBezTo>
              </a:path>
              <a:path w="2655" h="1960">
                <a:moveTo>
                  <a:pt x="17636" y="9079"/>
                </a:moveTo>
                <a:cubicBezTo>
                  <a:pt x="17607" y="9194"/>
                  <a:pt x="17514" y="9332"/>
                  <a:pt x="17462" y="9451"/>
                </a:cubicBezTo>
                <a:cubicBezTo>
                  <a:pt x="17419" y="9538"/>
                  <a:pt x="17412" y="9561"/>
                  <a:pt x="17363" y="9599"/>
                </a:cubicBezTo>
              </a:path>
              <a:path w="2655" h="1960">
                <a:moveTo>
                  <a:pt x="17835" y="9128"/>
                </a:moveTo>
                <a:cubicBezTo>
                  <a:pt x="17815" y="9229"/>
                  <a:pt x="17730" y="9305"/>
                  <a:pt x="17686" y="9401"/>
                </a:cubicBezTo>
                <a:cubicBezTo>
                  <a:pt x="17666" y="9444"/>
                  <a:pt x="17627" y="9584"/>
                  <a:pt x="17686" y="9624"/>
                </a:cubicBezTo>
                <a:cubicBezTo>
                  <a:pt x="17779" y="9686"/>
                  <a:pt x="17941" y="9593"/>
                  <a:pt x="18008" y="9525"/>
                </a:cubicBezTo>
                <a:cubicBezTo>
                  <a:pt x="18036" y="9468"/>
                  <a:pt x="18047" y="9445"/>
                  <a:pt x="18058" y="9401"/>
                </a:cubicBezTo>
                <a:cubicBezTo>
                  <a:pt x="17994" y="9353"/>
                  <a:pt x="17936" y="9391"/>
                  <a:pt x="17884" y="9451"/>
                </a:cubicBezTo>
                <a:cubicBezTo>
                  <a:pt x="17838" y="9504"/>
                  <a:pt x="17810" y="9556"/>
                  <a:pt x="17810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3483000"/>
            <a:ext cx="465120" cy="419040"/>
          </a:xfrm>
          <a:custGeom>
            <a:avLst/>
            <a:gdLst/>
            <a:ahLst/>
            <a:rect l="l" t="t" r="r" b="b"/>
            <a:pathLst>
              <a:path w="1291" h="1167">
                <a:moveTo>
                  <a:pt x="20861" y="9674"/>
                </a:moveTo>
                <a:cubicBezTo>
                  <a:pt x="20922" y="9674"/>
                  <a:pt x="21033" y="9672"/>
                  <a:pt x="20985" y="9773"/>
                </a:cubicBezTo>
                <a:cubicBezTo>
                  <a:pt x="20956" y="9836"/>
                  <a:pt x="20770" y="9864"/>
                  <a:pt x="20712" y="9872"/>
                </a:cubicBezTo>
                <a:cubicBezTo>
                  <a:pt x="20793" y="9888"/>
                  <a:pt x="20862" y="9929"/>
                  <a:pt x="20935" y="9971"/>
                </a:cubicBezTo>
                <a:cubicBezTo>
                  <a:pt x="20883" y="10054"/>
                  <a:pt x="20798" y="10145"/>
                  <a:pt x="20687" y="10145"/>
                </a:cubicBezTo>
                <a:cubicBezTo>
                  <a:pt x="20620" y="10122"/>
                  <a:pt x="20599" y="10121"/>
                  <a:pt x="20588" y="10071"/>
                </a:cubicBezTo>
              </a:path>
              <a:path w="1291" h="1167">
                <a:moveTo>
                  <a:pt x="21406" y="9798"/>
                </a:moveTo>
                <a:cubicBezTo>
                  <a:pt x="21308" y="9833"/>
                  <a:pt x="21247" y="9848"/>
                  <a:pt x="21208" y="9947"/>
                </a:cubicBezTo>
                <a:cubicBezTo>
                  <a:pt x="21295" y="9989"/>
                  <a:pt x="21351" y="9955"/>
                  <a:pt x="21431" y="9897"/>
                </a:cubicBezTo>
                <a:cubicBezTo>
                  <a:pt x="21439" y="9889"/>
                  <a:pt x="21448" y="9880"/>
                  <a:pt x="21456" y="9872"/>
                </a:cubicBezTo>
                <a:cubicBezTo>
                  <a:pt x="21420" y="9961"/>
                  <a:pt x="21331" y="10051"/>
                  <a:pt x="21282" y="10145"/>
                </a:cubicBezTo>
                <a:cubicBezTo>
                  <a:pt x="21236" y="10238"/>
                  <a:pt x="21225" y="10267"/>
                  <a:pt x="21158" y="10294"/>
                </a:cubicBezTo>
              </a:path>
              <a:path w="1291" h="1167">
                <a:moveTo>
                  <a:pt x="20513" y="10344"/>
                </a:moveTo>
                <a:cubicBezTo>
                  <a:pt x="20720" y="10344"/>
                  <a:pt x="20927" y="10344"/>
                  <a:pt x="21134" y="10344"/>
                </a:cubicBezTo>
              </a:path>
              <a:path w="1291" h="1167">
                <a:moveTo>
                  <a:pt x="20985" y="10468"/>
                </a:moveTo>
                <a:cubicBezTo>
                  <a:pt x="20887" y="10452"/>
                  <a:pt x="20784" y="10440"/>
                  <a:pt x="20687" y="10492"/>
                </a:cubicBezTo>
                <a:cubicBezTo>
                  <a:pt x="20572" y="10554"/>
                  <a:pt x="20687" y="10638"/>
                  <a:pt x="20737" y="10691"/>
                </a:cubicBezTo>
                <a:cubicBezTo>
                  <a:pt x="20786" y="10740"/>
                  <a:pt x="20803" y="10757"/>
                  <a:pt x="20836" y="10790"/>
                </a:cubicBezTo>
                <a:cubicBezTo>
                  <a:pt x="20789" y="10838"/>
                  <a:pt x="20677" y="10896"/>
                  <a:pt x="20638" y="10790"/>
                </a:cubicBezTo>
                <a:cubicBezTo>
                  <a:pt x="20594" y="10670"/>
                  <a:pt x="20880" y="10632"/>
                  <a:pt x="20935" y="10592"/>
                </a:cubicBezTo>
                <a:cubicBezTo>
                  <a:pt x="20943" y="10575"/>
                  <a:pt x="20952" y="10559"/>
                  <a:pt x="20960" y="10542"/>
                </a:cubicBezTo>
              </a:path>
              <a:path w="1291" h="1167">
                <a:moveTo>
                  <a:pt x="21580" y="10393"/>
                </a:moveTo>
                <a:cubicBezTo>
                  <a:pt x="21650" y="10411"/>
                  <a:pt x="21709" y="10385"/>
                  <a:pt x="21779" y="10393"/>
                </a:cubicBezTo>
                <a:cubicBezTo>
                  <a:pt x="21787" y="10401"/>
                  <a:pt x="21795" y="10410"/>
                  <a:pt x="21803" y="10418"/>
                </a:cubicBezTo>
              </a:path>
              <a:path w="1291" h="1167">
                <a:moveTo>
                  <a:pt x="21605" y="10517"/>
                </a:moveTo>
                <a:cubicBezTo>
                  <a:pt x="21662" y="10525"/>
                  <a:pt x="21692" y="10542"/>
                  <a:pt x="21754" y="10542"/>
                </a:cubicBezTo>
                <a:cubicBezTo>
                  <a:pt x="21779" y="10542"/>
                  <a:pt x="21787" y="10542"/>
                  <a:pt x="21803" y="105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28000" y="3589200"/>
            <a:ext cx="214200" cy="447840"/>
          </a:xfrm>
          <a:custGeom>
            <a:avLst/>
            <a:gdLst/>
            <a:ahLst/>
            <a:rect l="l" t="t" r="r" b="b"/>
            <a:pathLst>
              <a:path w="597" h="1242">
                <a:moveTo>
                  <a:pt x="22299" y="10517"/>
                </a:moveTo>
                <a:cubicBezTo>
                  <a:pt x="22498" y="10517"/>
                  <a:pt x="22696" y="10517"/>
                  <a:pt x="22895" y="10517"/>
                </a:cubicBezTo>
              </a:path>
              <a:path w="597" h="1242">
                <a:moveTo>
                  <a:pt x="22671" y="10740"/>
                </a:moveTo>
                <a:cubicBezTo>
                  <a:pt x="22605" y="10718"/>
                  <a:pt x="22495" y="10691"/>
                  <a:pt x="22423" y="10716"/>
                </a:cubicBezTo>
                <a:cubicBezTo>
                  <a:pt x="22374" y="10733"/>
                  <a:pt x="22359" y="10776"/>
                  <a:pt x="22324" y="10815"/>
                </a:cubicBezTo>
                <a:cubicBezTo>
                  <a:pt x="22302" y="10837"/>
                  <a:pt x="22293" y="10842"/>
                  <a:pt x="22299" y="10864"/>
                </a:cubicBezTo>
                <a:cubicBezTo>
                  <a:pt x="22351" y="10924"/>
                  <a:pt x="22447" y="10994"/>
                  <a:pt x="22523" y="11038"/>
                </a:cubicBezTo>
                <a:cubicBezTo>
                  <a:pt x="22569" y="11064"/>
                  <a:pt x="22573" y="11107"/>
                  <a:pt x="22597" y="11162"/>
                </a:cubicBezTo>
                <a:cubicBezTo>
                  <a:pt x="22483" y="11239"/>
                  <a:pt x="22474" y="11188"/>
                  <a:pt x="22349" y="11162"/>
                </a:cubicBezTo>
                <a:cubicBezTo>
                  <a:pt x="22332" y="11162"/>
                  <a:pt x="22316" y="11162"/>
                  <a:pt x="22299" y="11162"/>
                </a:cubicBezTo>
                <a:cubicBezTo>
                  <a:pt x="22334" y="11059"/>
                  <a:pt x="22395" y="11030"/>
                  <a:pt x="22498" y="10988"/>
                </a:cubicBezTo>
                <a:cubicBezTo>
                  <a:pt x="22558" y="10963"/>
                  <a:pt x="22665" y="10959"/>
                  <a:pt x="22696" y="10889"/>
                </a:cubicBezTo>
                <a:cubicBezTo>
                  <a:pt x="22710" y="10856"/>
                  <a:pt x="22712" y="10800"/>
                  <a:pt x="22721" y="10765"/>
                </a:cubicBezTo>
              </a:path>
              <a:path w="597" h="1242">
                <a:moveTo>
                  <a:pt x="22498" y="10021"/>
                </a:moveTo>
                <a:cubicBezTo>
                  <a:pt x="22498" y="9996"/>
                  <a:pt x="22498" y="9988"/>
                  <a:pt x="22498" y="9971"/>
                </a:cubicBezTo>
                <a:cubicBezTo>
                  <a:pt x="22605" y="9971"/>
                  <a:pt x="22713" y="9971"/>
                  <a:pt x="22820" y="9971"/>
                </a:cubicBezTo>
                <a:cubicBezTo>
                  <a:pt x="22801" y="10089"/>
                  <a:pt x="22735" y="10184"/>
                  <a:pt x="22696" y="10294"/>
                </a:cubicBezTo>
                <a:cubicBezTo>
                  <a:pt x="22671" y="10366"/>
                  <a:pt x="22646" y="10408"/>
                  <a:pt x="22622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70160" y="4705200"/>
            <a:ext cx="1330560" cy="750960"/>
          </a:xfrm>
          <a:custGeom>
            <a:avLst/>
            <a:gdLst/>
            <a:ahLst/>
            <a:rect l="l" t="t" r="r" b="b"/>
            <a:pathLst>
              <a:path w="3697" h="2085">
                <a:moveTo>
                  <a:pt x="9029" y="13171"/>
                </a:moveTo>
                <a:cubicBezTo>
                  <a:pt x="9151" y="13171"/>
                  <a:pt x="9240" y="13144"/>
                  <a:pt x="9327" y="13271"/>
                </a:cubicBezTo>
                <a:cubicBezTo>
                  <a:pt x="9489" y="13506"/>
                  <a:pt x="9234" y="13761"/>
                  <a:pt x="9029" y="13841"/>
                </a:cubicBezTo>
                <a:cubicBezTo>
                  <a:pt x="8895" y="13863"/>
                  <a:pt x="8856" y="13883"/>
                  <a:pt x="8806" y="13791"/>
                </a:cubicBezTo>
                <a:cubicBezTo>
                  <a:pt x="8941" y="13629"/>
                  <a:pt x="9092" y="13601"/>
                  <a:pt x="9302" y="13692"/>
                </a:cubicBezTo>
                <a:cubicBezTo>
                  <a:pt x="9361" y="13732"/>
                  <a:pt x="9373" y="13736"/>
                  <a:pt x="9401" y="13767"/>
                </a:cubicBezTo>
              </a:path>
              <a:path w="3697" h="2085">
                <a:moveTo>
                  <a:pt x="9723" y="13097"/>
                </a:moveTo>
                <a:cubicBezTo>
                  <a:pt x="9802" y="13086"/>
                  <a:pt x="9981" y="13028"/>
                  <a:pt x="10021" y="13146"/>
                </a:cubicBezTo>
                <a:cubicBezTo>
                  <a:pt x="10081" y="13320"/>
                  <a:pt x="9906" y="13407"/>
                  <a:pt x="9773" y="13444"/>
                </a:cubicBezTo>
                <a:cubicBezTo>
                  <a:pt x="9745" y="13444"/>
                  <a:pt x="9739" y="13442"/>
                  <a:pt x="9773" y="13419"/>
                </a:cubicBezTo>
                <a:cubicBezTo>
                  <a:pt x="9907" y="13435"/>
                  <a:pt x="10236" y="13464"/>
                  <a:pt x="10046" y="13692"/>
                </a:cubicBezTo>
                <a:cubicBezTo>
                  <a:pt x="9914" y="13850"/>
                  <a:pt x="9689" y="13875"/>
                  <a:pt x="9525" y="13816"/>
                </a:cubicBezTo>
              </a:path>
              <a:path w="3697" h="2085">
                <a:moveTo>
                  <a:pt x="8830" y="14263"/>
                </a:moveTo>
                <a:cubicBezTo>
                  <a:pt x="9108" y="14190"/>
                  <a:pt x="9407" y="14172"/>
                  <a:pt x="9699" y="14139"/>
                </a:cubicBezTo>
                <a:cubicBezTo>
                  <a:pt x="9881" y="14119"/>
                  <a:pt x="9939" y="14107"/>
                  <a:pt x="10096" y="14163"/>
                </a:cubicBezTo>
              </a:path>
              <a:path w="3697" h="2085">
                <a:moveTo>
                  <a:pt x="9525" y="14412"/>
                </a:moveTo>
                <a:cubicBezTo>
                  <a:pt x="9525" y="14387"/>
                  <a:pt x="9525" y="14362"/>
                  <a:pt x="9525" y="14337"/>
                </a:cubicBezTo>
                <a:cubicBezTo>
                  <a:pt x="9500" y="14371"/>
                  <a:pt x="9469" y="14421"/>
                  <a:pt x="9451" y="14461"/>
                </a:cubicBezTo>
                <a:cubicBezTo>
                  <a:pt x="9408" y="14557"/>
                  <a:pt x="9421" y="14638"/>
                  <a:pt x="9401" y="14734"/>
                </a:cubicBezTo>
                <a:cubicBezTo>
                  <a:pt x="9386" y="14807"/>
                  <a:pt x="9356" y="14885"/>
                  <a:pt x="9351" y="14957"/>
                </a:cubicBezTo>
                <a:cubicBezTo>
                  <a:pt x="9344" y="15062"/>
                  <a:pt x="9408" y="15078"/>
                  <a:pt x="9500" y="15081"/>
                </a:cubicBezTo>
                <a:cubicBezTo>
                  <a:pt x="9637" y="15086"/>
                  <a:pt x="9689" y="15037"/>
                  <a:pt x="9798" y="14982"/>
                </a:cubicBezTo>
                <a:cubicBezTo>
                  <a:pt x="9858" y="14952"/>
                  <a:pt x="9907" y="14926"/>
                  <a:pt x="9947" y="14858"/>
                </a:cubicBezTo>
                <a:cubicBezTo>
                  <a:pt x="9962" y="14833"/>
                  <a:pt x="9941" y="14747"/>
                  <a:pt x="9922" y="14734"/>
                </a:cubicBezTo>
                <a:cubicBezTo>
                  <a:pt x="9865" y="14696"/>
                  <a:pt x="9754" y="14694"/>
                  <a:pt x="9699" y="14734"/>
                </a:cubicBezTo>
                <a:cubicBezTo>
                  <a:pt x="9589" y="14814"/>
                  <a:pt x="9590" y="14864"/>
                  <a:pt x="9599" y="14982"/>
                </a:cubicBezTo>
                <a:cubicBezTo>
                  <a:pt x="9604" y="15056"/>
                  <a:pt x="9614" y="15064"/>
                  <a:pt x="9624" y="15131"/>
                </a:cubicBezTo>
              </a:path>
              <a:path w="3697" h="2085">
                <a:moveTo>
                  <a:pt x="10815" y="14114"/>
                </a:moveTo>
                <a:cubicBezTo>
                  <a:pt x="10924" y="14114"/>
                  <a:pt x="11027" y="14136"/>
                  <a:pt x="11137" y="14139"/>
                </a:cubicBezTo>
                <a:cubicBezTo>
                  <a:pt x="11203" y="14141"/>
                  <a:pt x="11248" y="14163"/>
                  <a:pt x="11311" y="14163"/>
                </a:cubicBezTo>
              </a:path>
              <a:path w="3697" h="2085">
                <a:moveTo>
                  <a:pt x="11112" y="13891"/>
                </a:moveTo>
                <a:cubicBezTo>
                  <a:pt x="11112" y="13899"/>
                  <a:pt x="11112" y="13907"/>
                  <a:pt x="11112" y="13915"/>
                </a:cubicBezTo>
              </a:path>
              <a:path w="3697" h="2085">
                <a:moveTo>
                  <a:pt x="11162" y="14536"/>
                </a:moveTo>
                <a:cubicBezTo>
                  <a:pt x="11170" y="14536"/>
                  <a:pt x="11179" y="14536"/>
                  <a:pt x="11187" y="14536"/>
                </a:cubicBezTo>
              </a:path>
              <a:path w="3697" h="2085">
                <a:moveTo>
                  <a:pt x="12328" y="13444"/>
                </a:moveTo>
                <a:cubicBezTo>
                  <a:pt x="12308" y="13326"/>
                  <a:pt x="12258" y="13165"/>
                  <a:pt x="12129" y="13122"/>
                </a:cubicBezTo>
                <a:cubicBezTo>
                  <a:pt x="11924" y="13054"/>
                  <a:pt x="11663" y="13352"/>
                  <a:pt x="11782" y="13543"/>
                </a:cubicBezTo>
                <a:cubicBezTo>
                  <a:pt x="11924" y="13771"/>
                  <a:pt x="12122" y="13408"/>
                  <a:pt x="12154" y="13320"/>
                </a:cubicBezTo>
                <a:cubicBezTo>
                  <a:pt x="12162" y="13295"/>
                  <a:pt x="12171" y="13271"/>
                  <a:pt x="12179" y="13246"/>
                </a:cubicBezTo>
                <a:cubicBezTo>
                  <a:pt x="12179" y="13410"/>
                  <a:pt x="12241" y="13553"/>
                  <a:pt x="12254" y="13717"/>
                </a:cubicBezTo>
                <a:cubicBezTo>
                  <a:pt x="12262" y="13822"/>
                  <a:pt x="12254" y="13933"/>
                  <a:pt x="12254" y="14039"/>
                </a:cubicBezTo>
              </a:path>
              <a:path w="3697" h="2085">
                <a:moveTo>
                  <a:pt x="11633" y="14238"/>
                </a:moveTo>
                <a:cubicBezTo>
                  <a:pt x="11875" y="14157"/>
                  <a:pt x="12102" y="14104"/>
                  <a:pt x="12353" y="14064"/>
                </a:cubicBezTo>
                <a:cubicBezTo>
                  <a:pt x="12403" y="14056"/>
                  <a:pt x="12452" y="14047"/>
                  <a:pt x="12502" y="14039"/>
                </a:cubicBezTo>
              </a:path>
              <a:path w="3697" h="2085">
                <a:moveTo>
                  <a:pt x="12055" y="14511"/>
                </a:moveTo>
                <a:cubicBezTo>
                  <a:pt x="12008" y="14582"/>
                  <a:pt x="11910" y="14696"/>
                  <a:pt x="11906" y="14784"/>
                </a:cubicBezTo>
                <a:cubicBezTo>
                  <a:pt x="11914" y="14800"/>
                  <a:pt x="11923" y="14817"/>
                  <a:pt x="11931" y="14833"/>
                </a:cubicBezTo>
                <a:cubicBezTo>
                  <a:pt x="12104" y="14802"/>
                  <a:pt x="12327" y="14810"/>
                  <a:pt x="12477" y="14709"/>
                </a:cubicBezTo>
                <a:cubicBezTo>
                  <a:pt x="12477" y="14668"/>
                  <a:pt x="12477" y="14643"/>
                  <a:pt x="12477" y="14610"/>
                </a:cubicBezTo>
              </a:path>
              <a:path w="3697" h="2085">
                <a:moveTo>
                  <a:pt x="12378" y="14511"/>
                </a:moveTo>
                <a:cubicBezTo>
                  <a:pt x="12298" y="14669"/>
                  <a:pt x="12226" y="14852"/>
                  <a:pt x="12204" y="15032"/>
                </a:cubicBezTo>
                <a:cubicBezTo>
                  <a:pt x="12204" y="15106"/>
                  <a:pt x="12204" y="15115"/>
                  <a:pt x="12204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48120" y="4384800"/>
            <a:ext cx="3768840" cy="1170000"/>
          </a:xfrm>
          <a:custGeom>
            <a:avLst/>
            <a:gdLst/>
            <a:ahLst/>
            <a:rect l="l" t="t" r="r" b="b"/>
            <a:pathLst>
              <a:path w="10469" h="3251">
                <a:moveTo>
                  <a:pt x="15404" y="13370"/>
                </a:moveTo>
                <a:cubicBezTo>
                  <a:pt x="15395" y="13407"/>
                  <a:pt x="15374" y="13459"/>
                  <a:pt x="15354" y="13419"/>
                </a:cubicBezTo>
                <a:cubicBezTo>
                  <a:pt x="15388" y="13386"/>
                  <a:pt x="15421" y="13324"/>
                  <a:pt x="15453" y="13320"/>
                </a:cubicBezTo>
                <a:cubicBezTo>
                  <a:pt x="15542" y="13309"/>
                  <a:pt x="15597" y="13416"/>
                  <a:pt x="15602" y="13494"/>
                </a:cubicBezTo>
                <a:cubicBezTo>
                  <a:pt x="15617" y="13717"/>
                  <a:pt x="15366" y="13858"/>
                  <a:pt x="15180" y="13866"/>
                </a:cubicBezTo>
                <a:cubicBezTo>
                  <a:pt x="15091" y="13844"/>
                  <a:pt x="15066" y="13843"/>
                  <a:pt x="15032" y="13791"/>
                </a:cubicBezTo>
                <a:cubicBezTo>
                  <a:pt x="15220" y="13742"/>
                  <a:pt x="15363" y="13753"/>
                  <a:pt x="15553" y="13767"/>
                </a:cubicBezTo>
                <a:cubicBezTo>
                  <a:pt x="15645" y="13767"/>
                  <a:pt x="15671" y="13769"/>
                  <a:pt x="15726" y="13742"/>
                </a:cubicBezTo>
              </a:path>
              <a:path w="10469" h="3251">
                <a:moveTo>
                  <a:pt x="15900" y="13221"/>
                </a:moveTo>
                <a:cubicBezTo>
                  <a:pt x="15979" y="13168"/>
                  <a:pt x="16074" y="13091"/>
                  <a:pt x="16173" y="13146"/>
                </a:cubicBezTo>
                <a:cubicBezTo>
                  <a:pt x="16316" y="13225"/>
                  <a:pt x="16042" y="13389"/>
                  <a:pt x="15999" y="13419"/>
                </a:cubicBezTo>
                <a:cubicBezTo>
                  <a:pt x="16065" y="13387"/>
                  <a:pt x="16289" y="13366"/>
                  <a:pt x="16321" y="13469"/>
                </a:cubicBezTo>
                <a:cubicBezTo>
                  <a:pt x="16363" y="13601"/>
                  <a:pt x="16166" y="13751"/>
                  <a:pt x="16049" y="13717"/>
                </a:cubicBezTo>
                <a:cubicBezTo>
                  <a:pt x="15977" y="13669"/>
                  <a:pt x="15954" y="13656"/>
                  <a:pt x="15949" y="13593"/>
                </a:cubicBezTo>
              </a:path>
              <a:path w="10469" h="3251">
                <a:moveTo>
                  <a:pt x="15230" y="14188"/>
                </a:moveTo>
                <a:cubicBezTo>
                  <a:pt x="15561" y="14150"/>
                  <a:pt x="15889" y="14124"/>
                  <a:pt x="16222" y="14114"/>
                </a:cubicBezTo>
                <a:cubicBezTo>
                  <a:pt x="16239" y="14114"/>
                  <a:pt x="16255" y="14114"/>
                  <a:pt x="16272" y="14114"/>
                </a:cubicBezTo>
              </a:path>
              <a:path w="10469" h="3251">
                <a:moveTo>
                  <a:pt x="15602" y="14412"/>
                </a:moveTo>
                <a:cubicBezTo>
                  <a:pt x="15579" y="14548"/>
                  <a:pt x="15498" y="14640"/>
                  <a:pt x="15478" y="14784"/>
                </a:cubicBezTo>
                <a:cubicBezTo>
                  <a:pt x="15446" y="15011"/>
                  <a:pt x="15664" y="14995"/>
                  <a:pt x="15825" y="14957"/>
                </a:cubicBezTo>
                <a:cubicBezTo>
                  <a:pt x="15971" y="14923"/>
                  <a:pt x="15994" y="14879"/>
                  <a:pt x="16024" y="14759"/>
                </a:cubicBezTo>
                <a:cubicBezTo>
                  <a:pt x="15902" y="14750"/>
                  <a:pt x="15791" y="14767"/>
                  <a:pt x="15751" y="14908"/>
                </a:cubicBezTo>
                <a:cubicBezTo>
                  <a:pt x="15751" y="14952"/>
                  <a:pt x="15748" y="14966"/>
                  <a:pt x="15776" y="14982"/>
                </a:cubicBezTo>
              </a:path>
              <a:path w="10469" h="3251">
                <a:moveTo>
                  <a:pt x="16842" y="13990"/>
                </a:moveTo>
                <a:cubicBezTo>
                  <a:pt x="16933" y="14183"/>
                  <a:pt x="17046" y="14327"/>
                  <a:pt x="17214" y="14461"/>
                </a:cubicBezTo>
                <a:cubicBezTo>
                  <a:pt x="17239" y="14478"/>
                  <a:pt x="17264" y="14494"/>
                  <a:pt x="17289" y="14511"/>
                </a:cubicBezTo>
              </a:path>
              <a:path w="10469" h="3251">
                <a:moveTo>
                  <a:pt x="17239" y="13915"/>
                </a:moveTo>
                <a:cubicBezTo>
                  <a:pt x="17146" y="14102"/>
                  <a:pt x="17041" y="14294"/>
                  <a:pt x="16966" y="14486"/>
                </a:cubicBezTo>
                <a:cubicBezTo>
                  <a:pt x="16948" y="14560"/>
                  <a:pt x="16940" y="14567"/>
                  <a:pt x="16942" y="14610"/>
                </a:cubicBezTo>
              </a:path>
              <a:path w="10469" h="3251">
                <a:moveTo>
                  <a:pt x="17835" y="13295"/>
                </a:moveTo>
                <a:cubicBezTo>
                  <a:pt x="17821" y="13382"/>
                  <a:pt x="17765" y="13477"/>
                  <a:pt x="17785" y="13568"/>
                </a:cubicBezTo>
                <a:cubicBezTo>
                  <a:pt x="17815" y="13702"/>
                  <a:pt x="18128" y="13565"/>
                  <a:pt x="18182" y="13543"/>
                </a:cubicBezTo>
                <a:cubicBezTo>
                  <a:pt x="18198" y="13535"/>
                  <a:pt x="18215" y="13527"/>
                  <a:pt x="18231" y="13519"/>
                </a:cubicBezTo>
              </a:path>
              <a:path w="10469" h="3251">
                <a:moveTo>
                  <a:pt x="18132" y="13097"/>
                </a:moveTo>
                <a:cubicBezTo>
                  <a:pt x="18100" y="13378"/>
                  <a:pt x="18099" y="13635"/>
                  <a:pt x="18107" y="13915"/>
                </a:cubicBezTo>
                <a:cubicBezTo>
                  <a:pt x="18107" y="13932"/>
                  <a:pt x="18107" y="13948"/>
                  <a:pt x="18107" y="13965"/>
                </a:cubicBezTo>
              </a:path>
              <a:path w="10469" h="3251">
                <a:moveTo>
                  <a:pt x="17760" y="14064"/>
                </a:moveTo>
                <a:cubicBezTo>
                  <a:pt x="17954" y="13999"/>
                  <a:pt x="18224" y="13924"/>
                  <a:pt x="18430" y="13915"/>
                </a:cubicBezTo>
                <a:cubicBezTo>
                  <a:pt x="18455" y="13923"/>
                  <a:pt x="18479" y="13932"/>
                  <a:pt x="18504" y="13940"/>
                </a:cubicBezTo>
              </a:path>
              <a:path w="10469" h="3251">
                <a:moveTo>
                  <a:pt x="18182" y="14486"/>
                </a:moveTo>
                <a:cubicBezTo>
                  <a:pt x="18168" y="14418"/>
                  <a:pt x="18097" y="14337"/>
                  <a:pt x="18008" y="14362"/>
                </a:cubicBezTo>
                <a:cubicBezTo>
                  <a:pt x="17857" y="14404"/>
                  <a:pt x="17794" y="14517"/>
                  <a:pt x="17735" y="14635"/>
                </a:cubicBezTo>
                <a:cubicBezTo>
                  <a:pt x="17873" y="14703"/>
                  <a:pt x="18018" y="14607"/>
                  <a:pt x="18107" y="14461"/>
                </a:cubicBezTo>
                <a:cubicBezTo>
                  <a:pt x="18128" y="14379"/>
                  <a:pt x="18136" y="14328"/>
                  <a:pt x="18132" y="14412"/>
                </a:cubicBezTo>
                <a:cubicBezTo>
                  <a:pt x="18091" y="14599"/>
                  <a:pt x="18052" y="14791"/>
                  <a:pt x="18033" y="14982"/>
                </a:cubicBezTo>
                <a:cubicBezTo>
                  <a:pt x="18033" y="15007"/>
                  <a:pt x="18033" y="15031"/>
                  <a:pt x="18033" y="15056"/>
                </a:cubicBezTo>
              </a:path>
              <a:path w="10469" h="3251">
                <a:moveTo>
                  <a:pt x="13494" y="14089"/>
                </a:moveTo>
                <a:cubicBezTo>
                  <a:pt x="13487" y="14060"/>
                  <a:pt x="13477" y="14044"/>
                  <a:pt x="13469" y="14015"/>
                </a:cubicBezTo>
                <a:cubicBezTo>
                  <a:pt x="13597" y="14015"/>
                  <a:pt x="13740" y="14007"/>
                  <a:pt x="13866" y="13990"/>
                </a:cubicBezTo>
                <a:cubicBezTo>
                  <a:pt x="13983" y="13974"/>
                  <a:pt x="14010" y="13943"/>
                  <a:pt x="13940" y="14039"/>
                </a:cubicBezTo>
              </a:path>
              <a:path w="10469" h="3251">
                <a:moveTo>
                  <a:pt x="13543" y="14436"/>
                </a:moveTo>
                <a:cubicBezTo>
                  <a:pt x="13705" y="14390"/>
                  <a:pt x="13948" y="14263"/>
                  <a:pt x="14114" y="14263"/>
                </a:cubicBezTo>
                <a:cubicBezTo>
                  <a:pt x="14114" y="14298"/>
                  <a:pt x="14105" y="14311"/>
                  <a:pt x="14064" y="14312"/>
                </a:cubicBezTo>
              </a:path>
              <a:path w="10469" h="3251">
                <a:moveTo>
                  <a:pt x="18579" y="12998"/>
                </a:moveTo>
                <a:cubicBezTo>
                  <a:pt x="18525" y="13027"/>
                  <a:pt x="18494" y="13025"/>
                  <a:pt x="18455" y="13072"/>
                </a:cubicBezTo>
                <a:cubicBezTo>
                  <a:pt x="18240" y="13329"/>
                  <a:pt x="18071" y="13572"/>
                  <a:pt x="17810" y="13791"/>
                </a:cubicBezTo>
                <a:cubicBezTo>
                  <a:pt x="17502" y="14050"/>
                  <a:pt x="17207" y="14283"/>
                  <a:pt x="16917" y="14560"/>
                </a:cubicBezTo>
                <a:cubicBezTo>
                  <a:pt x="16758" y="14712"/>
                  <a:pt x="16591" y="14848"/>
                  <a:pt x="16446" y="15007"/>
                </a:cubicBezTo>
                <a:cubicBezTo>
                  <a:pt x="16446" y="15032"/>
                  <a:pt x="16446" y="15040"/>
                  <a:pt x="16446" y="15007"/>
                </a:cubicBezTo>
              </a:path>
              <a:path w="10469" h="3251">
                <a:moveTo>
                  <a:pt x="18380" y="12254"/>
                </a:moveTo>
                <a:cubicBezTo>
                  <a:pt x="18326" y="12236"/>
                  <a:pt x="18368" y="12232"/>
                  <a:pt x="18331" y="12278"/>
                </a:cubicBezTo>
                <a:cubicBezTo>
                  <a:pt x="18314" y="12295"/>
                  <a:pt x="18298" y="12311"/>
                  <a:pt x="18281" y="12328"/>
                </a:cubicBezTo>
                <a:cubicBezTo>
                  <a:pt x="18288" y="12254"/>
                  <a:pt x="18292" y="12197"/>
                  <a:pt x="18380" y="12179"/>
                </a:cubicBezTo>
                <a:cubicBezTo>
                  <a:pt x="18405" y="12179"/>
                  <a:pt x="18413" y="12179"/>
                  <a:pt x="18405" y="12204"/>
                </a:cubicBezTo>
                <a:cubicBezTo>
                  <a:pt x="18482" y="12395"/>
                  <a:pt x="18459" y="12539"/>
                  <a:pt x="18306" y="12700"/>
                </a:cubicBezTo>
                <a:cubicBezTo>
                  <a:pt x="18194" y="12817"/>
                  <a:pt x="18064" y="12873"/>
                  <a:pt x="17959" y="12750"/>
                </a:cubicBezTo>
                <a:cubicBezTo>
                  <a:pt x="18061" y="12647"/>
                  <a:pt x="18180" y="12646"/>
                  <a:pt x="18331" y="12675"/>
                </a:cubicBezTo>
                <a:cubicBezTo>
                  <a:pt x="18382" y="12685"/>
                  <a:pt x="18447" y="12729"/>
                  <a:pt x="18405" y="12750"/>
                </a:cubicBezTo>
              </a:path>
              <a:path w="10469" h="3251">
                <a:moveTo>
                  <a:pt x="16371" y="14188"/>
                </a:moveTo>
                <a:cubicBezTo>
                  <a:pt x="16495" y="14064"/>
                  <a:pt x="16256" y="14446"/>
                  <a:pt x="16148" y="14585"/>
                </a:cubicBezTo>
                <a:cubicBezTo>
                  <a:pt x="15970" y="14815"/>
                  <a:pt x="15745" y="14971"/>
                  <a:pt x="15528" y="15156"/>
                </a:cubicBezTo>
                <a:cubicBezTo>
                  <a:pt x="15488" y="15190"/>
                  <a:pt x="15550" y="15134"/>
                  <a:pt x="15553" y="15131"/>
                </a:cubicBezTo>
              </a:path>
              <a:path w="10469" h="3251">
                <a:moveTo>
                  <a:pt x="14709" y="14734"/>
                </a:moveTo>
                <a:cubicBezTo>
                  <a:pt x="14709" y="14721"/>
                  <a:pt x="14805" y="14675"/>
                  <a:pt x="14858" y="14759"/>
                </a:cubicBezTo>
                <a:cubicBezTo>
                  <a:pt x="14915" y="14850"/>
                  <a:pt x="14894" y="14949"/>
                  <a:pt x="14808" y="15007"/>
                </a:cubicBezTo>
                <a:cubicBezTo>
                  <a:pt x="14792" y="15015"/>
                  <a:pt x="14775" y="15024"/>
                  <a:pt x="14759" y="15032"/>
                </a:cubicBezTo>
                <a:cubicBezTo>
                  <a:pt x="14791" y="14935"/>
                  <a:pt x="14869" y="14860"/>
                  <a:pt x="14982" y="14932"/>
                </a:cubicBezTo>
                <a:cubicBezTo>
                  <a:pt x="15149" y="15038"/>
                  <a:pt x="15095" y="15252"/>
                  <a:pt x="14982" y="15379"/>
                </a:cubicBezTo>
                <a:cubicBezTo>
                  <a:pt x="14939" y="15427"/>
                  <a:pt x="14806" y="15461"/>
                  <a:pt x="14759" y="15404"/>
                </a:cubicBezTo>
                <a:cubicBezTo>
                  <a:pt x="14759" y="15376"/>
                  <a:pt x="14757" y="15370"/>
                  <a:pt x="14734" y="15404"/>
                </a:cubicBezTo>
              </a:path>
              <a:path w="10469" h="3251">
                <a:moveTo>
                  <a:pt x="18926" y="14015"/>
                </a:moveTo>
                <a:cubicBezTo>
                  <a:pt x="18976" y="13948"/>
                  <a:pt x="19108" y="13920"/>
                  <a:pt x="19199" y="13891"/>
                </a:cubicBezTo>
                <a:cubicBezTo>
                  <a:pt x="19256" y="13872"/>
                  <a:pt x="19281" y="13846"/>
                  <a:pt x="19273" y="13891"/>
                </a:cubicBezTo>
              </a:path>
              <a:path w="10469" h="3251">
                <a:moveTo>
                  <a:pt x="18976" y="14163"/>
                </a:moveTo>
                <a:cubicBezTo>
                  <a:pt x="19066" y="14137"/>
                  <a:pt x="19141" y="14085"/>
                  <a:pt x="19224" y="14039"/>
                </a:cubicBezTo>
              </a:path>
              <a:path w="10469" h="3251">
                <a:moveTo>
                  <a:pt x="20117" y="13196"/>
                </a:moveTo>
                <a:cubicBezTo>
                  <a:pt x="20145" y="13167"/>
                  <a:pt x="20157" y="13157"/>
                  <a:pt x="20166" y="13122"/>
                </a:cubicBezTo>
                <a:cubicBezTo>
                  <a:pt x="20136" y="13211"/>
                  <a:pt x="20082" y="13297"/>
                  <a:pt x="20042" y="13395"/>
                </a:cubicBezTo>
                <a:cubicBezTo>
                  <a:pt x="20166" y="13405"/>
                  <a:pt x="20358" y="13345"/>
                  <a:pt x="20489" y="13295"/>
                </a:cubicBezTo>
                <a:cubicBezTo>
                  <a:pt x="20513" y="13286"/>
                  <a:pt x="20556" y="13233"/>
                  <a:pt x="20513" y="13295"/>
                </a:cubicBezTo>
              </a:path>
              <a:path w="10469" h="3251">
                <a:moveTo>
                  <a:pt x="20489" y="12948"/>
                </a:moveTo>
                <a:cubicBezTo>
                  <a:pt x="20436" y="13147"/>
                  <a:pt x="20401" y="13341"/>
                  <a:pt x="20365" y="13543"/>
                </a:cubicBezTo>
                <a:cubicBezTo>
                  <a:pt x="20345" y="13644"/>
                  <a:pt x="20347" y="13664"/>
                  <a:pt x="20315" y="13717"/>
                </a:cubicBezTo>
              </a:path>
              <a:path w="10469" h="3251">
                <a:moveTo>
                  <a:pt x="20737" y="13047"/>
                </a:moveTo>
                <a:cubicBezTo>
                  <a:pt x="20713" y="13191"/>
                  <a:pt x="20654" y="13319"/>
                  <a:pt x="20638" y="13469"/>
                </a:cubicBezTo>
                <a:cubicBezTo>
                  <a:pt x="20638" y="13561"/>
                  <a:pt x="20636" y="13588"/>
                  <a:pt x="20662" y="13643"/>
                </a:cubicBezTo>
                <a:cubicBezTo>
                  <a:pt x="20762" y="13662"/>
                  <a:pt x="20898" y="13649"/>
                  <a:pt x="20935" y="13519"/>
                </a:cubicBezTo>
                <a:cubicBezTo>
                  <a:pt x="20935" y="13486"/>
                  <a:pt x="20935" y="13452"/>
                  <a:pt x="20935" y="13419"/>
                </a:cubicBezTo>
                <a:cubicBezTo>
                  <a:pt x="20832" y="13438"/>
                  <a:pt x="20717" y="13510"/>
                  <a:pt x="20712" y="13643"/>
                </a:cubicBezTo>
                <a:cubicBezTo>
                  <a:pt x="20720" y="13668"/>
                  <a:pt x="20729" y="13692"/>
                  <a:pt x="20737" y="13717"/>
                </a:cubicBezTo>
              </a:path>
              <a:path w="10469" h="3251">
                <a:moveTo>
                  <a:pt x="20042" y="13990"/>
                </a:moveTo>
                <a:cubicBezTo>
                  <a:pt x="20241" y="13990"/>
                  <a:pt x="20417" y="13913"/>
                  <a:pt x="20613" y="13891"/>
                </a:cubicBezTo>
                <a:cubicBezTo>
                  <a:pt x="20645" y="13887"/>
                  <a:pt x="20892" y="13861"/>
                  <a:pt x="20910" y="13915"/>
                </a:cubicBezTo>
              </a:path>
              <a:path w="10469" h="3251">
                <a:moveTo>
                  <a:pt x="20042" y="14337"/>
                </a:moveTo>
                <a:cubicBezTo>
                  <a:pt x="19968" y="14382"/>
                  <a:pt x="19932" y="14488"/>
                  <a:pt x="19869" y="14560"/>
                </a:cubicBezTo>
                <a:cubicBezTo>
                  <a:pt x="19861" y="14568"/>
                  <a:pt x="19852" y="14577"/>
                  <a:pt x="19844" y="14585"/>
                </a:cubicBezTo>
                <a:cubicBezTo>
                  <a:pt x="19867" y="14526"/>
                  <a:pt x="19924" y="14435"/>
                  <a:pt x="19993" y="14412"/>
                </a:cubicBezTo>
                <a:cubicBezTo>
                  <a:pt x="20009" y="14412"/>
                  <a:pt x="20026" y="14412"/>
                  <a:pt x="20042" y="14412"/>
                </a:cubicBezTo>
                <a:cubicBezTo>
                  <a:pt x="20096" y="14646"/>
                  <a:pt x="20092" y="14832"/>
                  <a:pt x="19893" y="15007"/>
                </a:cubicBezTo>
                <a:cubicBezTo>
                  <a:pt x="19796" y="15065"/>
                  <a:pt x="19787" y="15089"/>
                  <a:pt x="19720" y="15081"/>
                </a:cubicBezTo>
                <a:cubicBezTo>
                  <a:pt x="19759" y="14952"/>
                  <a:pt x="19855" y="14827"/>
                  <a:pt x="20017" y="14858"/>
                </a:cubicBezTo>
                <a:cubicBezTo>
                  <a:pt x="20112" y="14876"/>
                  <a:pt x="20097" y="15142"/>
                  <a:pt x="20141" y="15056"/>
                </a:cubicBezTo>
                <a:cubicBezTo>
                  <a:pt x="20149" y="15040"/>
                  <a:pt x="20158" y="15023"/>
                  <a:pt x="20166" y="15007"/>
                </a:cubicBezTo>
              </a:path>
              <a:path w="10469" h="3251">
                <a:moveTo>
                  <a:pt x="20365" y="14461"/>
                </a:moveTo>
                <a:cubicBezTo>
                  <a:pt x="20357" y="14486"/>
                  <a:pt x="20348" y="14511"/>
                  <a:pt x="20340" y="14536"/>
                </a:cubicBezTo>
                <a:cubicBezTo>
                  <a:pt x="20340" y="14475"/>
                  <a:pt x="20322" y="14432"/>
                  <a:pt x="20365" y="14412"/>
                </a:cubicBezTo>
                <a:cubicBezTo>
                  <a:pt x="20450" y="14372"/>
                  <a:pt x="20548" y="14330"/>
                  <a:pt x="20638" y="14312"/>
                </a:cubicBezTo>
                <a:cubicBezTo>
                  <a:pt x="20638" y="14501"/>
                  <a:pt x="20605" y="14650"/>
                  <a:pt x="20563" y="14833"/>
                </a:cubicBezTo>
                <a:cubicBezTo>
                  <a:pt x="20543" y="14932"/>
                  <a:pt x="20535" y="14948"/>
                  <a:pt x="20538" y="15007"/>
                </a:cubicBezTo>
              </a:path>
              <a:path w="10469" h="3251">
                <a:moveTo>
                  <a:pt x="21208" y="13990"/>
                </a:moveTo>
                <a:cubicBezTo>
                  <a:pt x="21296" y="13956"/>
                  <a:pt x="21366" y="13929"/>
                  <a:pt x="21456" y="13915"/>
                </a:cubicBezTo>
              </a:path>
              <a:path w="10469" h="3251">
                <a:moveTo>
                  <a:pt x="21332" y="14089"/>
                </a:moveTo>
                <a:cubicBezTo>
                  <a:pt x="21365" y="14072"/>
                  <a:pt x="21398" y="14056"/>
                  <a:pt x="21431" y="14039"/>
                </a:cubicBezTo>
              </a:path>
              <a:path w="10469" h="3251">
                <a:moveTo>
                  <a:pt x="22101" y="13320"/>
                </a:moveTo>
                <a:cubicBezTo>
                  <a:pt x="22101" y="13505"/>
                  <a:pt x="22134" y="13678"/>
                  <a:pt x="22126" y="13866"/>
                </a:cubicBezTo>
                <a:cubicBezTo>
                  <a:pt x="22117" y="14083"/>
                  <a:pt x="22101" y="14294"/>
                  <a:pt x="22101" y="14511"/>
                </a:cubicBezTo>
              </a:path>
              <a:path w="10469" h="3251">
                <a:moveTo>
                  <a:pt x="22572" y="13097"/>
                </a:moveTo>
                <a:cubicBezTo>
                  <a:pt x="22572" y="12989"/>
                  <a:pt x="22572" y="13262"/>
                  <a:pt x="22572" y="13370"/>
                </a:cubicBezTo>
                <a:cubicBezTo>
                  <a:pt x="22572" y="13444"/>
                  <a:pt x="22572" y="13519"/>
                  <a:pt x="22572" y="13593"/>
                </a:cubicBezTo>
              </a:path>
              <a:path w="10469" h="3251">
                <a:moveTo>
                  <a:pt x="23168" y="13047"/>
                </a:moveTo>
                <a:cubicBezTo>
                  <a:pt x="23168" y="12982"/>
                  <a:pt x="23142" y="12972"/>
                  <a:pt x="23093" y="12923"/>
                </a:cubicBezTo>
                <a:cubicBezTo>
                  <a:pt x="23085" y="12915"/>
                  <a:pt x="23076" y="12906"/>
                  <a:pt x="23068" y="12898"/>
                </a:cubicBezTo>
                <a:cubicBezTo>
                  <a:pt x="22951" y="12973"/>
                  <a:pt x="22908" y="13035"/>
                  <a:pt x="22920" y="13171"/>
                </a:cubicBezTo>
                <a:cubicBezTo>
                  <a:pt x="23032" y="13205"/>
                  <a:pt x="23124" y="13210"/>
                  <a:pt x="23168" y="13072"/>
                </a:cubicBezTo>
                <a:cubicBezTo>
                  <a:pt x="23199" y="12974"/>
                  <a:pt x="23131" y="13013"/>
                  <a:pt x="23143" y="13022"/>
                </a:cubicBezTo>
                <a:cubicBezTo>
                  <a:pt x="23221" y="13078"/>
                  <a:pt x="23152" y="13341"/>
                  <a:pt x="23143" y="13444"/>
                </a:cubicBezTo>
                <a:cubicBezTo>
                  <a:pt x="23143" y="13502"/>
                  <a:pt x="23143" y="13510"/>
                  <a:pt x="23143" y="13543"/>
                </a:cubicBezTo>
              </a:path>
              <a:path w="10469" h="3251">
                <a:moveTo>
                  <a:pt x="22721" y="13767"/>
                </a:moveTo>
                <a:cubicBezTo>
                  <a:pt x="22860" y="13747"/>
                  <a:pt x="23003" y="13718"/>
                  <a:pt x="23143" y="13692"/>
                </a:cubicBezTo>
                <a:cubicBezTo>
                  <a:pt x="23242" y="13672"/>
                  <a:pt x="23257" y="13664"/>
                  <a:pt x="23316" y="13667"/>
                </a:cubicBezTo>
              </a:path>
              <a:path w="10469" h="3251">
                <a:moveTo>
                  <a:pt x="22746" y="14089"/>
                </a:moveTo>
                <a:cubicBezTo>
                  <a:pt x="22829" y="14041"/>
                  <a:pt x="22873" y="14015"/>
                  <a:pt x="22969" y="14015"/>
                </a:cubicBezTo>
                <a:cubicBezTo>
                  <a:pt x="22880" y="14103"/>
                  <a:pt x="22804" y="14195"/>
                  <a:pt x="22721" y="14288"/>
                </a:cubicBezTo>
                <a:cubicBezTo>
                  <a:pt x="22674" y="14334"/>
                  <a:pt x="22660" y="14346"/>
                  <a:pt x="22647" y="14387"/>
                </a:cubicBezTo>
                <a:cubicBezTo>
                  <a:pt x="22748" y="14372"/>
                  <a:pt x="22871" y="14362"/>
                  <a:pt x="22969" y="14337"/>
                </a:cubicBezTo>
                <a:cubicBezTo>
                  <a:pt x="22986" y="14329"/>
                  <a:pt x="23002" y="14320"/>
                  <a:pt x="23019" y="14312"/>
                </a:cubicBezTo>
              </a:path>
              <a:path w="10469" h="3251">
                <a:moveTo>
                  <a:pt x="23267" y="13965"/>
                </a:moveTo>
                <a:cubicBezTo>
                  <a:pt x="23267" y="14106"/>
                  <a:pt x="23267" y="14246"/>
                  <a:pt x="23267" y="14387"/>
                </a:cubicBezTo>
              </a:path>
              <a:path w="10469" h="3251">
                <a:moveTo>
                  <a:pt x="21903" y="14932"/>
                </a:moveTo>
                <a:cubicBezTo>
                  <a:pt x="22082" y="14992"/>
                  <a:pt x="22193" y="15014"/>
                  <a:pt x="22399" y="14982"/>
                </a:cubicBezTo>
                <a:cubicBezTo>
                  <a:pt x="22680" y="14938"/>
                  <a:pt x="22975" y="14855"/>
                  <a:pt x="23242" y="14759"/>
                </a:cubicBezTo>
                <a:cubicBezTo>
                  <a:pt x="23565" y="14643"/>
                  <a:pt x="23767" y="14416"/>
                  <a:pt x="23862" y="14089"/>
                </a:cubicBezTo>
                <a:cubicBezTo>
                  <a:pt x="23899" y="13961"/>
                  <a:pt x="23925" y="13823"/>
                  <a:pt x="23937" y="13692"/>
                </a:cubicBezTo>
                <a:cubicBezTo>
                  <a:pt x="23948" y="13566"/>
                  <a:pt x="23937" y="13442"/>
                  <a:pt x="23912" y="13320"/>
                </a:cubicBezTo>
                <a:cubicBezTo>
                  <a:pt x="23889" y="13210"/>
                  <a:pt x="23903" y="13107"/>
                  <a:pt x="23887" y="12998"/>
                </a:cubicBezTo>
                <a:cubicBezTo>
                  <a:pt x="23866" y="12859"/>
                  <a:pt x="23816" y="12703"/>
                  <a:pt x="23713" y="12601"/>
                </a:cubicBezTo>
                <a:cubicBezTo>
                  <a:pt x="23617" y="12506"/>
                  <a:pt x="23477" y="12421"/>
                  <a:pt x="23341" y="12402"/>
                </a:cubicBezTo>
                <a:cubicBezTo>
                  <a:pt x="23066" y="12363"/>
                  <a:pt x="22814" y="12406"/>
                  <a:pt x="22547" y="12477"/>
                </a:cubicBezTo>
                <a:cubicBezTo>
                  <a:pt x="22180" y="12575"/>
                  <a:pt x="21860" y="12735"/>
                  <a:pt x="21704" y="13097"/>
                </a:cubicBezTo>
                <a:cubicBezTo>
                  <a:pt x="21602" y="13334"/>
                  <a:pt x="21528" y="13633"/>
                  <a:pt x="21506" y="13891"/>
                </a:cubicBezTo>
                <a:cubicBezTo>
                  <a:pt x="21488" y="14106"/>
                  <a:pt x="21547" y="14373"/>
                  <a:pt x="21654" y="14560"/>
                </a:cubicBezTo>
                <a:cubicBezTo>
                  <a:pt x="21718" y="14671"/>
                  <a:pt x="21859" y="14917"/>
                  <a:pt x="21977" y="14982"/>
                </a:cubicBezTo>
                <a:cubicBezTo>
                  <a:pt x="22103" y="15051"/>
                  <a:pt x="22215" y="15015"/>
                  <a:pt x="22349" y="15032"/>
                </a:cubicBezTo>
                <a:cubicBezTo>
                  <a:pt x="22414" y="15040"/>
                  <a:pt x="22422" y="15049"/>
                  <a:pt x="22473" y="15056"/>
                </a:cubicBezTo>
              </a:path>
              <a:path w="10469" h="3251">
                <a:moveTo>
                  <a:pt x="23416" y="14015"/>
                </a:moveTo>
                <a:cubicBezTo>
                  <a:pt x="23402" y="14054"/>
                  <a:pt x="23366" y="14039"/>
                  <a:pt x="23316" y="14039"/>
                </a:cubicBezTo>
                <a:cubicBezTo>
                  <a:pt x="23275" y="14039"/>
                  <a:pt x="23233" y="14039"/>
                  <a:pt x="23192" y="14039"/>
                </a:cubicBezTo>
                <a:cubicBezTo>
                  <a:pt x="23128" y="14039"/>
                  <a:pt x="23253" y="14046"/>
                  <a:pt x="23267" y="14039"/>
                </a:cubicBezTo>
                <a:cubicBezTo>
                  <a:pt x="23275" y="14031"/>
                  <a:pt x="23284" y="14023"/>
                  <a:pt x="23292" y="14015"/>
                </a:cubicBezTo>
                <a:cubicBezTo>
                  <a:pt x="23240" y="14028"/>
                  <a:pt x="23205" y="14039"/>
                  <a:pt x="23143" y="14039"/>
                </a:cubicBezTo>
                <a:cubicBezTo>
                  <a:pt x="23118" y="14039"/>
                  <a:pt x="23110" y="14039"/>
                  <a:pt x="23093" y="14039"/>
                </a:cubicBezTo>
                <a:cubicBezTo>
                  <a:pt x="23148" y="14039"/>
                  <a:pt x="23187" y="14019"/>
                  <a:pt x="23242" y="14015"/>
                </a:cubicBezTo>
                <a:cubicBezTo>
                  <a:pt x="23266" y="14013"/>
                  <a:pt x="23292" y="14015"/>
                  <a:pt x="23316" y="14015"/>
                </a:cubicBezTo>
                <a:cubicBezTo>
                  <a:pt x="23316" y="14111"/>
                  <a:pt x="23316" y="14221"/>
                  <a:pt x="23292" y="14312"/>
                </a:cubicBezTo>
                <a:cubicBezTo>
                  <a:pt x="23279" y="14362"/>
                  <a:pt x="23267" y="14383"/>
                  <a:pt x="23267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2920" y="5330880"/>
            <a:ext cx="187200" cy="142920"/>
          </a:xfrm>
          <a:custGeom>
            <a:avLst/>
            <a:gdLst/>
            <a:ahLst/>
            <a:rect l="l" t="t" r="r" b="b"/>
            <a:pathLst>
              <a:path w="522" h="398">
                <a:moveTo>
                  <a:pt x="3646" y="14833"/>
                </a:moveTo>
                <a:cubicBezTo>
                  <a:pt x="3646" y="14764"/>
                  <a:pt x="3642" y="14919"/>
                  <a:pt x="3646" y="14932"/>
                </a:cubicBezTo>
                <a:cubicBezTo>
                  <a:pt x="3667" y="15006"/>
                  <a:pt x="3711" y="15092"/>
                  <a:pt x="3770" y="15131"/>
                </a:cubicBezTo>
                <a:cubicBezTo>
                  <a:pt x="3860" y="15190"/>
                  <a:pt x="3966" y="15180"/>
                  <a:pt x="4068" y="15180"/>
                </a:cubicBezTo>
                <a:cubicBezTo>
                  <a:pt x="4109" y="15180"/>
                  <a:pt x="4208" y="15205"/>
                  <a:pt x="4167" y="15205"/>
                </a:cubicBezTo>
                <a:cubicBezTo>
                  <a:pt x="4159" y="15205"/>
                  <a:pt x="4150" y="15205"/>
                  <a:pt x="4142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35080" y="5348160"/>
            <a:ext cx="179640" cy="152640"/>
          </a:xfrm>
          <a:custGeom>
            <a:avLst/>
            <a:gdLst/>
            <a:ahLst/>
            <a:rect l="l" t="t" r="r" b="b"/>
            <a:pathLst>
              <a:path w="498" h="423">
                <a:moveTo>
                  <a:pt x="5655" y="14858"/>
                </a:moveTo>
                <a:cubicBezTo>
                  <a:pt x="5706" y="14892"/>
                  <a:pt x="5667" y="14984"/>
                  <a:pt x="5680" y="15056"/>
                </a:cubicBezTo>
                <a:cubicBezTo>
                  <a:pt x="5694" y="15132"/>
                  <a:pt x="5733" y="15223"/>
                  <a:pt x="5804" y="15255"/>
                </a:cubicBezTo>
                <a:cubicBezTo>
                  <a:pt x="5890" y="15294"/>
                  <a:pt x="5985" y="15280"/>
                  <a:pt x="6077" y="15280"/>
                </a:cubicBezTo>
                <a:cubicBezTo>
                  <a:pt x="6102" y="15280"/>
                  <a:pt x="6127" y="15280"/>
                  <a:pt x="6152" y="152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 Extension Unit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share your test with your families.  Go over your work and be sure you know where you made your mistake.  (No extra credit for corrections, but I am happy to help you find mistakes if you are having troubl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 Line up your problem vertically making sure that decimals are line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3200" spc="-1" strike="noStrike">
                <a:solidFill>
                  <a:srgbClr val="824a27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   6</a:t>
            </a:r>
            <a:r>
              <a:rPr b="0" lang="en-US" sz="3200" spc="-1" strike="noStrike" u="sng">
                <a:solidFill>
                  <a:srgbClr val="824a27"/>
                </a:solidFill>
                <a:uFillTx/>
                <a:latin typeface="Arial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a5080a"/>
                </a:solidFill>
                <a:uFillTx/>
                <a:latin typeface="Arial"/>
              </a:rPr>
              <a:t>0</a:t>
            </a:r>
            <a:r>
              <a:rPr b="0" lang="en-US" sz="3200" spc="-1" strike="noStrike">
                <a:solidFill>
                  <a:srgbClr val="a5080a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a5080a"/>
                </a:solidFill>
                <a:latin typeface="Arial"/>
              </a:rPr>
              <a:t>(add zeros as place holders if necess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.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 Add as you would whole numbers bringing the decimal straight down into the s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do one together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at do we do with whole number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.9 +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do 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32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67120" y="2152800"/>
            <a:ext cx="98280" cy="401400"/>
          </a:xfrm>
          <a:custGeom>
            <a:avLst/>
            <a:gdLst/>
            <a:ahLst/>
            <a:rect l="l" t="t" r="r" b="b"/>
            <a:pathLst>
              <a:path w="274" h="1117">
                <a:moveTo>
                  <a:pt x="10988" y="7094"/>
                </a:moveTo>
                <a:cubicBezTo>
                  <a:pt x="11008" y="6994"/>
                  <a:pt x="10997" y="6952"/>
                  <a:pt x="10988" y="6846"/>
                </a:cubicBezTo>
                <a:cubicBezTo>
                  <a:pt x="10987" y="6835"/>
                  <a:pt x="10990" y="6616"/>
                  <a:pt x="10939" y="6623"/>
                </a:cubicBezTo>
                <a:cubicBezTo>
                  <a:pt x="10916" y="6646"/>
                  <a:pt x="10912" y="6654"/>
                  <a:pt x="10889" y="6648"/>
                </a:cubicBezTo>
              </a:path>
              <a:path w="274" h="1117">
                <a:moveTo>
                  <a:pt x="10815" y="6201"/>
                </a:moveTo>
                <a:cubicBezTo>
                  <a:pt x="10788" y="6128"/>
                  <a:pt x="10765" y="6079"/>
                  <a:pt x="10765" y="6003"/>
                </a:cubicBezTo>
                <a:cubicBezTo>
                  <a:pt x="10697" y="5958"/>
                  <a:pt x="10738" y="6274"/>
                  <a:pt x="10740" y="6300"/>
                </a:cubicBezTo>
                <a:cubicBezTo>
                  <a:pt x="10751" y="6423"/>
                  <a:pt x="10743" y="6528"/>
                  <a:pt x="10815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57760" y="3411360"/>
            <a:ext cx="223560" cy="357480"/>
          </a:xfrm>
          <a:custGeom>
            <a:avLst/>
            <a:gdLst/>
            <a:ahLst/>
            <a:rect l="l" t="t" r="r" b="b"/>
            <a:pathLst>
              <a:path w="621" h="994">
                <a:moveTo>
                  <a:pt x="10914" y="9525"/>
                </a:moveTo>
                <a:cubicBezTo>
                  <a:pt x="10889" y="9700"/>
                  <a:pt x="10829" y="9857"/>
                  <a:pt x="10765" y="10021"/>
                </a:cubicBezTo>
                <a:cubicBezTo>
                  <a:pt x="10749" y="10062"/>
                  <a:pt x="10732" y="10104"/>
                  <a:pt x="10716" y="10145"/>
                </a:cubicBezTo>
                <a:cubicBezTo>
                  <a:pt x="10872" y="10185"/>
                  <a:pt x="11060" y="10043"/>
                  <a:pt x="11212" y="9971"/>
                </a:cubicBezTo>
                <a:cubicBezTo>
                  <a:pt x="11236" y="9960"/>
                  <a:pt x="11370" y="9922"/>
                  <a:pt x="11311" y="9922"/>
                </a:cubicBezTo>
              </a:path>
              <a:path w="621" h="994">
                <a:moveTo>
                  <a:pt x="11212" y="9475"/>
                </a:moveTo>
                <a:cubicBezTo>
                  <a:pt x="11212" y="9733"/>
                  <a:pt x="11199" y="9988"/>
                  <a:pt x="11162" y="10244"/>
                </a:cubicBezTo>
                <a:cubicBezTo>
                  <a:pt x="11149" y="10337"/>
                  <a:pt x="11148" y="10511"/>
                  <a:pt x="11162" y="10418"/>
                </a:cubicBezTo>
                <a:cubicBezTo>
                  <a:pt x="11162" y="10393"/>
                  <a:pt x="11162" y="10369"/>
                  <a:pt x="11162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6120" y="2394000"/>
            <a:ext cx="635040" cy="338040"/>
          </a:xfrm>
          <a:custGeom>
            <a:avLst/>
            <a:gdLst/>
            <a:ahLst/>
            <a:rect l="l" t="t" r="r" b="b"/>
            <a:pathLst>
              <a:path w="1762" h="943">
                <a:moveTo>
                  <a:pt x="10740" y="6772"/>
                </a:moveTo>
                <a:cubicBezTo>
                  <a:pt x="10722" y="6862"/>
                  <a:pt x="10683" y="6830"/>
                  <a:pt x="10740" y="6796"/>
                </a:cubicBezTo>
                <a:cubicBezTo>
                  <a:pt x="10941" y="6675"/>
                  <a:pt x="11193" y="6745"/>
                  <a:pt x="11212" y="7020"/>
                </a:cubicBezTo>
                <a:cubicBezTo>
                  <a:pt x="11232" y="7308"/>
                  <a:pt x="10876" y="7646"/>
                  <a:pt x="10592" y="7590"/>
                </a:cubicBezTo>
                <a:cubicBezTo>
                  <a:pt x="10567" y="7565"/>
                  <a:pt x="10542" y="7541"/>
                  <a:pt x="10517" y="7516"/>
                </a:cubicBezTo>
                <a:cubicBezTo>
                  <a:pt x="10630" y="7290"/>
                  <a:pt x="10820" y="7239"/>
                  <a:pt x="11088" y="7342"/>
                </a:cubicBezTo>
                <a:cubicBezTo>
                  <a:pt x="11163" y="7371"/>
                  <a:pt x="11292" y="7513"/>
                  <a:pt x="11212" y="7565"/>
                </a:cubicBezTo>
              </a:path>
              <a:path w="1762" h="943">
                <a:moveTo>
                  <a:pt x="11460" y="6747"/>
                </a:moveTo>
                <a:cubicBezTo>
                  <a:pt x="11496" y="6649"/>
                  <a:pt x="11620" y="6594"/>
                  <a:pt x="11733" y="6672"/>
                </a:cubicBezTo>
                <a:cubicBezTo>
                  <a:pt x="11896" y="6785"/>
                  <a:pt x="11658" y="6933"/>
                  <a:pt x="11584" y="6995"/>
                </a:cubicBezTo>
                <a:cubicBezTo>
                  <a:pt x="11576" y="7003"/>
                  <a:pt x="11567" y="7012"/>
                  <a:pt x="11559" y="7020"/>
                </a:cubicBezTo>
                <a:cubicBezTo>
                  <a:pt x="11656" y="6864"/>
                  <a:pt x="11780" y="6920"/>
                  <a:pt x="11931" y="6995"/>
                </a:cubicBezTo>
                <a:cubicBezTo>
                  <a:pt x="11895" y="7252"/>
                  <a:pt x="11810" y="7364"/>
                  <a:pt x="11534" y="7417"/>
                </a:cubicBezTo>
                <a:cubicBezTo>
                  <a:pt x="11373" y="7448"/>
                  <a:pt x="11361" y="7404"/>
                  <a:pt x="11361" y="7293"/>
                </a:cubicBezTo>
              </a:path>
              <a:path w="1762" h="943">
                <a:moveTo>
                  <a:pt x="12229" y="7268"/>
                </a:moveTo>
                <a:cubicBezTo>
                  <a:pt x="12245" y="7284"/>
                  <a:pt x="12262" y="7301"/>
                  <a:pt x="12278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347920"/>
            <a:ext cx="187560" cy="287280"/>
          </a:xfrm>
          <a:custGeom>
            <a:avLst/>
            <a:gdLst/>
            <a:ahLst/>
            <a:rect l="l" t="t" r="r" b="b"/>
            <a:pathLst>
              <a:path w="522" h="794">
                <a:moveTo>
                  <a:pt x="13370" y="6846"/>
                </a:moveTo>
                <a:cubicBezTo>
                  <a:pt x="13327" y="6760"/>
                  <a:pt x="13258" y="6571"/>
                  <a:pt x="13171" y="6524"/>
                </a:cubicBezTo>
                <a:cubicBezTo>
                  <a:pt x="13146" y="6524"/>
                  <a:pt x="13122" y="6524"/>
                  <a:pt x="13097" y="6524"/>
                </a:cubicBezTo>
                <a:cubicBezTo>
                  <a:pt x="12987" y="6669"/>
                  <a:pt x="12910" y="6793"/>
                  <a:pt x="12923" y="6970"/>
                </a:cubicBezTo>
                <a:cubicBezTo>
                  <a:pt x="13138" y="6940"/>
                  <a:pt x="13186" y="6834"/>
                  <a:pt x="13320" y="6672"/>
                </a:cubicBezTo>
                <a:cubicBezTo>
                  <a:pt x="13328" y="6664"/>
                  <a:pt x="13337" y="6656"/>
                  <a:pt x="13345" y="6648"/>
                </a:cubicBezTo>
                <a:cubicBezTo>
                  <a:pt x="13387" y="6854"/>
                  <a:pt x="13407" y="7037"/>
                  <a:pt x="13395" y="7243"/>
                </a:cubicBezTo>
                <a:cubicBezTo>
                  <a:pt x="13392" y="7297"/>
                  <a:pt x="13382" y="7305"/>
                  <a:pt x="13419" y="73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56000" y="2795760"/>
            <a:ext cx="1571760" cy="598320"/>
          </a:xfrm>
          <a:custGeom>
            <a:avLst/>
            <a:gdLst/>
            <a:ahLst/>
            <a:rect l="l" t="t" r="r" b="b"/>
            <a:pathLst>
              <a:path w="4367" h="1663">
                <a:moveTo>
                  <a:pt x="9748" y="8533"/>
                </a:moveTo>
                <a:cubicBezTo>
                  <a:pt x="9811" y="8730"/>
                  <a:pt x="9823" y="8896"/>
                  <a:pt x="9823" y="9103"/>
                </a:cubicBezTo>
                <a:cubicBezTo>
                  <a:pt x="9823" y="9128"/>
                  <a:pt x="9823" y="9153"/>
                  <a:pt x="9823" y="9178"/>
                </a:cubicBezTo>
              </a:path>
              <a:path w="4367" h="1663">
                <a:moveTo>
                  <a:pt x="9599" y="8880"/>
                </a:moveTo>
                <a:cubicBezTo>
                  <a:pt x="9829" y="8803"/>
                  <a:pt x="10055" y="8727"/>
                  <a:pt x="10294" y="8682"/>
                </a:cubicBezTo>
                <a:cubicBezTo>
                  <a:pt x="10329" y="8682"/>
                  <a:pt x="10333" y="8691"/>
                  <a:pt x="10294" y="8731"/>
                </a:cubicBezTo>
              </a:path>
              <a:path w="4367" h="1663">
                <a:moveTo>
                  <a:pt x="10889" y="8161"/>
                </a:moveTo>
                <a:cubicBezTo>
                  <a:pt x="10852" y="8050"/>
                  <a:pt x="10837" y="8318"/>
                  <a:pt x="10840" y="8434"/>
                </a:cubicBezTo>
                <a:cubicBezTo>
                  <a:pt x="10843" y="8554"/>
                  <a:pt x="10836" y="8838"/>
                  <a:pt x="10889" y="8731"/>
                </a:cubicBezTo>
              </a:path>
              <a:path w="4367" h="1663">
                <a:moveTo>
                  <a:pt x="11336" y="8086"/>
                </a:moveTo>
                <a:cubicBezTo>
                  <a:pt x="11336" y="8186"/>
                  <a:pt x="11337" y="8005"/>
                  <a:pt x="11410" y="7962"/>
                </a:cubicBezTo>
                <a:cubicBezTo>
                  <a:pt x="11496" y="7912"/>
                  <a:pt x="11660" y="7859"/>
                  <a:pt x="11757" y="7838"/>
                </a:cubicBezTo>
                <a:cubicBezTo>
                  <a:pt x="11774" y="7838"/>
                  <a:pt x="11790" y="7838"/>
                  <a:pt x="11807" y="7838"/>
                </a:cubicBezTo>
                <a:cubicBezTo>
                  <a:pt x="11877" y="7995"/>
                  <a:pt x="11866" y="8137"/>
                  <a:pt x="11832" y="8310"/>
                </a:cubicBezTo>
                <a:cubicBezTo>
                  <a:pt x="11810" y="8423"/>
                  <a:pt x="11650" y="8672"/>
                  <a:pt x="11832" y="8632"/>
                </a:cubicBezTo>
              </a:path>
              <a:path w="4367" h="1663">
                <a:moveTo>
                  <a:pt x="12303" y="8483"/>
                </a:moveTo>
                <a:cubicBezTo>
                  <a:pt x="12303" y="8511"/>
                  <a:pt x="12305" y="8522"/>
                  <a:pt x="12328" y="8533"/>
                </a:cubicBezTo>
                <a:cubicBezTo>
                  <a:pt x="12370" y="8512"/>
                  <a:pt x="12486" y="8437"/>
                  <a:pt x="12477" y="8409"/>
                </a:cubicBezTo>
                <a:cubicBezTo>
                  <a:pt x="12458" y="8354"/>
                  <a:pt x="12380" y="8473"/>
                  <a:pt x="12378" y="8483"/>
                </a:cubicBezTo>
              </a:path>
              <a:path w="4367" h="1663">
                <a:moveTo>
                  <a:pt x="12973" y="7863"/>
                </a:moveTo>
                <a:cubicBezTo>
                  <a:pt x="12856" y="7933"/>
                  <a:pt x="12841" y="8099"/>
                  <a:pt x="12849" y="8235"/>
                </a:cubicBezTo>
                <a:cubicBezTo>
                  <a:pt x="12857" y="8276"/>
                  <a:pt x="12866" y="8318"/>
                  <a:pt x="12874" y="8359"/>
                </a:cubicBezTo>
                <a:cubicBezTo>
                  <a:pt x="13116" y="8403"/>
                  <a:pt x="13325" y="8348"/>
                  <a:pt x="13444" y="8086"/>
                </a:cubicBezTo>
                <a:cubicBezTo>
                  <a:pt x="13576" y="7796"/>
                  <a:pt x="13283" y="7719"/>
                  <a:pt x="13072" y="7813"/>
                </a:cubicBezTo>
                <a:cubicBezTo>
                  <a:pt x="13039" y="7838"/>
                  <a:pt x="13006" y="7863"/>
                  <a:pt x="12973" y="7888"/>
                </a:cubicBezTo>
              </a:path>
              <a:path w="4367" h="1663">
                <a:moveTo>
                  <a:pt x="9996" y="9426"/>
                </a:moveTo>
                <a:cubicBezTo>
                  <a:pt x="10201" y="9381"/>
                  <a:pt x="10409" y="9317"/>
                  <a:pt x="10616" y="9277"/>
                </a:cubicBezTo>
                <a:cubicBezTo>
                  <a:pt x="11329" y="9139"/>
                  <a:pt x="12037" y="8975"/>
                  <a:pt x="12750" y="8830"/>
                </a:cubicBezTo>
                <a:cubicBezTo>
                  <a:pt x="13153" y="8748"/>
                  <a:pt x="13530" y="8682"/>
                  <a:pt x="13940" y="8682"/>
                </a:cubicBezTo>
                <a:cubicBezTo>
                  <a:pt x="13948" y="8682"/>
                  <a:pt x="13957" y="8682"/>
                  <a:pt x="13965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2200" y="3232080"/>
            <a:ext cx="206640" cy="393840"/>
          </a:xfrm>
          <a:custGeom>
            <a:avLst/>
            <a:gdLst/>
            <a:ahLst/>
            <a:rect l="l" t="t" r="r" b="b"/>
            <a:pathLst>
              <a:path w="572" h="1093">
                <a:moveTo>
                  <a:pt x="13667" y="9252"/>
                </a:moveTo>
                <a:lnTo>
                  <a:pt x="13667" y="9277"/>
                </a:lnTo>
                <a:lnTo>
                  <a:pt x="13692" y="9252"/>
                </a:lnTo>
                <a:lnTo>
                  <a:pt x="13692" y="9227"/>
                </a:lnTo>
                <a:lnTo>
                  <a:pt x="13717" y="9128"/>
                </a:lnTo>
                <a:lnTo>
                  <a:pt x="13667" y="9054"/>
                </a:lnTo>
                <a:lnTo>
                  <a:pt x="13593" y="8979"/>
                </a:lnTo>
                <a:lnTo>
                  <a:pt x="13444" y="8979"/>
                </a:lnTo>
                <a:lnTo>
                  <a:pt x="13295" y="9079"/>
                </a:lnTo>
                <a:lnTo>
                  <a:pt x="13196" y="9252"/>
                </a:lnTo>
                <a:lnTo>
                  <a:pt x="13146" y="9451"/>
                </a:lnTo>
                <a:lnTo>
                  <a:pt x="13221" y="9525"/>
                </a:lnTo>
                <a:lnTo>
                  <a:pt x="13370" y="9475"/>
                </a:lnTo>
                <a:lnTo>
                  <a:pt x="13494" y="9351"/>
                </a:lnTo>
                <a:lnTo>
                  <a:pt x="13568" y="9227"/>
                </a:lnTo>
                <a:lnTo>
                  <a:pt x="13568" y="9128"/>
                </a:lnTo>
                <a:lnTo>
                  <a:pt x="13543" y="9128"/>
                </a:lnTo>
                <a:lnTo>
                  <a:pt x="13543" y="9178"/>
                </a:lnTo>
                <a:lnTo>
                  <a:pt x="13543" y="9351"/>
                </a:lnTo>
                <a:lnTo>
                  <a:pt x="13543" y="9550"/>
                </a:lnTo>
                <a:lnTo>
                  <a:pt x="13543" y="9748"/>
                </a:lnTo>
                <a:lnTo>
                  <a:pt x="13543" y="9897"/>
                </a:lnTo>
                <a:lnTo>
                  <a:pt x="13519" y="9996"/>
                </a:lnTo>
                <a:lnTo>
                  <a:pt x="13519" y="10071"/>
                </a:lnTo>
                <a:lnTo>
                  <a:pt x="13519" y="100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05160" y="3384720"/>
            <a:ext cx="349200" cy="330120"/>
          </a:xfrm>
          <a:custGeom>
            <a:avLst/>
            <a:gdLst/>
            <a:ahLst/>
            <a:rect l="l" t="t" r="r" b="b"/>
            <a:pathLst>
              <a:path w="968" h="919">
                <a:moveTo>
                  <a:pt x="12576" y="10021"/>
                </a:moveTo>
                <a:cubicBezTo>
                  <a:pt x="12534" y="9993"/>
                  <a:pt x="12488" y="10075"/>
                  <a:pt x="12502" y="10145"/>
                </a:cubicBezTo>
                <a:cubicBezTo>
                  <a:pt x="12510" y="10153"/>
                  <a:pt x="12518" y="10162"/>
                  <a:pt x="12526" y="10170"/>
                </a:cubicBezTo>
                <a:cubicBezTo>
                  <a:pt x="12566" y="10160"/>
                  <a:pt x="12716" y="10084"/>
                  <a:pt x="12626" y="10046"/>
                </a:cubicBezTo>
                <a:cubicBezTo>
                  <a:pt x="12564" y="10020"/>
                  <a:pt x="12579" y="10141"/>
                  <a:pt x="12576" y="10170"/>
                </a:cubicBezTo>
              </a:path>
              <a:path w="968" h="919">
                <a:moveTo>
                  <a:pt x="11956" y="9525"/>
                </a:moveTo>
                <a:cubicBezTo>
                  <a:pt x="11799" y="9583"/>
                  <a:pt x="11743" y="9863"/>
                  <a:pt x="11708" y="10021"/>
                </a:cubicBezTo>
                <a:cubicBezTo>
                  <a:pt x="11686" y="10195"/>
                  <a:pt x="11663" y="10240"/>
                  <a:pt x="11757" y="10319"/>
                </a:cubicBezTo>
                <a:cubicBezTo>
                  <a:pt x="11986" y="10212"/>
                  <a:pt x="12144" y="10007"/>
                  <a:pt x="12080" y="9723"/>
                </a:cubicBezTo>
                <a:cubicBezTo>
                  <a:pt x="12034" y="9520"/>
                  <a:pt x="11839" y="9486"/>
                  <a:pt x="11683" y="94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29120" y="5160960"/>
            <a:ext cx="330120" cy="287280"/>
          </a:xfrm>
          <a:custGeom>
            <a:avLst/>
            <a:gdLst/>
            <a:ahLst/>
            <a:rect l="l" t="t" r="r" b="b"/>
            <a:pathLst>
              <a:path w="919" h="795">
                <a:moveTo>
                  <a:pt x="14089" y="14337"/>
                </a:moveTo>
                <a:cubicBezTo>
                  <a:pt x="14089" y="14572"/>
                  <a:pt x="14137" y="14825"/>
                  <a:pt x="14114" y="15056"/>
                </a:cubicBezTo>
                <a:cubicBezTo>
                  <a:pt x="14095" y="15114"/>
                  <a:pt x="14086" y="15157"/>
                  <a:pt x="14089" y="15106"/>
                </a:cubicBezTo>
              </a:path>
              <a:path w="919" h="795">
                <a:moveTo>
                  <a:pt x="13692" y="14759"/>
                </a:moveTo>
                <a:cubicBezTo>
                  <a:pt x="13979" y="14719"/>
                  <a:pt x="14294" y="14626"/>
                  <a:pt x="14585" y="14660"/>
                </a:cubicBezTo>
                <a:cubicBezTo>
                  <a:pt x="14623" y="14697"/>
                  <a:pt x="14616" y="14715"/>
                  <a:pt x="14536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3160" y="4697280"/>
            <a:ext cx="1554120" cy="714600"/>
          </a:xfrm>
          <a:custGeom>
            <a:avLst/>
            <a:gdLst/>
            <a:ahLst/>
            <a:rect l="l" t="t" r="r" b="b"/>
            <a:pathLst>
              <a:path w="4317" h="1986">
                <a:moveTo>
                  <a:pt x="15801" y="13196"/>
                </a:moveTo>
                <a:cubicBezTo>
                  <a:pt x="15668" y="13229"/>
                  <a:pt x="15855" y="13054"/>
                  <a:pt x="15900" y="13047"/>
                </a:cubicBezTo>
                <a:cubicBezTo>
                  <a:pt x="15941" y="13055"/>
                  <a:pt x="15983" y="13064"/>
                  <a:pt x="16024" y="13072"/>
                </a:cubicBezTo>
                <a:cubicBezTo>
                  <a:pt x="16196" y="13417"/>
                  <a:pt x="16078" y="13590"/>
                  <a:pt x="15726" y="13791"/>
                </a:cubicBezTo>
                <a:cubicBezTo>
                  <a:pt x="15482" y="13930"/>
                  <a:pt x="15396" y="13920"/>
                  <a:pt x="15230" y="13767"/>
                </a:cubicBezTo>
                <a:cubicBezTo>
                  <a:pt x="15400" y="13569"/>
                  <a:pt x="15552" y="13608"/>
                  <a:pt x="15776" y="13767"/>
                </a:cubicBezTo>
                <a:cubicBezTo>
                  <a:pt x="15870" y="13834"/>
                  <a:pt x="15871" y="13916"/>
                  <a:pt x="15925" y="13915"/>
                </a:cubicBezTo>
              </a:path>
              <a:path w="4317" h="1986">
                <a:moveTo>
                  <a:pt x="16321" y="13221"/>
                </a:moveTo>
                <a:cubicBezTo>
                  <a:pt x="16261" y="13381"/>
                  <a:pt x="16072" y="13741"/>
                  <a:pt x="16346" y="13841"/>
                </a:cubicBezTo>
                <a:cubicBezTo>
                  <a:pt x="16591" y="13931"/>
                  <a:pt x="16832" y="13680"/>
                  <a:pt x="16768" y="13444"/>
                </a:cubicBezTo>
                <a:cubicBezTo>
                  <a:pt x="16716" y="13251"/>
                  <a:pt x="16103" y="13222"/>
                  <a:pt x="16297" y="13271"/>
                </a:cubicBezTo>
                <a:cubicBezTo>
                  <a:pt x="16330" y="13263"/>
                  <a:pt x="16363" y="13254"/>
                  <a:pt x="16396" y="13246"/>
                </a:cubicBezTo>
              </a:path>
              <a:path w="4317" h="1986">
                <a:moveTo>
                  <a:pt x="17140" y="13791"/>
                </a:moveTo>
                <a:cubicBezTo>
                  <a:pt x="17140" y="13824"/>
                  <a:pt x="17148" y="13833"/>
                  <a:pt x="17190" y="13816"/>
                </a:cubicBezTo>
              </a:path>
              <a:path w="4317" h="1986">
                <a:moveTo>
                  <a:pt x="17661" y="13246"/>
                </a:moveTo>
                <a:cubicBezTo>
                  <a:pt x="17779" y="13216"/>
                  <a:pt x="17947" y="13080"/>
                  <a:pt x="18058" y="13196"/>
                </a:cubicBezTo>
                <a:cubicBezTo>
                  <a:pt x="18198" y="13342"/>
                  <a:pt x="17861" y="13442"/>
                  <a:pt x="17785" y="13469"/>
                </a:cubicBezTo>
                <a:cubicBezTo>
                  <a:pt x="17768" y="13469"/>
                  <a:pt x="17752" y="13469"/>
                  <a:pt x="17735" y="13469"/>
                </a:cubicBezTo>
                <a:cubicBezTo>
                  <a:pt x="17960" y="13469"/>
                  <a:pt x="18031" y="13493"/>
                  <a:pt x="18182" y="13643"/>
                </a:cubicBezTo>
                <a:cubicBezTo>
                  <a:pt x="18063" y="13793"/>
                  <a:pt x="17784" y="14044"/>
                  <a:pt x="17562" y="13866"/>
                </a:cubicBezTo>
                <a:cubicBezTo>
                  <a:pt x="17545" y="13816"/>
                  <a:pt x="17529" y="13767"/>
                  <a:pt x="17512" y="13717"/>
                </a:cubicBezTo>
              </a:path>
              <a:path w="4317" h="1986">
                <a:moveTo>
                  <a:pt x="18455" y="13146"/>
                </a:moveTo>
                <a:cubicBezTo>
                  <a:pt x="18594" y="13068"/>
                  <a:pt x="18760" y="13093"/>
                  <a:pt x="18876" y="13221"/>
                </a:cubicBezTo>
                <a:cubicBezTo>
                  <a:pt x="19050" y="13413"/>
                  <a:pt x="18903" y="13686"/>
                  <a:pt x="18678" y="13742"/>
                </a:cubicBezTo>
                <a:cubicBezTo>
                  <a:pt x="18525" y="13742"/>
                  <a:pt x="18486" y="13751"/>
                  <a:pt x="18405" y="13692"/>
                </a:cubicBezTo>
                <a:cubicBezTo>
                  <a:pt x="18464" y="13424"/>
                  <a:pt x="18747" y="13441"/>
                  <a:pt x="19000" y="13618"/>
                </a:cubicBezTo>
                <a:cubicBezTo>
                  <a:pt x="19137" y="13714"/>
                  <a:pt x="19125" y="13805"/>
                  <a:pt x="19075" y="13915"/>
                </a:cubicBezTo>
              </a:path>
              <a:path w="4317" h="1986">
                <a:moveTo>
                  <a:pt x="16743" y="14337"/>
                </a:moveTo>
                <a:cubicBezTo>
                  <a:pt x="16591" y="14290"/>
                  <a:pt x="16472" y="14258"/>
                  <a:pt x="16321" y="14337"/>
                </a:cubicBezTo>
                <a:cubicBezTo>
                  <a:pt x="16226" y="14409"/>
                  <a:pt x="16195" y="14430"/>
                  <a:pt x="16173" y="14511"/>
                </a:cubicBezTo>
                <a:cubicBezTo>
                  <a:pt x="16311" y="14680"/>
                  <a:pt x="16559" y="14656"/>
                  <a:pt x="16768" y="14759"/>
                </a:cubicBezTo>
                <a:cubicBezTo>
                  <a:pt x="16801" y="14784"/>
                  <a:pt x="16834" y="14808"/>
                  <a:pt x="16867" y="14833"/>
                </a:cubicBezTo>
                <a:cubicBezTo>
                  <a:pt x="16787" y="14981"/>
                  <a:pt x="16636" y="15119"/>
                  <a:pt x="16446" y="15007"/>
                </a:cubicBezTo>
                <a:cubicBezTo>
                  <a:pt x="16421" y="14974"/>
                  <a:pt x="16396" y="14941"/>
                  <a:pt x="16371" y="14908"/>
                </a:cubicBezTo>
                <a:cubicBezTo>
                  <a:pt x="16462" y="14711"/>
                  <a:pt x="16686" y="14515"/>
                  <a:pt x="16743" y="14312"/>
                </a:cubicBezTo>
                <a:cubicBezTo>
                  <a:pt x="16754" y="14272"/>
                  <a:pt x="16583" y="14232"/>
                  <a:pt x="16619" y="14312"/>
                </a:cubicBezTo>
                <a:cubicBezTo>
                  <a:pt x="16627" y="14320"/>
                  <a:pt x="16636" y="14329"/>
                  <a:pt x="16644" y="14337"/>
                </a:cubicBezTo>
              </a:path>
              <a:path w="4317" h="1986">
                <a:moveTo>
                  <a:pt x="17314" y="14858"/>
                </a:moveTo>
                <a:cubicBezTo>
                  <a:pt x="17326" y="14922"/>
                  <a:pt x="17314" y="14919"/>
                  <a:pt x="17363" y="14908"/>
                </a:cubicBezTo>
                <a:cubicBezTo>
                  <a:pt x="17391" y="14838"/>
                  <a:pt x="17327" y="14767"/>
                  <a:pt x="17239" y="14833"/>
                </a:cubicBezTo>
                <a:cubicBezTo>
                  <a:pt x="17217" y="14877"/>
                  <a:pt x="17204" y="14889"/>
                  <a:pt x="17239" y="14908"/>
                </a:cubicBezTo>
              </a:path>
              <a:path w="4317" h="1986">
                <a:moveTo>
                  <a:pt x="18182" y="14362"/>
                </a:moveTo>
                <a:cubicBezTo>
                  <a:pt x="18116" y="14296"/>
                  <a:pt x="18043" y="14576"/>
                  <a:pt x="18033" y="14635"/>
                </a:cubicBezTo>
                <a:cubicBezTo>
                  <a:pt x="18033" y="14747"/>
                  <a:pt x="18027" y="14779"/>
                  <a:pt x="18083" y="14833"/>
                </a:cubicBezTo>
                <a:cubicBezTo>
                  <a:pt x="18303" y="14806"/>
                  <a:pt x="18519" y="14748"/>
                  <a:pt x="18504" y="14461"/>
                </a:cubicBezTo>
                <a:cubicBezTo>
                  <a:pt x="18488" y="14411"/>
                  <a:pt x="18471" y="14362"/>
                  <a:pt x="18455" y="14312"/>
                </a:cubicBezTo>
                <a:cubicBezTo>
                  <a:pt x="18302" y="14331"/>
                  <a:pt x="18062" y="14345"/>
                  <a:pt x="18132" y="14511"/>
                </a:cubicBezTo>
              </a:path>
              <a:path w="4317" h="1986">
                <a:moveTo>
                  <a:pt x="18876" y="14139"/>
                </a:moveTo>
                <a:cubicBezTo>
                  <a:pt x="18784" y="14380"/>
                  <a:pt x="18681" y="14618"/>
                  <a:pt x="19000" y="14734"/>
                </a:cubicBezTo>
                <a:cubicBezTo>
                  <a:pt x="19314" y="14849"/>
                  <a:pt x="19489" y="14650"/>
                  <a:pt x="19546" y="14412"/>
                </a:cubicBezTo>
                <a:cubicBezTo>
                  <a:pt x="19305" y="14231"/>
                  <a:pt x="19276" y="14238"/>
                  <a:pt x="18976" y="142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10160" y="5786280"/>
            <a:ext cx="588960" cy="304920"/>
          </a:xfrm>
          <a:custGeom>
            <a:avLst/>
            <a:gdLst/>
            <a:ahLst/>
            <a:rect l="l" t="t" r="r" b="b"/>
            <a:pathLst>
              <a:path w="1639" h="845">
                <a:moveTo>
                  <a:pt x="15503" y="16321"/>
                </a:moveTo>
                <a:cubicBezTo>
                  <a:pt x="15472" y="16301"/>
                  <a:pt x="15437" y="16302"/>
                  <a:pt x="15553" y="16222"/>
                </a:cubicBezTo>
                <a:cubicBezTo>
                  <a:pt x="15730" y="16101"/>
                  <a:pt x="15907" y="16175"/>
                  <a:pt x="15875" y="16421"/>
                </a:cubicBezTo>
                <a:cubicBezTo>
                  <a:pt x="15849" y="16615"/>
                  <a:pt x="15602" y="16888"/>
                  <a:pt x="15404" y="16917"/>
                </a:cubicBezTo>
                <a:cubicBezTo>
                  <a:pt x="15371" y="16909"/>
                  <a:pt x="15337" y="16900"/>
                  <a:pt x="15304" y="16892"/>
                </a:cubicBezTo>
                <a:cubicBezTo>
                  <a:pt x="15360" y="16683"/>
                  <a:pt x="15462" y="16557"/>
                  <a:pt x="15701" y="16619"/>
                </a:cubicBezTo>
                <a:cubicBezTo>
                  <a:pt x="15791" y="16642"/>
                  <a:pt x="15806" y="16735"/>
                  <a:pt x="15850" y="16793"/>
                </a:cubicBezTo>
              </a:path>
              <a:path w="1639" h="845">
                <a:moveTo>
                  <a:pt x="16222" y="16123"/>
                </a:moveTo>
                <a:cubicBezTo>
                  <a:pt x="16123" y="16209"/>
                  <a:pt x="16078" y="16253"/>
                  <a:pt x="16024" y="16371"/>
                </a:cubicBezTo>
                <a:cubicBezTo>
                  <a:pt x="16106" y="16477"/>
                  <a:pt x="16341" y="16551"/>
                  <a:pt x="16396" y="16669"/>
                </a:cubicBezTo>
                <a:cubicBezTo>
                  <a:pt x="16396" y="16702"/>
                  <a:pt x="16396" y="16735"/>
                  <a:pt x="16396" y="16768"/>
                </a:cubicBezTo>
                <a:cubicBezTo>
                  <a:pt x="16297" y="16828"/>
                  <a:pt x="16113" y="16847"/>
                  <a:pt x="16148" y="16644"/>
                </a:cubicBezTo>
                <a:cubicBezTo>
                  <a:pt x="16179" y="16460"/>
                  <a:pt x="16332" y="16308"/>
                  <a:pt x="16371" y="16123"/>
                </a:cubicBezTo>
                <a:cubicBezTo>
                  <a:pt x="16385" y="16055"/>
                  <a:pt x="16357" y="16050"/>
                  <a:pt x="16346" y="16148"/>
                </a:cubicBezTo>
              </a:path>
              <a:path w="1639" h="845">
                <a:moveTo>
                  <a:pt x="16842" y="16520"/>
                </a:moveTo>
                <a:cubicBezTo>
                  <a:pt x="16842" y="16561"/>
                  <a:pt x="16842" y="16586"/>
                  <a:pt x="16842" y="16619"/>
                </a:cubicBezTo>
                <a:cubicBezTo>
                  <a:pt x="16887" y="16608"/>
                  <a:pt x="16963" y="16587"/>
                  <a:pt x="16942" y="16545"/>
                </a:cubicBezTo>
                <a:cubicBezTo>
                  <a:pt x="16934" y="16545"/>
                  <a:pt x="16925" y="16545"/>
                  <a:pt x="16917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67320" y="5705640"/>
            <a:ext cx="544680" cy="287280"/>
          </a:xfrm>
          <a:custGeom>
            <a:avLst/>
            <a:gdLst/>
            <a:ahLst/>
            <a:rect l="l" t="t" r="r" b="b"/>
            <a:pathLst>
              <a:path w="1514" h="795">
                <a:moveTo>
                  <a:pt x="17835" y="15949"/>
                </a:moveTo>
                <a:cubicBezTo>
                  <a:pt x="17954" y="15949"/>
                  <a:pt x="18001" y="15933"/>
                  <a:pt x="18107" y="15974"/>
                </a:cubicBezTo>
                <a:cubicBezTo>
                  <a:pt x="18061" y="16091"/>
                  <a:pt x="18038" y="16213"/>
                  <a:pt x="17909" y="16272"/>
                </a:cubicBezTo>
                <a:cubicBezTo>
                  <a:pt x="17892" y="16272"/>
                  <a:pt x="17876" y="16272"/>
                  <a:pt x="17859" y="16272"/>
                </a:cubicBezTo>
                <a:cubicBezTo>
                  <a:pt x="18014" y="16164"/>
                  <a:pt x="18076" y="16185"/>
                  <a:pt x="18231" y="16297"/>
                </a:cubicBezTo>
                <a:cubicBezTo>
                  <a:pt x="18193" y="16511"/>
                  <a:pt x="18077" y="16625"/>
                  <a:pt x="17835" y="16644"/>
                </a:cubicBezTo>
                <a:cubicBezTo>
                  <a:pt x="17633" y="16660"/>
                  <a:pt x="17702" y="16560"/>
                  <a:pt x="17735" y="16446"/>
                </a:cubicBezTo>
              </a:path>
              <a:path w="1514" h="795">
                <a:moveTo>
                  <a:pt x="18479" y="15900"/>
                </a:moveTo>
                <a:cubicBezTo>
                  <a:pt x="18614" y="15846"/>
                  <a:pt x="18808" y="15792"/>
                  <a:pt x="18926" y="15925"/>
                </a:cubicBezTo>
                <a:cubicBezTo>
                  <a:pt x="19096" y="16117"/>
                  <a:pt x="18974" y="16398"/>
                  <a:pt x="18777" y="16495"/>
                </a:cubicBezTo>
                <a:cubicBezTo>
                  <a:pt x="18621" y="16540"/>
                  <a:pt x="18580" y="16560"/>
                  <a:pt x="18479" y="16520"/>
                </a:cubicBezTo>
                <a:cubicBezTo>
                  <a:pt x="18560" y="16279"/>
                  <a:pt x="18736" y="16332"/>
                  <a:pt x="18976" y="16396"/>
                </a:cubicBezTo>
                <a:cubicBezTo>
                  <a:pt x="19108" y="16441"/>
                  <a:pt x="19145" y="16445"/>
                  <a:pt x="19199" y="165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5040" y="2884320"/>
            <a:ext cx="46080" cy="4464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7565" y="8037"/>
                </a:moveTo>
                <a:cubicBezTo>
                  <a:pt x="7535" y="8016"/>
                  <a:pt x="7505" y="8093"/>
                  <a:pt x="7541" y="8086"/>
                </a:cubicBezTo>
                <a:cubicBezTo>
                  <a:pt x="7568" y="8081"/>
                  <a:pt x="7530" y="8038"/>
                  <a:pt x="7516" y="8136"/>
                </a:cubicBezTo>
                <a:cubicBezTo>
                  <a:pt x="7556" y="8129"/>
                  <a:pt x="7565" y="8021"/>
                  <a:pt x="7565" y="8062"/>
                </a:cubicBezTo>
                <a:cubicBezTo>
                  <a:pt x="7565" y="8102"/>
                  <a:pt x="7544" y="8141"/>
                  <a:pt x="7565" y="8111"/>
                </a:cubicBezTo>
                <a:cubicBezTo>
                  <a:pt x="7588" y="8079"/>
                  <a:pt x="7592" y="8068"/>
                  <a:pt x="7615" y="8037"/>
                </a:cubicBezTo>
                <a:cubicBezTo>
                  <a:pt x="7580" y="8054"/>
                  <a:pt x="7523" y="8119"/>
                  <a:pt x="7590" y="8136"/>
                </a:cubicBezTo>
                <a:cubicBezTo>
                  <a:pt x="7666" y="8155"/>
                  <a:pt x="7640" y="8028"/>
                  <a:pt x="7615" y="8037"/>
                </a:cubicBezTo>
                <a:cubicBezTo>
                  <a:pt x="7615" y="8045"/>
                  <a:pt x="7615" y="8054"/>
                  <a:pt x="7615" y="80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62680" y="5456160"/>
            <a:ext cx="2189160" cy="152640"/>
          </a:xfrm>
          <a:custGeom>
            <a:avLst/>
            <a:gdLst/>
            <a:ahLst/>
            <a:rect l="l" t="t" r="r" b="b"/>
            <a:pathLst>
              <a:path w="6078" h="422">
                <a:moveTo>
                  <a:pt x="14064" y="15577"/>
                </a:moveTo>
                <a:cubicBezTo>
                  <a:pt x="14436" y="15577"/>
                  <a:pt x="14809" y="15556"/>
                  <a:pt x="15180" y="15528"/>
                </a:cubicBezTo>
                <a:cubicBezTo>
                  <a:pt x="16041" y="15463"/>
                  <a:pt x="16901" y="15373"/>
                  <a:pt x="17760" y="15304"/>
                </a:cubicBezTo>
                <a:cubicBezTo>
                  <a:pt x="18515" y="15244"/>
                  <a:pt x="19285" y="15168"/>
                  <a:pt x="20042" y="15156"/>
                </a:cubicBezTo>
                <a:cubicBezTo>
                  <a:pt x="20100" y="15156"/>
                  <a:pt x="20108" y="15156"/>
                  <a:pt x="20141" y="151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ng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the problem the same as addition, only subtrac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.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.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 toge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.8 - 4.59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member to fill in the ho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3.43 - 42.5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72200" y="1847880"/>
            <a:ext cx="669960" cy="795240"/>
          </a:xfrm>
          <a:custGeom>
            <a:avLst/>
            <a:gdLst/>
            <a:ahLst/>
            <a:rect l="l" t="t" r="r" b="b"/>
            <a:pathLst>
              <a:path w="1862" h="2208">
                <a:moveTo>
                  <a:pt x="21282" y="6821"/>
                </a:moveTo>
                <a:cubicBezTo>
                  <a:pt x="21282" y="6788"/>
                  <a:pt x="21282" y="6755"/>
                  <a:pt x="21282" y="6722"/>
                </a:cubicBezTo>
                <a:cubicBezTo>
                  <a:pt x="21197" y="6722"/>
                  <a:pt x="21165" y="6703"/>
                  <a:pt x="21109" y="6772"/>
                </a:cubicBezTo>
                <a:cubicBezTo>
                  <a:pt x="21019" y="6883"/>
                  <a:pt x="20974" y="7029"/>
                  <a:pt x="20960" y="7169"/>
                </a:cubicBezTo>
                <a:cubicBezTo>
                  <a:pt x="20950" y="7265"/>
                  <a:pt x="20993" y="7346"/>
                  <a:pt x="21109" y="7342"/>
                </a:cubicBezTo>
                <a:cubicBezTo>
                  <a:pt x="21239" y="7338"/>
                  <a:pt x="21371" y="7262"/>
                  <a:pt x="21456" y="7169"/>
                </a:cubicBezTo>
                <a:cubicBezTo>
                  <a:pt x="21518" y="7102"/>
                  <a:pt x="21535" y="6975"/>
                  <a:pt x="21481" y="6896"/>
                </a:cubicBezTo>
                <a:cubicBezTo>
                  <a:pt x="21438" y="6833"/>
                  <a:pt x="21360" y="6784"/>
                  <a:pt x="21307" y="6747"/>
                </a:cubicBezTo>
                <a:cubicBezTo>
                  <a:pt x="21253" y="6710"/>
                  <a:pt x="21226" y="6712"/>
                  <a:pt x="21183" y="6722"/>
                </a:cubicBezTo>
                <a:cubicBezTo>
                  <a:pt x="21149" y="6730"/>
                  <a:pt x="21120" y="6781"/>
                  <a:pt x="21084" y="6821"/>
                </a:cubicBezTo>
              </a:path>
              <a:path w="1862" h="2208">
                <a:moveTo>
                  <a:pt x="19794" y="6400"/>
                </a:moveTo>
                <a:cubicBezTo>
                  <a:pt x="19906" y="6399"/>
                  <a:pt x="20061" y="6728"/>
                  <a:pt x="20141" y="6846"/>
                </a:cubicBezTo>
                <a:cubicBezTo>
                  <a:pt x="20250" y="7006"/>
                  <a:pt x="20407" y="7118"/>
                  <a:pt x="20513" y="7268"/>
                </a:cubicBezTo>
                <a:cubicBezTo>
                  <a:pt x="20513" y="7293"/>
                  <a:pt x="20513" y="7301"/>
                  <a:pt x="20513" y="7268"/>
                </a:cubicBezTo>
              </a:path>
              <a:path w="1862" h="2208">
                <a:moveTo>
                  <a:pt x="19645" y="5283"/>
                </a:moveTo>
                <a:cubicBezTo>
                  <a:pt x="19755" y="5283"/>
                  <a:pt x="19840" y="5244"/>
                  <a:pt x="19943" y="5209"/>
                </a:cubicBezTo>
                <a:cubicBezTo>
                  <a:pt x="20038" y="5177"/>
                  <a:pt x="20118" y="5148"/>
                  <a:pt x="20216" y="5135"/>
                </a:cubicBezTo>
                <a:cubicBezTo>
                  <a:pt x="20237" y="5165"/>
                  <a:pt x="20175" y="5461"/>
                  <a:pt x="20166" y="5531"/>
                </a:cubicBezTo>
                <a:cubicBezTo>
                  <a:pt x="20148" y="5676"/>
                  <a:pt x="20141" y="5808"/>
                  <a:pt x="20141" y="5953"/>
                </a:cubicBezTo>
              </a:path>
              <a:path w="1862" h="2208">
                <a:moveTo>
                  <a:pt x="20960" y="6325"/>
                </a:moveTo>
                <a:cubicBezTo>
                  <a:pt x="20922" y="6312"/>
                  <a:pt x="20935" y="6296"/>
                  <a:pt x="20935" y="6251"/>
                </a:cubicBezTo>
                <a:cubicBezTo>
                  <a:pt x="20935" y="6243"/>
                  <a:pt x="20935" y="6234"/>
                  <a:pt x="20935" y="6226"/>
                </a:cubicBezTo>
                <a:cubicBezTo>
                  <a:pt x="20889" y="6332"/>
                  <a:pt x="20910" y="6475"/>
                  <a:pt x="20910" y="6598"/>
                </a:cubicBezTo>
                <a:cubicBezTo>
                  <a:pt x="20910" y="6657"/>
                  <a:pt x="20868" y="6708"/>
                  <a:pt x="20910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40320" y="2330280"/>
            <a:ext cx="1116000" cy="509760"/>
          </a:xfrm>
          <a:custGeom>
            <a:avLst/>
            <a:gdLst/>
            <a:ahLst/>
            <a:rect l="l" t="t" r="r" b="b"/>
            <a:pathLst>
              <a:path w="3102" h="1415">
                <a:moveTo>
                  <a:pt x="17909" y="7069"/>
                </a:moveTo>
                <a:cubicBezTo>
                  <a:pt x="17989" y="7031"/>
                  <a:pt x="18006" y="6987"/>
                  <a:pt x="18083" y="6945"/>
                </a:cubicBezTo>
                <a:cubicBezTo>
                  <a:pt x="18197" y="6900"/>
                  <a:pt x="18229" y="6881"/>
                  <a:pt x="18306" y="6921"/>
                </a:cubicBezTo>
                <a:cubicBezTo>
                  <a:pt x="18268" y="7098"/>
                  <a:pt x="18155" y="7247"/>
                  <a:pt x="18008" y="7367"/>
                </a:cubicBezTo>
                <a:cubicBezTo>
                  <a:pt x="18000" y="7367"/>
                  <a:pt x="17991" y="7367"/>
                  <a:pt x="17983" y="7367"/>
                </a:cubicBezTo>
                <a:cubicBezTo>
                  <a:pt x="18108" y="7377"/>
                  <a:pt x="18331" y="7351"/>
                  <a:pt x="18405" y="7491"/>
                </a:cubicBezTo>
                <a:cubicBezTo>
                  <a:pt x="18511" y="7691"/>
                  <a:pt x="18055" y="7867"/>
                  <a:pt x="17934" y="7888"/>
                </a:cubicBezTo>
                <a:cubicBezTo>
                  <a:pt x="17758" y="7918"/>
                  <a:pt x="17697" y="7881"/>
                  <a:pt x="17611" y="7764"/>
                </a:cubicBezTo>
              </a:path>
              <a:path w="3102" h="1415">
                <a:moveTo>
                  <a:pt x="19149" y="6821"/>
                </a:moveTo>
                <a:cubicBezTo>
                  <a:pt x="19010" y="6846"/>
                  <a:pt x="18870" y="6863"/>
                  <a:pt x="18728" y="6871"/>
                </a:cubicBezTo>
                <a:cubicBezTo>
                  <a:pt x="18637" y="6876"/>
                  <a:pt x="18652" y="6964"/>
                  <a:pt x="18628" y="7045"/>
                </a:cubicBezTo>
                <a:cubicBezTo>
                  <a:pt x="18607" y="7110"/>
                  <a:pt x="18599" y="7126"/>
                  <a:pt x="18604" y="7169"/>
                </a:cubicBezTo>
                <a:cubicBezTo>
                  <a:pt x="18676" y="7169"/>
                  <a:pt x="18757" y="7155"/>
                  <a:pt x="18827" y="7144"/>
                </a:cubicBezTo>
                <a:cubicBezTo>
                  <a:pt x="19001" y="7118"/>
                  <a:pt x="19160" y="7135"/>
                  <a:pt x="19124" y="7367"/>
                </a:cubicBezTo>
                <a:cubicBezTo>
                  <a:pt x="19084" y="7625"/>
                  <a:pt x="18826" y="7636"/>
                  <a:pt x="18628" y="7615"/>
                </a:cubicBezTo>
                <a:cubicBezTo>
                  <a:pt x="18578" y="7607"/>
                  <a:pt x="18529" y="7598"/>
                  <a:pt x="18479" y="7590"/>
                </a:cubicBezTo>
              </a:path>
              <a:path w="3102" h="1415">
                <a:moveTo>
                  <a:pt x="19397" y="7541"/>
                </a:moveTo>
                <a:lnTo>
                  <a:pt x="19397" y="7541"/>
                </a:lnTo>
              </a:path>
              <a:path w="3102" h="1415">
                <a:moveTo>
                  <a:pt x="20464" y="6623"/>
                </a:moveTo>
                <a:cubicBezTo>
                  <a:pt x="20220" y="6687"/>
                  <a:pt x="20100" y="6716"/>
                  <a:pt x="19993" y="6945"/>
                </a:cubicBezTo>
                <a:cubicBezTo>
                  <a:pt x="20099" y="7052"/>
                  <a:pt x="20443" y="7207"/>
                  <a:pt x="20464" y="7342"/>
                </a:cubicBezTo>
                <a:cubicBezTo>
                  <a:pt x="20456" y="7375"/>
                  <a:pt x="20447" y="7408"/>
                  <a:pt x="20439" y="7441"/>
                </a:cubicBezTo>
                <a:cubicBezTo>
                  <a:pt x="20284" y="7515"/>
                  <a:pt x="20025" y="7500"/>
                  <a:pt x="20166" y="7218"/>
                </a:cubicBezTo>
                <a:cubicBezTo>
                  <a:pt x="20294" y="6962"/>
                  <a:pt x="20602" y="6828"/>
                  <a:pt x="20712" y="6548"/>
                </a:cubicBezTo>
                <a:cubicBezTo>
                  <a:pt x="20750" y="6451"/>
                  <a:pt x="20597" y="6537"/>
                  <a:pt x="20513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72120" y="2830680"/>
            <a:ext cx="1679760" cy="420480"/>
          </a:xfrm>
          <a:custGeom>
            <a:avLst/>
            <a:gdLst/>
            <a:ahLst/>
            <a:rect l="l" t="t" r="r" b="b"/>
            <a:pathLst>
              <a:path w="4664" h="1167">
                <a:moveTo>
                  <a:pt x="16867" y="8682"/>
                </a:moveTo>
                <a:cubicBezTo>
                  <a:pt x="17000" y="8669"/>
                  <a:pt x="17130" y="8619"/>
                  <a:pt x="17264" y="8607"/>
                </a:cubicBezTo>
                <a:cubicBezTo>
                  <a:pt x="17305" y="8607"/>
                  <a:pt x="17347" y="8607"/>
                  <a:pt x="17388" y="8607"/>
                </a:cubicBezTo>
              </a:path>
              <a:path w="4664" h="1167">
                <a:moveTo>
                  <a:pt x="18653" y="8409"/>
                </a:moveTo>
                <a:cubicBezTo>
                  <a:pt x="18679" y="8344"/>
                  <a:pt x="18690" y="8350"/>
                  <a:pt x="18752" y="8334"/>
                </a:cubicBezTo>
                <a:cubicBezTo>
                  <a:pt x="18752" y="8447"/>
                  <a:pt x="18700" y="8524"/>
                  <a:pt x="18678" y="8632"/>
                </a:cubicBezTo>
                <a:cubicBezTo>
                  <a:pt x="18678" y="8649"/>
                  <a:pt x="18678" y="8665"/>
                  <a:pt x="18678" y="8682"/>
                </a:cubicBezTo>
                <a:cubicBezTo>
                  <a:pt x="18817" y="8662"/>
                  <a:pt x="18961" y="8621"/>
                  <a:pt x="19100" y="8582"/>
                </a:cubicBezTo>
                <a:cubicBezTo>
                  <a:pt x="19125" y="8574"/>
                  <a:pt x="19149" y="8566"/>
                  <a:pt x="19174" y="8558"/>
                </a:cubicBezTo>
              </a:path>
              <a:path w="4664" h="1167">
                <a:moveTo>
                  <a:pt x="19149" y="8186"/>
                </a:moveTo>
                <a:cubicBezTo>
                  <a:pt x="19106" y="8411"/>
                  <a:pt x="19136" y="8626"/>
                  <a:pt x="19149" y="8855"/>
                </a:cubicBezTo>
                <a:cubicBezTo>
                  <a:pt x="19154" y="8949"/>
                  <a:pt x="19132" y="9004"/>
                  <a:pt x="19199" y="9004"/>
                </a:cubicBezTo>
              </a:path>
              <a:path w="4664" h="1167">
                <a:moveTo>
                  <a:pt x="19621" y="8706"/>
                </a:moveTo>
                <a:cubicBezTo>
                  <a:pt x="19637" y="8706"/>
                  <a:pt x="19654" y="8706"/>
                  <a:pt x="19670" y="8706"/>
                </a:cubicBezTo>
              </a:path>
              <a:path w="4664" h="1167">
                <a:moveTo>
                  <a:pt x="20489" y="7888"/>
                </a:moveTo>
                <a:cubicBezTo>
                  <a:pt x="20394" y="7936"/>
                  <a:pt x="20247" y="7974"/>
                  <a:pt x="20166" y="8037"/>
                </a:cubicBezTo>
                <a:cubicBezTo>
                  <a:pt x="20138" y="8058"/>
                  <a:pt x="20181" y="8012"/>
                  <a:pt x="20141" y="8086"/>
                </a:cubicBezTo>
                <a:cubicBezTo>
                  <a:pt x="20101" y="8161"/>
                  <a:pt x="20085" y="8251"/>
                  <a:pt x="20067" y="8334"/>
                </a:cubicBezTo>
                <a:cubicBezTo>
                  <a:pt x="20067" y="8342"/>
                  <a:pt x="20067" y="8351"/>
                  <a:pt x="20067" y="8359"/>
                </a:cubicBezTo>
                <a:cubicBezTo>
                  <a:pt x="20211" y="8335"/>
                  <a:pt x="20338" y="8242"/>
                  <a:pt x="20489" y="8235"/>
                </a:cubicBezTo>
                <a:cubicBezTo>
                  <a:pt x="20706" y="8226"/>
                  <a:pt x="20922" y="8343"/>
                  <a:pt x="20712" y="8558"/>
                </a:cubicBezTo>
                <a:cubicBezTo>
                  <a:pt x="20508" y="8767"/>
                  <a:pt x="20293" y="8713"/>
                  <a:pt x="20092" y="8582"/>
                </a:cubicBezTo>
              </a:path>
              <a:path w="4664" h="1167">
                <a:moveTo>
                  <a:pt x="21258" y="7888"/>
                </a:moveTo>
                <a:cubicBezTo>
                  <a:pt x="21102" y="7901"/>
                  <a:pt x="21030" y="7974"/>
                  <a:pt x="20985" y="8136"/>
                </a:cubicBezTo>
                <a:cubicBezTo>
                  <a:pt x="20985" y="8161"/>
                  <a:pt x="20985" y="8185"/>
                  <a:pt x="20985" y="8210"/>
                </a:cubicBezTo>
                <a:cubicBezTo>
                  <a:pt x="21226" y="8243"/>
                  <a:pt x="21288" y="8168"/>
                  <a:pt x="21406" y="7962"/>
                </a:cubicBezTo>
                <a:cubicBezTo>
                  <a:pt x="21423" y="7929"/>
                  <a:pt x="21439" y="7896"/>
                  <a:pt x="21456" y="7863"/>
                </a:cubicBezTo>
                <a:cubicBezTo>
                  <a:pt x="21472" y="8010"/>
                  <a:pt x="21490" y="8161"/>
                  <a:pt x="21506" y="8310"/>
                </a:cubicBezTo>
                <a:cubicBezTo>
                  <a:pt x="21521" y="8453"/>
                  <a:pt x="21594" y="8577"/>
                  <a:pt x="21456" y="8607"/>
                </a:cubicBezTo>
              </a:path>
              <a:path w="4664" h="1167">
                <a:moveTo>
                  <a:pt x="18107" y="8384"/>
                </a:moveTo>
                <a:cubicBezTo>
                  <a:pt x="18017" y="8361"/>
                  <a:pt x="18071" y="8347"/>
                  <a:pt x="17959" y="8409"/>
                </a:cubicBezTo>
                <a:cubicBezTo>
                  <a:pt x="17880" y="8452"/>
                  <a:pt x="17785" y="8559"/>
                  <a:pt x="17785" y="8657"/>
                </a:cubicBezTo>
                <a:cubicBezTo>
                  <a:pt x="17785" y="8758"/>
                  <a:pt x="17835" y="8906"/>
                  <a:pt x="17909" y="8979"/>
                </a:cubicBezTo>
                <a:cubicBezTo>
                  <a:pt x="18004" y="9074"/>
                  <a:pt x="18134" y="8905"/>
                  <a:pt x="18182" y="8855"/>
                </a:cubicBezTo>
                <a:cubicBezTo>
                  <a:pt x="18272" y="8762"/>
                  <a:pt x="18385" y="8628"/>
                  <a:pt x="18380" y="8483"/>
                </a:cubicBezTo>
                <a:cubicBezTo>
                  <a:pt x="18375" y="8342"/>
                  <a:pt x="18288" y="8359"/>
                  <a:pt x="18182" y="8359"/>
                </a:cubicBezTo>
                <a:cubicBezTo>
                  <a:pt x="18036" y="8359"/>
                  <a:pt x="18019" y="8372"/>
                  <a:pt x="18008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86800" y="3313080"/>
            <a:ext cx="27000" cy="322200"/>
          </a:xfrm>
          <a:custGeom>
            <a:avLst/>
            <a:gdLst/>
            <a:ahLst/>
            <a:rect l="l" t="t" r="r" b="b"/>
            <a:pathLst>
              <a:path w="75" h="894">
                <a:moveTo>
                  <a:pt x="21654" y="9376"/>
                </a:moveTo>
                <a:cubicBezTo>
                  <a:pt x="21660" y="9298"/>
                  <a:pt x="21665" y="9270"/>
                  <a:pt x="21679" y="9203"/>
                </a:cubicBezTo>
                <a:cubicBezTo>
                  <a:pt x="21679" y="9381"/>
                  <a:pt x="21696" y="9516"/>
                  <a:pt x="21679" y="9699"/>
                </a:cubicBezTo>
                <a:cubicBezTo>
                  <a:pt x="21667" y="9830"/>
                  <a:pt x="21660" y="9972"/>
                  <a:pt x="21630" y="1009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85040" y="3384720"/>
            <a:ext cx="214200" cy="330120"/>
          </a:xfrm>
          <a:custGeom>
            <a:avLst/>
            <a:gdLst/>
            <a:ahLst/>
            <a:rect l="l" t="t" r="r" b="b"/>
            <a:pathLst>
              <a:path w="597" h="919">
                <a:moveTo>
                  <a:pt x="20513" y="9624"/>
                </a:moveTo>
                <a:cubicBezTo>
                  <a:pt x="20534" y="9522"/>
                  <a:pt x="20665" y="9431"/>
                  <a:pt x="20762" y="9401"/>
                </a:cubicBezTo>
                <a:cubicBezTo>
                  <a:pt x="20795" y="9401"/>
                  <a:pt x="20828" y="9401"/>
                  <a:pt x="20861" y="9401"/>
                </a:cubicBezTo>
                <a:cubicBezTo>
                  <a:pt x="20941" y="9671"/>
                  <a:pt x="20878" y="9846"/>
                  <a:pt x="20737" y="10096"/>
                </a:cubicBezTo>
                <a:cubicBezTo>
                  <a:pt x="20654" y="10220"/>
                  <a:pt x="20638" y="10245"/>
                  <a:pt x="20588" y="10319"/>
                </a:cubicBezTo>
                <a:cubicBezTo>
                  <a:pt x="20709" y="10198"/>
                  <a:pt x="20801" y="10112"/>
                  <a:pt x="20960" y="10046"/>
                </a:cubicBezTo>
                <a:cubicBezTo>
                  <a:pt x="21018" y="10022"/>
                  <a:pt x="21050" y="10021"/>
                  <a:pt x="21109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1120" y="3606840"/>
            <a:ext cx="36720" cy="73080"/>
          </a:xfrm>
          <a:custGeom>
            <a:avLst/>
            <a:gdLst/>
            <a:ahLst/>
            <a:rect l="l" t="t" r="r" b="b"/>
            <a:pathLst>
              <a:path w="101" h="200">
                <a:moveTo>
                  <a:pt x="19918" y="10071"/>
                </a:moveTo>
                <a:cubicBezTo>
                  <a:pt x="19909" y="10089"/>
                  <a:pt x="19858" y="10243"/>
                  <a:pt x="19918" y="10220"/>
                </a:cubicBezTo>
                <a:cubicBezTo>
                  <a:pt x="19991" y="10193"/>
                  <a:pt x="19982" y="10129"/>
                  <a:pt x="19993" y="10071"/>
                </a:cubicBezTo>
                <a:cubicBezTo>
                  <a:pt x="19935" y="10027"/>
                  <a:pt x="19860" y="10087"/>
                  <a:pt x="19918" y="10145"/>
                </a:cubicBezTo>
                <a:cubicBezTo>
                  <a:pt x="19926" y="10145"/>
                  <a:pt x="19935" y="10145"/>
                  <a:pt x="19943" y="10145"/>
                </a:cubicBezTo>
                <a:cubicBezTo>
                  <a:pt x="19986" y="10061"/>
                  <a:pt x="19960" y="9989"/>
                  <a:pt x="19943" y="10071"/>
                </a:cubicBezTo>
                <a:cubicBezTo>
                  <a:pt x="19943" y="10087"/>
                  <a:pt x="19943" y="10104"/>
                  <a:pt x="19943" y="101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92920" y="3419640"/>
            <a:ext cx="19080" cy="287280"/>
          </a:xfrm>
          <a:custGeom>
            <a:avLst/>
            <a:gdLst/>
            <a:ahLst/>
            <a:rect l="l" t="t" r="r" b="b"/>
            <a:pathLst>
              <a:path w="51" h="795">
                <a:moveTo>
                  <a:pt x="19174" y="9550"/>
                </a:moveTo>
                <a:cubicBezTo>
                  <a:pt x="19139" y="9409"/>
                  <a:pt x="19191" y="9727"/>
                  <a:pt x="19199" y="9872"/>
                </a:cubicBezTo>
                <a:cubicBezTo>
                  <a:pt x="19202" y="9934"/>
                  <a:pt x="19199" y="10283"/>
                  <a:pt x="19199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3880" y="3490920"/>
            <a:ext cx="187200" cy="268200"/>
          </a:xfrm>
          <a:custGeom>
            <a:avLst/>
            <a:gdLst/>
            <a:ahLst/>
            <a:rect l="l" t="t" r="r" b="b"/>
            <a:pathLst>
              <a:path w="522" h="745">
                <a:moveTo>
                  <a:pt x="18008" y="9798"/>
                </a:moveTo>
                <a:cubicBezTo>
                  <a:pt x="17975" y="9765"/>
                  <a:pt x="18195" y="9708"/>
                  <a:pt x="18256" y="9699"/>
                </a:cubicBezTo>
                <a:cubicBezTo>
                  <a:pt x="18281" y="9699"/>
                  <a:pt x="18306" y="9699"/>
                  <a:pt x="18331" y="9699"/>
                </a:cubicBezTo>
                <a:cubicBezTo>
                  <a:pt x="18390" y="9904"/>
                  <a:pt x="18346" y="10002"/>
                  <a:pt x="18207" y="10170"/>
                </a:cubicBezTo>
                <a:cubicBezTo>
                  <a:pt x="18199" y="10178"/>
                  <a:pt x="18190" y="10187"/>
                  <a:pt x="18182" y="10195"/>
                </a:cubicBezTo>
                <a:cubicBezTo>
                  <a:pt x="18151" y="10070"/>
                  <a:pt x="18247" y="10012"/>
                  <a:pt x="18380" y="10021"/>
                </a:cubicBezTo>
                <a:cubicBezTo>
                  <a:pt x="18577" y="10034"/>
                  <a:pt x="18496" y="10285"/>
                  <a:pt x="18405" y="10368"/>
                </a:cubicBezTo>
                <a:cubicBezTo>
                  <a:pt x="18270" y="10492"/>
                  <a:pt x="18135" y="10440"/>
                  <a:pt x="17983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5120" y="4313160"/>
            <a:ext cx="358920" cy="625680"/>
          </a:xfrm>
          <a:custGeom>
            <a:avLst/>
            <a:gdLst/>
            <a:ahLst/>
            <a:rect l="l" t="t" r="r" b="b"/>
            <a:pathLst>
              <a:path w="994" h="1737">
                <a:moveTo>
                  <a:pt x="13643" y="12799"/>
                </a:moveTo>
                <a:cubicBezTo>
                  <a:pt x="13871" y="12967"/>
                  <a:pt x="13945" y="13170"/>
                  <a:pt x="14064" y="13419"/>
                </a:cubicBezTo>
                <a:cubicBezTo>
                  <a:pt x="14084" y="13462"/>
                  <a:pt x="14229" y="13686"/>
                  <a:pt x="14139" y="13717"/>
                </a:cubicBezTo>
              </a:path>
              <a:path w="994" h="1737">
                <a:moveTo>
                  <a:pt x="13568" y="11981"/>
                </a:moveTo>
                <a:cubicBezTo>
                  <a:pt x="13541" y="12153"/>
                  <a:pt x="13494" y="12425"/>
                  <a:pt x="13618" y="12576"/>
                </a:cubicBezTo>
                <a:cubicBezTo>
                  <a:pt x="13651" y="12593"/>
                  <a:pt x="13684" y="12609"/>
                  <a:pt x="13717" y="12626"/>
                </a:cubicBezTo>
                <a:cubicBezTo>
                  <a:pt x="13897" y="12515"/>
                  <a:pt x="13974" y="12369"/>
                  <a:pt x="13866" y="12154"/>
                </a:cubicBezTo>
                <a:cubicBezTo>
                  <a:pt x="13793" y="12008"/>
                  <a:pt x="13644" y="12138"/>
                  <a:pt x="13543" y="12179"/>
                </a:cubicBezTo>
              </a:path>
              <a:path w="994" h="1737">
                <a:moveTo>
                  <a:pt x="14536" y="12799"/>
                </a:moveTo>
                <a:cubicBezTo>
                  <a:pt x="14536" y="12691"/>
                  <a:pt x="14527" y="12965"/>
                  <a:pt x="14511" y="13072"/>
                </a:cubicBezTo>
                <a:cubicBezTo>
                  <a:pt x="14497" y="13171"/>
                  <a:pt x="14486" y="13420"/>
                  <a:pt x="14486" y="13320"/>
                </a:cubicBezTo>
                <a:cubicBezTo>
                  <a:pt x="14486" y="13295"/>
                  <a:pt x="14486" y="13271"/>
                  <a:pt x="14486" y="132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7240" y="5742000"/>
            <a:ext cx="177840" cy="330120"/>
          </a:xfrm>
          <a:custGeom>
            <a:avLst/>
            <a:gdLst/>
            <a:ahLst/>
            <a:rect l="l" t="t" r="r" b="b"/>
            <a:pathLst>
              <a:path w="497" h="919">
                <a:moveTo>
                  <a:pt x="15106" y="15999"/>
                </a:moveTo>
                <a:cubicBezTo>
                  <a:pt x="15065" y="15958"/>
                  <a:pt x="15025" y="15907"/>
                  <a:pt x="14982" y="15999"/>
                </a:cubicBezTo>
                <a:cubicBezTo>
                  <a:pt x="14911" y="16153"/>
                  <a:pt x="14901" y="16430"/>
                  <a:pt x="14908" y="16594"/>
                </a:cubicBezTo>
                <a:cubicBezTo>
                  <a:pt x="14910" y="16649"/>
                  <a:pt x="14917" y="16789"/>
                  <a:pt x="14982" y="16818"/>
                </a:cubicBezTo>
                <a:cubicBezTo>
                  <a:pt x="15042" y="16845"/>
                  <a:pt x="15064" y="16841"/>
                  <a:pt x="15131" y="16818"/>
                </a:cubicBezTo>
                <a:cubicBezTo>
                  <a:pt x="15204" y="16793"/>
                  <a:pt x="15319" y="16720"/>
                  <a:pt x="15354" y="16644"/>
                </a:cubicBezTo>
                <a:cubicBezTo>
                  <a:pt x="15382" y="16584"/>
                  <a:pt x="15435" y="16413"/>
                  <a:pt x="15404" y="16346"/>
                </a:cubicBezTo>
                <a:cubicBezTo>
                  <a:pt x="15373" y="16279"/>
                  <a:pt x="15309" y="16276"/>
                  <a:pt x="15255" y="16297"/>
                </a:cubicBezTo>
                <a:cubicBezTo>
                  <a:pt x="15149" y="16338"/>
                  <a:pt x="15133" y="16420"/>
                  <a:pt x="15106" y="16520"/>
                </a:cubicBezTo>
                <a:cubicBezTo>
                  <a:pt x="15070" y="16654"/>
                  <a:pt x="15080" y="16741"/>
                  <a:pt x="15131" y="168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45040" y="4660920"/>
            <a:ext cx="9720" cy="322200"/>
          </a:xfrm>
          <a:custGeom>
            <a:avLst/>
            <a:gdLst/>
            <a:ahLst/>
            <a:rect l="l" t="t" r="r" b="b"/>
            <a:pathLst>
              <a:path w="25" h="894">
                <a:moveTo>
                  <a:pt x="14015" y="12973"/>
                </a:moveTo>
                <a:cubicBezTo>
                  <a:pt x="14088" y="12821"/>
                  <a:pt x="14049" y="13251"/>
                  <a:pt x="14039" y="13419"/>
                </a:cubicBezTo>
                <a:cubicBezTo>
                  <a:pt x="14034" y="13511"/>
                  <a:pt x="13974" y="13774"/>
                  <a:pt x="14039" y="138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6880" y="4232160"/>
            <a:ext cx="1974960" cy="750960"/>
          </a:xfrm>
          <a:custGeom>
            <a:avLst/>
            <a:gdLst/>
            <a:ahLst/>
            <a:rect l="l" t="t" r="r" b="b"/>
            <a:pathLst>
              <a:path w="5482" h="2085">
                <a:moveTo>
                  <a:pt x="14908" y="13022"/>
                </a:moveTo>
                <a:cubicBezTo>
                  <a:pt x="14840" y="13045"/>
                  <a:pt x="14784" y="13206"/>
                  <a:pt x="14759" y="13271"/>
                </a:cubicBezTo>
                <a:cubicBezTo>
                  <a:pt x="14674" y="13493"/>
                  <a:pt x="14662" y="13599"/>
                  <a:pt x="14709" y="13816"/>
                </a:cubicBezTo>
                <a:cubicBezTo>
                  <a:pt x="14937" y="13828"/>
                  <a:pt x="15182" y="13759"/>
                  <a:pt x="15205" y="13469"/>
                </a:cubicBezTo>
                <a:cubicBezTo>
                  <a:pt x="15225" y="13214"/>
                  <a:pt x="14966" y="13166"/>
                  <a:pt x="14784" y="13146"/>
                </a:cubicBezTo>
              </a:path>
              <a:path w="5482" h="2085">
                <a:moveTo>
                  <a:pt x="15453" y="12973"/>
                </a:moveTo>
                <a:cubicBezTo>
                  <a:pt x="15556" y="12887"/>
                  <a:pt x="15692" y="12824"/>
                  <a:pt x="15825" y="12799"/>
                </a:cubicBezTo>
                <a:cubicBezTo>
                  <a:pt x="16045" y="12758"/>
                  <a:pt x="16011" y="12955"/>
                  <a:pt x="15925" y="13072"/>
                </a:cubicBezTo>
                <a:cubicBezTo>
                  <a:pt x="15849" y="13147"/>
                  <a:pt x="15822" y="13173"/>
                  <a:pt x="15751" y="13196"/>
                </a:cubicBezTo>
                <a:cubicBezTo>
                  <a:pt x="15751" y="13188"/>
                  <a:pt x="15751" y="13179"/>
                  <a:pt x="15751" y="13171"/>
                </a:cubicBezTo>
                <a:cubicBezTo>
                  <a:pt x="15900" y="13131"/>
                  <a:pt x="16127" y="13065"/>
                  <a:pt x="16197" y="13271"/>
                </a:cubicBezTo>
                <a:cubicBezTo>
                  <a:pt x="16280" y="13514"/>
                  <a:pt x="15955" y="13658"/>
                  <a:pt x="15776" y="13692"/>
                </a:cubicBezTo>
                <a:cubicBezTo>
                  <a:pt x="15585" y="13729"/>
                  <a:pt x="15634" y="13646"/>
                  <a:pt x="15677" y="13543"/>
                </a:cubicBezTo>
              </a:path>
              <a:path w="5482" h="2085">
                <a:moveTo>
                  <a:pt x="16495" y="13494"/>
                </a:moveTo>
                <a:cubicBezTo>
                  <a:pt x="16558" y="13542"/>
                  <a:pt x="16572" y="13521"/>
                  <a:pt x="16619" y="13469"/>
                </a:cubicBezTo>
                <a:cubicBezTo>
                  <a:pt x="16644" y="13444"/>
                  <a:pt x="16652" y="13436"/>
                  <a:pt x="16619" y="13419"/>
                </a:cubicBezTo>
                <a:cubicBezTo>
                  <a:pt x="16574" y="13430"/>
                  <a:pt x="16524" y="13448"/>
                  <a:pt x="16545" y="13469"/>
                </a:cubicBezTo>
              </a:path>
              <a:path w="5482" h="2085">
                <a:moveTo>
                  <a:pt x="17214" y="12874"/>
                </a:moveTo>
                <a:cubicBezTo>
                  <a:pt x="17210" y="12926"/>
                  <a:pt x="17146" y="13188"/>
                  <a:pt x="17190" y="13221"/>
                </a:cubicBezTo>
                <a:cubicBezTo>
                  <a:pt x="17304" y="13307"/>
                  <a:pt x="17599" y="13185"/>
                  <a:pt x="17711" y="13146"/>
                </a:cubicBezTo>
                <a:cubicBezTo>
                  <a:pt x="17727" y="13138"/>
                  <a:pt x="17744" y="13130"/>
                  <a:pt x="17760" y="13122"/>
                </a:cubicBezTo>
              </a:path>
              <a:path w="5482" h="2085">
                <a:moveTo>
                  <a:pt x="17587" y="12626"/>
                </a:moveTo>
                <a:cubicBezTo>
                  <a:pt x="17554" y="12895"/>
                  <a:pt x="17551" y="13172"/>
                  <a:pt x="17537" y="13444"/>
                </a:cubicBezTo>
                <a:cubicBezTo>
                  <a:pt x="17537" y="13545"/>
                  <a:pt x="17547" y="13566"/>
                  <a:pt x="17512" y="13618"/>
                </a:cubicBezTo>
              </a:path>
              <a:path w="5482" h="2085">
                <a:moveTo>
                  <a:pt x="18306" y="12725"/>
                </a:moveTo>
                <a:cubicBezTo>
                  <a:pt x="18416" y="12678"/>
                  <a:pt x="18642" y="12507"/>
                  <a:pt x="18752" y="12650"/>
                </a:cubicBezTo>
                <a:cubicBezTo>
                  <a:pt x="18867" y="12799"/>
                  <a:pt x="18641" y="12960"/>
                  <a:pt x="18554" y="13047"/>
                </a:cubicBezTo>
                <a:cubicBezTo>
                  <a:pt x="18622" y="12951"/>
                  <a:pt x="18793" y="12869"/>
                  <a:pt x="18901" y="13022"/>
                </a:cubicBezTo>
                <a:cubicBezTo>
                  <a:pt x="19045" y="13225"/>
                  <a:pt x="18788" y="13386"/>
                  <a:pt x="18628" y="13419"/>
                </a:cubicBezTo>
                <a:cubicBezTo>
                  <a:pt x="18563" y="13432"/>
                  <a:pt x="18461" y="13425"/>
                  <a:pt x="18430" y="13395"/>
                </a:cubicBezTo>
              </a:path>
              <a:path w="5482" h="2085">
                <a:moveTo>
                  <a:pt x="19670" y="12526"/>
                </a:moveTo>
                <a:cubicBezTo>
                  <a:pt x="19731" y="12506"/>
                  <a:pt x="19664" y="12523"/>
                  <a:pt x="19621" y="12576"/>
                </a:cubicBezTo>
                <a:cubicBezTo>
                  <a:pt x="19482" y="12746"/>
                  <a:pt x="19437" y="12889"/>
                  <a:pt x="19447" y="13097"/>
                </a:cubicBezTo>
                <a:cubicBezTo>
                  <a:pt x="19694" y="13161"/>
                  <a:pt x="19926" y="13171"/>
                  <a:pt x="20092" y="12923"/>
                </a:cubicBezTo>
                <a:cubicBezTo>
                  <a:pt x="20257" y="12677"/>
                  <a:pt x="20012" y="12599"/>
                  <a:pt x="19819" y="12576"/>
                </a:cubicBezTo>
                <a:cubicBezTo>
                  <a:pt x="19699" y="12576"/>
                  <a:pt x="19662" y="12574"/>
                  <a:pt x="19596" y="12626"/>
                </a:cubicBezTo>
              </a:path>
              <a:path w="5482" h="2085">
                <a:moveTo>
                  <a:pt x="18901" y="12502"/>
                </a:moveTo>
                <a:cubicBezTo>
                  <a:pt x="18934" y="12469"/>
                  <a:pt x="18954" y="12431"/>
                  <a:pt x="18976" y="12402"/>
                </a:cubicBezTo>
                <a:cubicBezTo>
                  <a:pt x="18984" y="12394"/>
                  <a:pt x="18992" y="12386"/>
                  <a:pt x="19000" y="12378"/>
                </a:cubicBezTo>
                <a:cubicBezTo>
                  <a:pt x="18919" y="12541"/>
                  <a:pt x="18831" y="12717"/>
                  <a:pt x="18728" y="12874"/>
                </a:cubicBezTo>
                <a:cubicBezTo>
                  <a:pt x="18624" y="13032"/>
                  <a:pt x="18499" y="13176"/>
                  <a:pt x="18380" y="13320"/>
                </a:cubicBezTo>
                <a:cubicBezTo>
                  <a:pt x="18369" y="13334"/>
                  <a:pt x="18348" y="13372"/>
                  <a:pt x="18331" y="13395"/>
                </a:cubicBezTo>
                <a:cubicBezTo>
                  <a:pt x="18307" y="13426"/>
                  <a:pt x="18306" y="13438"/>
                  <a:pt x="18281" y="13469"/>
                </a:cubicBezTo>
              </a:path>
              <a:path w="5482" h="2085">
                <a:moveTo>
                  <a:pt x="18479" y="11906"/>
                </a:moveTo>
                <a:cubicBezTo>
                  <a:pt x="18433" y="11811"/>
                  <a:pt x="18552" y="11798"/>
                  <a:pt x="18628" y="11782"/>
                </a:cubicBezTo>
                <a:cubicBezTo>
                  <a:pt x="18723" y="11983"/>
                  <a:pt x="18701" y="12156"/>
                  <a:pt x="18529" y="12328"/>
                </a:cubicBezTo>
                <a:cubicBezTo>
                  <a:pt x="18405" y="12452"/>
                  <a:pt x="18307" y="12447"/>
                  <a:pt x="18157" y="12427"/>
                </a:cubicBezTo>
                <a:cubicBezTo>
                  <a:pt x="18193" y="12269"/>
                  <a:pt x="18281" y="12252"/>
                  <a:pt x="18430" y="12328"/>
                </a:cubicBezTo>
                <a:cubicBezTo>
                  <a:pt x="18514" y="12371"/>
                  <a:pt x="18558" y="12428"/>
                  <a:pt x="18604" y="12502"/>
                </a:cubicBezTo>
              </a:path>
              <a:path w="5482" h="2085">
                <a:moveTo>
                  <a:pt x="19397" y="12328"/>
                </a:moveTo>
                <a:cubicBezTo>
                  <a:pt x="19397" y="12488"/>
                  <a:pt x="19376" y="12640"/>
                  <a:pt x="19372" y="12799"/>
                </a:cubicBezTo>
                <a:cubicBezTo>
                  <a:pt x="19372" y="12857"/>
                  <a:pt x="19372" y="12865"/>
                  <a:pt x="19372" y="12898"/>
                </a:cubicBezTo>
              </a:path>
              <a:path w="5482" h="2085">
                <a:moveTo>
                  <a:pt x="17686" y="12328"/>
                </a:moveTo>
                <a:cubicBezTo>
                  <a:pt x="17730" y="12399"/>
                  <a:pt x="17733" y="12424"/>
                  <a:pt x="17686" y="12551"/>
                </a:cubicBezTo>
                <a:cubicBezTo>
                  <a:pt x="17578" y="12846"/>
                  <a:pt x="17421" y="13111"/>
                  <a:pt x="17289" y="13395"/>
                </a:cubicBezTo>
                <a:cubicBezTo>
                  <a:pt x="17265" y="13447"/>
                  <a:pt x="17174" y="13577"/>
                  <a:pt x="17239" y="13543"/>
                </a:cubicBezTo>
              </a:path>
              <a:path w="5482" h="2085">
                <a:moveTo>
                  <a:pt x="17314" y="12030"/>
                </a:moveTo>
                <a:cubicBezTo>
                  <a:pt x="17277" y="12042"/>
                  <a:pt x="17286" y="12080"/>
                  <a:pt x="17264" y="12105"/>
                </a:cubicBezTo>
                <a:cubicBezTo>
                  <a:pt x="17247" y="12121"/>
                  <a:pt x="17231" y="12138"/>
                  <a:pt x="17214" y="12154"/>
                </a:cubicBezTo>
                <a:cubicBezTo>
                  <a:pt x="17189" y="12102"/>
                  <a:pt x="17232" y="12030"/>
                  <a:pt x="17289" y="11981"/>
                </a:cubicBezTo>
                <a:cubicBezTo>
                  <a:pt x="17345" y="11943"/>
                  <a:pt x="17348" y="11926"/>
                  <a:pt x="17388" y="11931"/>
                </a:cubicBezTo>
                <a:cubicBezTo>
                  <a:pt x="17425" y="12076"/>
                  <a:pt x="17417" y="12139"/>
                  <a:pt x="17314" y="12254"/>
                </a:cubicBezTo>
                <a:cubicBezTo>
                  <a:pt x="17265" y="12309"/>
                  <a:pt x="17213" y="12365"/>
                  <a:pt x="17190" y="12353"/>
                </a:cubicBezTo>
                <a:cubicBezTo>
                  <a:pt x="17283" y="12290"/>
                  <a:pt x="17448" y="12302"/>
                  <a:pt x="17388" y="12477"/>
                </a:cubicBezTo>
                <a:cubicBezTo>
                  <a:pt x="17340" y="12618"/>
                  <a:pt x="17137" y="12750"/>
                  <a:pt x="16991" y="12750"/>
                </a:cubicBezTo>
                <a:cubicBezTo>
                  <a:pt x="16934" y="12731"/>
                  <a:pt x="16927" y="12722"/>
                  <a:pt x="16892" y="12725"/>
                </a:cubicBezTo>
                <a:cubicBezTo>
                  <a:pt x="16929" y="12669"/>
                  <a:pt x="17086" y="12677"/>
                  <a:pt x="17165" y="12675"/>
                </a:cubicBezTo>
                <a:cubicBezTo>
                  <a:pt x="17239" y="12675"/>
                  <a:pt x="17248" y="12675"/>
                  <a:pt x="17289" y="12675"/>
                </a:cubicBezTo>
              </a:path>
              <a:path w="5482" h="2085">
                <a:moveTo>
                  <a:pt x="18083" y="11807"/>
                </a:moveTo>
                <a:cubicBezTo>
                  <a:pt x="18073" y="11777"/>
                  <a:pt x="18065" y="11750"/>
                  <a:pt x="18058" y="11782"/>
                </a:cubicBezTo>
                <a:cubicBezTo>
                  <a:pt x="18021" y="11944"/>
                  <a:pt x="18008" y="12089"/>
                  <a:pt x="18008" y="12254"/>
                </a:cubicBezTo>
                <a:cubicBezTo>
                  <a:pt x="18008" y="12262"/>
                  <a:pt x="18008" y="12270"/>
                  <a:pt x="18008" y="12278"/>
                </a:cubicBezTo>
              </a:path>
              <a:path w="5482" h="2085">
                <a:moveTo>
                  <a:pt x="16049" y="12700"/>
                </a:moveTo>
                <a:cubicBezTo>
                  <a:pt x="16027" y="12671"/>
                  <a:pt x="16024" y="12565"/>
                  <a:pt x="16024" y="12601"/>
                </a:cubicBezTo>
                <a:cubicBezTo>
                  <a:pt x="16024" y="12784"/>
                  <a:pt x="15941" y="12970"/>
                  <a:pt x="15900" y="13146"/>
                </a:cubicBezTo>
                <a:cubicBezTo>
                  <a:pt x="15854" y="13344"/>
                  <a:pt x="15825" y="13491"/>
                  <a:pt x="15751" y="13667"/>
                </a:cubicBezTo>
                <a:cubicBezTo>
                  <a:pt x="15747" y="13677"/>
                  <a:pt x="15731" y="13763"/>
                  <a:pt x="15726" y="13767"/>
                </a:cubicBezTo>
                <a:cubicBezTo>
                  <a:pt x="15699" y="13789"/>
                  <a:pt x="15701" y="13765"/>
                  <a:pt x="15701" y="13816"/>
                </a:cubicBezTo>
              </a:path>
              <a:path w="5482" h="2085">
                <a:moveTo>
                  <a:pt x="15652" y="12005"/>
                </a:moveTo>
                <a:cubicBezTo>
                  <a:pt x="15635" y="12072"/>
                  <a:pt x="15602" y="12044"/>
                  <a:pt x="15652" y="12005"/>
                </a:cubicBezTo>
                <a:cubicBezTo>
                  <a:pt x="15777" y="11908"/>
                  <a:pt x="15915" y="11930"/>
                  <a:pt x="15900" y="12129"/>
                </a:cubicBezTo>
                <a:cubicBezTo>
                  <a:pt x="15887" y="12296"/>
                  <a:pt x="15766" y="12583"/>
                  <a:pt x="15577" y="12601"/>
                </a:cubicBezTo>
                <a:cubicBezTo>
                  <a:pt x="15474" y="12611"/>
                  <a:pt x="15485" y="12517"/>
                  <a:pt x="15478" y="12452"/>
                </a:cubicBezTo>
                <a:cubicBezTo>
                  <a:pt x="15623" y="12387"/>
                  <a:pt x="15681" y="12423"/>
                  <a:pt x="15825" y="12477"/>
                </a:cubicBezTo>
                <a:cubicBezTo>
                  <a:pt x="15893" y="12503"/>
                  <a:pt x="15910" y="12505"/>
                  <a:pt x="15925" y="12551"/>
                </a:cubicBezTo>
              </a:path>
              <a:path w="5482" h="2085">
                <a:moveTo>
                  <a:pt x="16842" y="12179"/>
                </a:moveTo>
                <a:cubicBezTo>
                  <a:pt x="16847" y="12159"/>
                  <a:pt x="16867" y="12076"/>
                  <a:pt x="16867" y="12129"/>
                </a:cubicBezTo>
                <a:cubicBezTo>
                  <a:pt x="16867" y="12280"/>
                  <a:pt x="16819" y="12428"/>
                  <a:pt x="16793" y="12576"/>
                </a:cubicBezTo>
                <a:cubicBezTo>
                  <a:pt x="16793" y="12609"/>
                  <a:pt x="16793" y="12625"/>
                  <a:pt x="16793" y="126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9080" y="5438880"/>
            <a:ext cx="196920" cy="34920"/>
          </a:xfrm>
          <a:custGeom>
            <a:avLst/>
            <a:gdLst/>
            <a:ahLst/>
            <a:rect l="l" t="t" r="r" b="b"/>
            <a:pathLst>
              <a:path w="547" h="100">
                <a:moveTo>
                  <a:pt x="12303" y="15156"/>
                </a:moveTo>
                <a:cubicBezTo>
                  <a:pt x="12430" y="15156"/>
                  <a:pt x="12550" y="15138"/>
                  <a:pt x="12675" y="15131"/>
                </a:cubicBezTo>
                <a:cubicBezTo>
                  <a:pt x="12736" y="15128"/>
                  <a:pt x="12877" y="15079"/>
                  <a:pt x="12849" y="15156"/>
                </a:cubicBezTo>
                <a:cubicBezTo>
                  <a:pt x="12841" y="15172"/>
                  <a:pt x="12832" y="15189"/>
                  <a:pt x="12824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3240" y="5018040"/>
            <a:ext cx="1179720" cy="455760"/>
          </a:xfrm>
          <a:custGeom>
            <a:avLst/>
            <a:gdLst/>
            <a:ahLst/>
            <a:rect l="l" t="t" r="r" b="b"/>
            <a:pathLst>
              <a:path w="3275" h="1266">
                <a:moveTo>
                  <a:pt x="14833" y="14412"/>
                </a:moveTo>
                <a:cubicBezTo>
                  <a:pt x="14814" y="14526"/>
                  <a:pt x="14772" y="14642"/>
                  <a:pt x="14759" y="14759"/>
                </a:cubicBezTo>
                <a:cubicBezTo>
                  <a:pt x="14759" y="14784"/>
                  <a:pt x="14759" y="14808"/>
                  <a:pt x="14759" y="14833"/>
                </a:cubicBezTo>
                <a:cubicBezTo>
                  <a:pt x="14916" y="14796"/>
                  <a:pt x="15078" y="14760"/>
                  <a:pt x="15230" y="14709"/>
                </a:cubicBezTo>
              </a:path>
              <a:path w="3275" h="1266">
                <a:moveTo>
                  <a:pt x="15156" y="14337"/>
                </a:moveTo>
                <a:cubicBezTo>
                  <a:pt x="15103" y="14602"/>
                  <a:pt x="15074" y="14901"/>
                  <a:pt x="14982" y="15156"/>
                </a:cubicBezTo>
                <a:cubicBezTo>
                  <a:pt x="14959" y="15178"/>
                  <a:pt x="14951" y="15183"/>
                  <a:pt x="14957" y="15205"/>
                </a:cubicBezTo>
              </a:path>
              <a:path w="3275" h="1266">
                <a:moveTo>
                  <a:pt x="15999" y="14213"/>
                </a:moveTo>
                <a:cubicBezTo>
                  <a:pt x="15991" y="14292"/>
                  <a:pt x="15973" y="14360"/>
                  <a:pt x="15949" y="14436"/>
                </a:cubicBezTo>
                <a:cubicBezTo>
                  <a:pt x="15857" y="14500"/>
                  <a:pt x="16034" y="14296"/>
                  <a:pt x="16049" y="14288"/>
                </a:cubicBezTo>
                <a:cubicBezTo>
                  <a:pt x="16344" y="14127"/>
                  <a:pt x="16241" y="14612"/>
                  <a:pt x="16197" y="14709"/>
                </a:cubicBezTo>
                <a:cubicBezTo>
                  <a:pt x="16106" y="14910"/>
                  <a:pt x="16008" y="14976"/>
                  <a:pt x="15825" y="15056"/>
                </a:cubicBezTo>
                <a:cubicBezTo>
                  <a:pt x="15755" y="14943"/>
                  <a:pt x="15851" y="14861"/>
                  <a:pt x="15999" y="14858"/>
                </a:cubicBezTo>
                <a:cubicBezTo>
                  <a:pt x="16182" y="14854"/>
                  <a:pt x="16288" y="14931"/>
                  <a:pt x="16371" y="15081"/>
                </a:cubicBezTo>
                <a:cubicBezTo>
                  <a:pt x="16379" y="15098"/>
                  <a:pt x="16388" y="15114"/>
                  <a:pt x="16396" y="15131"/>
                </a:cubicBezTo>
              </a:path>
              <a:path w="3275" h="1266">
                <a:moveTo>
                  <a:pt x="16842" y="14759"/>
                </a:moveTo>
                <a:cubicBezTo>
                  <a:pt x="16822" y="14799"/>
                  <a:pt x="16814" y="14806"/>
                  <a:pt x="16818" y="14833"/>
                </a:cubicBezTo>
                <a:cubicBezTo>
                  <a:pt x="16850" y="14826"/>
                  <a:pt x="16966" y="14780"/>
                  <a:pt x="16892" y="14759"/>
                </a:cubicBezTo>
                <a:cubicBezTo>
                  <a:pt x="16884" y="14759"/>
                  <a:pt x="16875" y="14759"/>
                  <a:pt x="16867" y="14759"/>
                </a:cubicBezTo>
              </a:path>
              <a:path w="3275" h="1266">
                <a:moveTo>
                  <a:pt x="17611" y="13940"/>
                </a:moveTo>
                <a:cubicBezTo>
                  <a:pt x="17542" y="13954"/>
                  <a:pt x="17433" y="13943"/>
                  <a:pt x="17413" y="14015"/>
                </a:cubicBezTo>
                <a:cubicBezTo>
                  <a:pt x="17384" y="14121"/>
                  <a:pt x="17363" y="14228"/>
                  <a:pt x="17363" y="14337"/>
                </a:cubicBezTo>
                <a:cubicBezTo>
                  <a:pt x="17494" y="14337"/>
                  <a:pt x="17493" y="14218"/>
                  <a:pt x="17636" y="14188"/>
                </a:cubicBezTo>
                <a:cubicBezTo>
                  <a:pt x="17793" y="14155"/>
                  <a:pt x="18080" y="14206"/>
                  <a:pt x="18033" y="14436"/>
                </a:cubicBezTo>
                <a:cubicBezTo>
                  <a:pt x="18004" y="14581"/>
                  <a:pt x="17670" y="14880"/>
                  <a:pt x="17512" y="14759"/>
                </a:cubicBezTo>
                <a:cubicBezTo>
                  <a:pt x="17495" y="14709"/>
                  <a:pt x="17479" y="14660"/>
                  <a:pt x="17462" y="146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42080" y="4894200"/>
            <a:ext cx="615960" cy="419040"/>
          </a:xfrm>
          <a:custGeom>
            <a:avLst/>
            <a:gdLst/>
            <a:ahLst/>
            <a:rect l="l" t="t" r="r" b="b"/>
            <a:pathLst>
              <a:path w="1712" h="1167">
                <a:moveTo>
                  <a:pt x="18827" y="13965"/>
                </a:moveTo>
                <a:cubicBezTo>
                  <a:pt x="18927" y="13940"/>
                  <a:pt x="19000" y="13867"/>
                  <a:pt x="19124" y="13891"/>
                </a:cubicBezTo>
                <a:cubicBezTo>
                  <a:pt x="19157" y="13907"/>
                  <a:pt x="19191" y="13924"/>
                  <a:pt x="19224" y="13940"/>
                </a:cubicBezTo>
                <a:cubicBezTo>
                  <a:pt x="19192" y="14120"/>
                  <a:pt x="19137" y="14219"/>
                  <a:pt x="18951" y="14288"/>
                </a:cubicBezTo>
                <a:cubicBezTo>
                  <a:pt x="18943" y="14288"/>
                  <a:pt x="18934" y="14288"/>
                  <a:pt x="18926" y="14288"/>
                </a:cubicBezTo>
                <a:cubicBezTo>
                  <a:pt x="19043" y="14233"/>
                  <a:pt x="19348" y="14150"/>
                  <a:pt x="19323" y="14412"/>
                </a:cubicBezTo>
                <a:cubicBezTo>
                  <a:pt x="19308" y="14575"/>
                  <a:pt x="18873" y="14872"/>
                  <a:pt x="18728" y="14759"/>
                </a:cubicBezTo>
                <a:cubicBezTo>
                  <a:pt x="18728" y="14718"/>
                  <a:pt x="18728" y="14676"/>
                  <a:pt x="18728" y="14635"/>
                </a:cubicBezTo>
              </a:path>
              <a:path w="1712" h="1167">
                <a:moveTo>
                  <a:pt x="19844" y="13965"/>
                </a:moveTo>
                <a:cubicBezTo>
                  <a:pt x="19844" y="14057"/>
                  <a:pt x="19822" y="14145"/>
                  <a:pt x="19819" y="14238"/>
                </a:cubicBezTo>
                <a:cubicBezTo>
                  <a:pt x="19819" y="14271"/>
                  <a:pt x="19819" y="14304"/>
                  <a:pt x="19819" y="14337"/>
                </a:cubicBezTo>
                <a:cubicBezTo>
                  <a:pt x="20002" y="14387"/>
                  <a:pt x="20190" y="14313"/>
                  <a:pt x="20340" y="14188"/>
                </a:cubicBezTo>
                <a:cubicBezTo>
                  <a:pt x="20373" y="14147"/>
                  <a:pt x="20406" y="14105"/>
                  <a:pt x="20439" y="14064"/>
                </a:cubicBezTo>
              </a:path>
              <a:path w="1712" h="1167">
                <a:moveTo>
                  <a:pt x="20315" y="13593"/>
                </a:moveTo>
                <a:cubicBezTo>
                  <a:pt x="20291" y="13924"/>
                  <a:pt x="20290" y="14256"/>
                  <a:pt x="20241" y="14585"/>
                </a:cubicBezTo>
                <a:cubicBezTo>
                  <a:pt x="20231" y="14651"/>
                  <a:pt x="20216" y="14801"/>
                  <a:pt x="20216" y="147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2760" y="5527800"/>
            <a:ext cx="223560" cy="268200"/>
          </a:xfrm>
          <a:custGeom>
            <a:avLst/>
            <a:gdLst/>
            <a:ahLst/>
            <a:rect l="l" t="t" r="r" b="b"/>
            <a:pathLst>
              <a:path w="621" h="745">
                <a:moveTo>
                  <a:pt x="20191" y="15354"/>
                </a:moveTo>
                <a:cubicBezTo>
                  <a:pt x="20213" y="15421"/>
                  <a:pt x="20184" y="15522"/>
                  <a:pt x="20166" y="15627"/>
                </a:cubicBezTo>
                <a:cubicBezTo>
                  <a:pt x="20143" y="15757"/>
                  <a:pt x="20067" y="15949"/>
                  <a:pt x="20117" y="16073"/>
                </a:cubicBezTo>
                <a:cubicBezTo>
                  <a:pt x="20151" y="16157"/>
                  <a:pt x="20386" y="16046"/>
                  <a:pt x="20439" y="16024"/>
                </a:cubicBezTo>
                <a:cubicBezTo>
                  <a:pt x="20536" y="15984"/>
                  <a:pt x="20678" y="15882"/>
                  <a:pt x="20712" y="15776"/>
                </a:cubicBezTo>
                <a:cubicBezTo>
                  <a:pt x="20712" y="15731"/>
                  <a:pt x="20715" y="15718"/>
                  <a:pt x="20687" y="15701"/>
                </a:cubicBezTo>
                <a:cubicBezTo>
                  <a:pt x="20532" y="15714"/>
                  <a:pt x="20474" y="15772"/>
                  <a:pt x="20414" y="15925"/>
                </a:cubicBezTo>
                <a:cubicBezTo>
                  <a:pt x="20395" y="15999"/>
                  <a:pt x="20387" y="16006"/>
                  <a:pt x="20389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69080" y="5510160"/>
            <a:ext cx="196920" cy="357120"/>
          </a:xfrm>
          <a:custGeom>
            <a:avLst/>
            <a:gdLst/>
            <a:ahLst/>
            <a:rect l="l" t="t" r="r" b="b"/>
            <a:pathLst>
              <a:path w="547" h="994">
                <a:moveTo>
                  <a:pt x="19323" y="15652"/>
                </a:moveTo>
                <a:cubicBezTo>
                  <a:pt x="19341" y="15547"/>
                  <a:pt x="19358" y="15469"/>
                  <a:pt x="19273" y="15379"/>
                </a:cubicBezTo>
                <a:cubicBezTo>
                  <a:pt x="19141" y="15240"/>
                  <a:pt x="19007" y="15341"/>
                  <a:pt x="18926" y="15478"/>
                </a:cubicBezTo>
                <a:cubicBezTo>
                  <a:pt x="18827" y="15646"/>
                  <a:pt x="18815" y="15736"/>
                  <a:pt x="18852" y="15900"/>
                </a:cubicBezTo>
                <a:cubicBezTo>
                  <a:pt x="19109" y="15900"/>
                  <a:pt x="19161" y="15807"/>
                  <a:pt x="19273" y="15577"/>
                </a:cubicBezTo>
                <a:cubicBezTo>
                  <a:pt x="19281" y="15561"/>
                  <a:pt x="19290" y="15544"/>
                  <a:pt x="19298" y="15528"/>
                </a:cubicBezTo>
                <a:cubicBezTo>
                  <a:pt x="19298" y="15669"/>
                  <a:pt x="19269" y="15810"/>
                  <a:pt x="19248" y="15949"/>
                </a:cubicBezTo>
                <a:cubicBezTo>
                  <a:pt x="19246" y="15962"/>
                  <a:pt x="19191" y="16297"/>
                  <a:pt x="19248" y="16297"/>
                </a:cubicBezTo>
                <a:cubicBezTo>
                  <a:pt x="19248" y="16289"/>
                  <a:pt x="19248" y="16280"/>
                  <a:pt x="19248" y="1627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3960" y="5589720"/>
            <a:ext cx="196920" cy="277560"/>
          </a:xfrm>
          <a:custGeom>
            <a:avLst/>
            <a:gdLst/>
            <a:ahLst/>
            <a:rect l="l" t="t" r="r" b="b"/>
            <a:pathLst>
              <a:path w="547" h="770">
                <a:moveTo>
                  <a:pt x="18033" y="15528"/>
                </a:moveTo>
                <a:cubicBezTo>
                  <a:pt x="18079" y="15528"/>
                  <a:pt x="17851" y="15555"/>
                  <a:pt x="17810" y="15577"/>
                </a:cubicBezTo>
                <a:cubicBezTo>
                  <a:pt x="17660" y="15657"/>
                  <a:pt x="17597" y="15740"/>
                  <a:pt x="17512" y="15875"/>
                </a:cubicBezTo>
                <a:cubicBezTo>
                  <a:pt x="17632" y="15994"/>
                  <a:pt x="17785" y="16032"/>
                  <a:pt x="17934" y="16123"/>
                </a:cubicBezTo>
                <a:cubicBezTo>
                  <a:pt x="17962" y="16151"/>
                  <a:pt x="17971" y="16164"/>
                  <a:pt x="17959" y="16197"/>
                </a:cubicBezTo>
                <a:cubicBezTo>
                  <a:pt x="17888" y="16256"/>
                  <a:pt x="17782" y="16343"/>
                  <a:pt x="17686" y="16272"/>
                </a:cubicBezTo>
                <a:cubicBezTo>
                  <a:pt x="17538" y="16162"/>
                  <a:pt x="17689" y="15906"/>
                  <a:pt x="17760" y="15801"/>
                </a:cubicBezTo>
                <a:cubicBezTo>
                  <a:pt x="17805" y="15734"/>
                  <a:pt x="17881" y="15672"/>
                  <a:pt x="17909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5640" y="5688000"/>
            <a:ext cx="420480" cy="349200"/>
          </a:xfrm>
          <a:custGeom>
            <a:avLst/>
            <a:gdLst/>
            <a:ahLst/>
            <a:rect l="l" t="t" r="r" b="b"/>
            <a:pathLst>
              <a:path w="1167" h="968">
                <a:moveTo>
                  <a:pt x="16917" y="16371"/>
                </a:moveTo>
                <a:cubicBezTo>
                  <a:pt x="16917" y="16338"/>
                  <a:pt x="16917" y="16305"/>
                  <a:pt x="16917" y="16272"/>
                </a:cubicBezTo>
                <a:cubicBezTo>
                  <a:pt x="16879" y="16285"/>
                  <a:pt x="16852" y="16370"/>
                  <a:pt x="16842" y="16421"/>
                </a:cubicBezTo>
                <a:cubicBezTo>
                  <a:pt x="16827" y="16497"/>
                  <a:pt x="16859" y="16520"/>
                  <a:pt x="16917" y="16470"/>
                </a:cubicBezTo>
                <a:cubicBezTo>
                  <a:pt x="16974" y="16421"/>
                  <a:pt x="17011" y="16381"/>
                  <a:pt x="16966" y="16321"/>
                </a:cubicBezTo>
                <a:cubicBezTo>
                  <a:pt x="16891" y="16321"/>
                  <a:pt x="16837" y="16348"/>
                  <a:pt x="16842" y="16446"/>
                </a:cubicBezTo>
                <a:cubicBezTo>
                  <a:pt x="16850" y="16462"/>
                  <a:pt x="16859" y="16479"/>
                  <a:pt x="16867" y="16495"/>
                </a:cubicBezTo>
                <a:cubicBezTo>
                  <a:pt x="16939" y="16481"/>
                  <a:pt x="17016" y="16434"/>
                  <a:pt x="17016" y="16346"/>
                </a:cubicBezTo>
                <a:cubicBezTo>
                  <a:pt x="17008" y="16330"/>
                  <a:pt x="16999" y="16313"/>
                  <a:pt x="16991" y="16297"/>
                </a:cubicBezTo>
                <a:cubicBezTo>
                  <a:pt x="16891" y="16316"/>
                  <a:pt x="16879" y="16352"/>
                  <a:pt x="16867" y="16446"/>
                </a:cubicBezTo>
                <a:cubicBezTo>
                  <a:pt x="16861" y="16493"/>
                  <a:pt x="16885" y="16467"/>
                  <a:pt x="16892" y="16446"/>
                </a:cubicBezTo>
              </a:path>
              <a:path w="1167" h="968">
                <a:moveTo>
                  <a:pt x="16098" y="15825"/>
                </a:moveTo>
                <a:cubicBezTo>
                  <a:pt x="16075" y="15804"/>
                  <a:pt x="15994" y="16013"/>
                  <a:pt x="15974" y="16073"/>
                </a:cubicBezTo>
                <a:cubicBezTo>
                  <a:pt x="15910" y="16266"/>
                  <a:pt x="15824" y="16493"/>
                  <a:pt x="15875" y="16694"/>
                </a:cubicBezTo>
                <a:cubicBezTo>
                  <a:pt x="15883" y="16710"/>
                  <a:pt x="15892" y="16727"/>
                  <a:pt x="15900" y="16743"/>
                </a:cubicBezTo>
                <a:cubicBezTo>
                  <a:pt x="16115" y="16744"/>
                  <a:pt x="16249" y="16636"/>
                  <a:pt x="16346" y="16421"/>
                </a:cubicBezTo>
                <a:cubicBezTo>
                  <a:pt x="16424" y="16248"/>
                  <a:pt x="16443" y="16000"/>
                  <a:pt x="16272" y="15875"/>
                </a:cubicBezTo>
                <a:cubicBezTo>
                  <a:pt x="16212" y="15831"/>
                  <a:pt x="16171" y="15846"/>
                  <a:pt x="16123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98800" y="6259680"/>
            <a:ext cx="9360" cy="18720"/>
          </a:xfrm>
          <a:custGeom>
            <a:avLst/>
            <a:gdLst/>
            <a:ahLst/>
            <a:rect l="l" t="t" r="r" b="b"/>
            <a:pathLst>
              <a:path w="26" h="51">
                <a:moveTo>
                  <a:pt x="5829" y="17388"/>
                </a:moveTo>
                <a:cubicBezTo>
                  <a:pt x="5829" y="17416"/>
                  <a:pt x="5831" y="17427"/>
                  <a:pt x="5854" y="174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97760" y="3125880"/>
            <a:ext cx="1866600" cy="241200"/>
          </a:xfrm>
          <a:custGeom>
            <a:avLst/>
            <a:gdLst/>
            <a:ahLst/>
            <a:rect l="l" t="t" r="r" b="b"/>
            <a:pathLst>
              <a:path w="5186" h="670">
                <a:moveTo>
                  <a:pt x="17264" y="9351"/>
                </a:moveTo>
                <a:cubicBezTo>
                  <a:pt x="17336" y="9304"/>
                  <a:pt x="17328" y="9307"/>
                  <a:pt x="17413" y="9302"/>
                </a:cubicBezTo>
                <a:cubicBezTo>
                  <a:pt x="17987" y="9267"/>
                  <a:pt x="18554" y="9196"/>
                  <a:pt x="19124" y="9103"/>
                </a:cubicBezTo>
                <a:cubicBezTo>
                  <a:pt x="20006" y="8960"/>
                  <a:pt x="20889" y="8815"/>
                  <a:pt x="21779" y="8731"/>
                </a:cubicBezTo>
                <a:cubicBezTo>
                  <a:pt x="21987" y="8711"/>
                  <a:pt x="22193" y="8702"/>
                  <a:pt x="22399" y="86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357880"/>
            <a:ext cx="2786040" cy="366480"/>
          </a:xfrm>
          <a:custGeom>
            <a:avLst/>
            <a:gdLst/>
            <a:ahLst/>
            <a:rect l="l" t="t" r="r" b="b"/>
            <a:pathLst>
              <a:path w="7740" h="1018">
                <a:moveTo>
                  <a:pt x="12973" y="15900"/>
                </a:moveTo>
                <a:cubicBezTo>
                  <a:pt x="13074" y="15849"/>
                  <a:pt x="13092" y="15836"/>
                  <a:pt x="13271" y="15801"/>
                </a:cubicBezTo>
                <a:cubicBezTo>
                  <a:pt x="14340" y="15595"/>
                  <a:pt x="15418" y="15543"/>
                  <a:pt x="16495" y="15404"/>
                </a:cubicBezTo>
                <a:cubicBezTo>
                  <a:pt x="17433" y="15283"/>
                  <a:pt x="18356" y="15102"/>
                  <a:pt x="19298" y="15007"/>
                </a:cubicBezTo>
                <a:cubicBezTo>
                  <a:pt x="19752" y="14961"/>
                  <a:pt x="20207" y="14915"/>
                  <a:pt x="20662" y="14883"/>
                </a:cubicBezTo>
                <a:cubicBezTo>
                  <a:pt x="20687" y="14883"/>
                  <a:pt x="20695" y="14883"/>
                  <a:pt x="20712" y="148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28600" y="1181160"/>
            <a:ext cx="8610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 Set up the problem by lining up the factors evenly on the right hand side (just like you would with whole numb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a5080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  2</a:t>
            </a:r>
            <a:r>
              <a:rPr b="0" lang="en-US" sz="3200" spc="-1" strike="noStrike" u="sng">
                <a:solidFill>
                  <a:srgbClr val="a5080a"/>
                </a:solidFill>
                <a:uFillTx/>
                <a:latin typeface="Arial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 Place the decimals in the problem </a:t>
            </a:r>
            <a:r>
              <a:rPr b="0" lang="en-US" sz="2800" spc="-1" strike="noStrike">
                <a:solidFill>
                  <a:srgbClr val="a5080a"/>
                </a:solidFill>
                <a:latin typeface="Arial"/>
              </a:rPr>
              <a:t>(decimals do not have to line up when multiply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 Multiply as if the decimals are not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  Place decimals by counting how many digits are to the right of the decimals in the entir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76760" y="3867120"/>
            <a:ext cx="1090440" cy="293760"/>
          </a:xfrm>
          <a:custGeom>
            <a:avLst/>
            <a:gdLst/>
            <a:ahLst/>
            <a:rect l="l" t="t" r="r" b="b"/>
            <a:pathLst>
              <a:path w="3028" h="820">
                <a:moveTo>
                  <a:pt x="13494" y="10790"/>
                </a:moveTo>
                <a:cubicBezTo>
                  <a:pt x="13510" y="10758"/>
                  <a:pt x="13503" y="10772"/>
                  <a:pt x="13519" y="10740"/>
                </a:cubicBezTo>
                <a:cubicBezTo>
                  <a:pt x="13519" y="10849"/>
                  <a:pt x="13533" y="10962"/>
                  <a:pt x="13494" y="11063"/>
                </a:cubicBezTo>
                <a:cubicBezTo>
                  <a:pt x="13480" y="11099"/>
                  <a:pt x="13395" y="11197"/>
                  <a:pt x="13370" y="11212"/>
                </a:cubicBezTo>
                <a:cubicBezTo>
                  <a:pt x="13294" y="11258"/>
                  <a:pt x="13201" y="11294"/>
                  <a:pt x="13122" y="11336"/>
                </a:cubicBezTo>
                <a:cubicBezTo>
                  <a:pt x="13086" y="11355"/>
                  <a:pt x="13008" y="11405"/>
                  <a:pt x="12973" y="11410"/>
                </a:cubicBezTo>
                <a:cubicBezTo>
                  <a:pt x="12892" y="11422"/>
                  <a:pt x="12826" y="11393"/>
                  <a:pt x="12750" y="11385"/>
                </a:cubicBezTo>
                <a:cubicBezTo>
                  <a:pt x="12662" y="11376"/>
                  <a:pt x="12658" y="11385"/>
                  <a:pt x="12601" y="11311"/>
                </a:cubicBezTo>
                <a:cubicBezTo>
                  <a:pt x="12573" y="11274"/>
                  <a:pt x="12534" y="11204"/>
                  <a:pt x="12526" y="11162"/>
                </a:cubicBezTo>
                <a:cubicBezTo>
                  <a:pt x="12516" y="11110"/>
                  <a:pt x="12535" y="11108"/>
                  <a:pt x="12551" y="11088"/>
                </a:cubicBezTo>
                <a:cubicBezTo>
                  <a:pt x="12559" y="11088"/>
                  <a:pt x="12568" y="11088"/>
                  <a:pt x="12576" y="11088"/>
                </a:cubicBezTo>
                <a:cubicBezTo>
                  <a:pt x="12592" y="11161"/>
                  <a:pt x="12576" y="11181"/>
                  <a:pt x="12551" y="11261"/>
                </a:cubicBezTo>
                <a:cubicBezTo>
                  <a:pt x="12530" y="11327"/>
                  <a:pt x="12483" y="11387"/>
                  <a:pt x="12427" y="11410"/>
                </a:cubicBezTo>
                <a:cubicBezTo>
                  <a:pt x="12340" y="11446"/>
                  <a:pt x="12095" y="11427"/>
                  <a:pt x="12005" y="11435"/>
                </a:cubicBezTo>
                <a:cubicBezTo>
                  <a:pt x="11929" y="11442"/>
                  <a:pt x="11759" y="11463"/>
                  <a:pt x="11708" y="11410"/>
                </a:cubicBezTo>
                <a:cubicBezTo>
                  <a:pt x="11656" y="11356"/>
                  <a:pt x="11608" y="11308"/>
                  <a:pt x="11584" y="11237"/>
                </a:cubicBezTo>
                <a:cubicBezTo>
                  <a:pt x="11568" y="11189"/>
                  <a:pt x="11584" y="11115"/>
                  <a:pt x="11584" y="11063"/>
                </a:cubicBezTo>
                <a:cubicBezTo>
                  <a:pt x="11595" y="11095"/>
                  <a:pt x="11650" y="11213"/>
                  <a:pt x="11633" y="11286"/>
                </a:cubicBezTo>
                <a:cubicBezTo>
                  <a:pt x="11613" y="11367"/>
                  <a:pt x="11574" y="11481"/>
                  <a:pt x="11509" y="11534"/>
                </a:cubicBezTo>
                <a:cubicBezTo>
                  <a:pt x="11482" y="11556"/>
                  <a:pt x="11462" y="11554"/>
                  <a:pt x="11410" y="11559"/>
                </a:cubicBezTo>
                <a:cubicBezTo>
                  <a:pt x="11302" y="11568"/>
                  <a:pt x="11180" y="11562"/>
                  <a:pt x="11088" y="11534"/>
                </a:cubicBezTo>
                <a:cubicBezTo>
                  <a:pt x="11040" y="11520"/>
                  <a:pt x="10985" y="11509"/>
                  <a:pt x="10939" y="11485"/>
                </a:cubicBezTo>
                <a:cubicBezTo>
                  <a:pt x="10892" y="11461"/>
                  <a:pt x="10823" y="11427"/>
                  <a:pt x="10790" y="11385"/>
                </a:cubicBezTo>
                <a:cubicBezTo>
                  <a:pt x="10751" y="11335"/>
                  <a:pt x="10725" y="11252"/>
                  <a:pt x="10716" y="11187"/>
                </a:cubicBezTo>
                <a:cubicBezTo>
                  <a:pt x="10709" y="11140"/>
                  <a:pt x="10706" y="11128"/>
                  <a:pt x="10691" y="11088"/>
                </a:cubicBezTo>
                <a:cubicBezTo>
                  <a:pt x="10629" y="11162"/>
                  <a:pt x="10572" y="11209"/>
                  <a:pt x="10592" y="11336"/>
                </a:cubicBezTo>
                <a:cubicBezTo>
                  <a:pt x="10600" y="11352"/>
                  <a:pt x="10608" y="11369"/>
                  <a:pt x="10616" y="11385"/>
                </a:cubicBezTo>
                <a:cubicBezTo>
                  <a:pt x="10722" y="11322"/>
                  <a:pt x="10777" y="11241"/>
                  <a:pt x="10691" y="11112"/>
                </a:cubicBezTo>
                <a:cubicBezTo>
                  <a:pt x="10666" y="11063"/>
                  <a:pt x="10657" y="11046"/>
                  <a:pt x="10616" y="11038"/>
                </a:cubicBezTo>
                <a:cubicBezTo>
                  <a:pt x="10539" y="11109"/>
                  <a:pt x="10456" y="11133"/>
                  <a:pt x="10517" y="11286"/>
                </a:cubicBezTo>
                <a:cubicBezTo>
                  <a:pt x="10579" y="11441"/>
                  <a:pt x="10714" y="11325"/>
                  <a:pt x="10740" y="11212"/>
                </a:cubicBezTo>
                <a:cubicBezTo>
                  <a:pt x="10769" y="11085"/>
                  <a:pt x="10705" y="10962"/>
                  <a:pt x="10567" y="11038"/>
                </a:cubicBezTo>
                <a:cubicBezTo>
                  <a:pt x="10454" y="11100"/>
                  <a:pt x="10518" y="11232"/>
                  <a:pt x="10616" y="11261"/>
                </a:cubicBezTo>
                <a:cubicBezTo>
                  <a:pt x="10758" y="11304"/>
                  <a:pt x="10735" y="11107"/>
                  <a:pt x="10740" y="11063"/>
                </a:cubicBezTo>
                <a:cubicBezTo>
                  <a:pt x="10693" y="11083"/>
                  <a:pt x="10551" y="11034"/>
                  <a:pt x="10641" y="11187"/>
                </a:cubicBezTo>
                <a:cubicBezTo>
                  <a:pt x="10658" y="11195"/>
                  <a:pt x="10674" y="11204"/>
                  <a:pt x="10691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76800" y="2795760"/>
            <a:ext cx="662040" cy="1009440"/>
          </a:xfrm>
          <a:custGeom>
            <a:avLst/>
            <a:gdLst/>
            <a:ahLst/>
            <a:rect l="l" t="t" r="r" b="b"/>
            <a:pathLst>
              <a:path w="1837" h="2804">
                <a:moveTo>
                  <a:pt x="13196" y="7789"/>
                </a:moveTo>
                <a:cubicBezTo>
                  <a:pt x="13188" y="7781"/>
                  <a:pt x="13179" y="7772"/>
                  <a:pt x="13171" y="7764"/>
                </a:cubicBezTo>
                <a:cubicBezTo>
                  <a:pt x="13171" y="7917"/>
                  <a:pt x="13174" y="8065"/>
                  <a:pt x="13196" y="8210"/>
                </a:cubicBezTo>
                <a:cubicBezTo>
                  <a:pt x="13205" y="8272"/>
                  <a:pt x="13219" y="8326"/>
                  <a:pt x="13221" y="8384"/>
                </a:cubicBezTo>
                <a:cubicBezTo>
                  <a:pt x="13227" y="8518"/>
                  <a:pt x="13257" y="8709"/>
                  <a:pt x="13246" y="8830"/>
                </a:cubicBezTo>
                <a:cubicBezTo>
                  <a:pt x="13240" y="8897"/>
                  <a:pt x="13221" y="8956"/>
                  <a:pt x="13221" y="9029"/>
                </a:cubicBezTo>
                <a:cubicBezTo>
                  <a:pt x="13221" y="9118"/>
                  <a:pt x="13207" y="9195"/>
                  <a:pt x="13196" y="9277"/>
                </a:cubicBezTo>
                <a:cubicBezTo>
                  <a:pt x="13185" y="9361"/>
                  <a:pt x="13156" y="9444"/>
                  <a:pt x="13146" y="9525"/>
                </a:cubicBezTo>
                <a:cubicBezTo>
                  <a:pt x="13139" y="9577"/>
                  <a:pt x="13128" y="9624"/>
                  <a:pt x="13122" y="9674"/>
                </a:cubicBezTo>
                <a:cubicBezTo>
                  <a:pt x="13113" y="9753"/>
                  <a:pt x="13109" y="9823"/>
                  <a:pt x="13097" y="9897"/>
                </a:cubicBezTo>
                <a:cubicBezTo>
                  <a:pt x="13088" y="9951"/>
                  <a:pt x="13078" y="9999"/>
                  <a:pt x="13072" y="10046"/>
                </a:cubicBezTo>
                <a:cubicBezTo>
                  <a:pt x="13050" y="10213"/>
                  <a:pt x="13072" y="10398"/>
                  <a:pt x="13072" y="10567"/>
                </a:cubicBezTo>
              </a:path>
              <a:path w="1837" h="2804">
                <a:moveTo>
                  <a:pt x="11881" y="9351"/>
                </a:moveTo>
                <a:cubicBezTo>
                  <a:pt x="11909" y="9315"/>
                  <a:pt x="11923" y="9316"/>
                  <a:pt x="11881" y="9302"/>
                </a:cubicBezTo>
                <a:cubicBezTo>
                  <a:pt x="11906" y="9302"/>
                  <a:pt x="11914" y="9302"/>
                  <a:pt x="11906" y="9327"/>
                </a:cubicBezTo>
              </a:path>
              <a:path w="1837" h="2804">
                <a:moveTo>
                  <a:pt x="11906" y="9376"/>
                </a:moveTo>
                <a:cubicBezTo>
                  <a:pt x="11906" y="9351"/>
                  <a:pt x="11906" y="9343"/>
                  <a:pt x="11906" y="9327"/>
                </a:cubicBezTo>
                <a:cubicBezTo>
                  <a:pt x="11922" y="9343"/>
                  <a:pt x="11940" y="9360"/>
                  <a:pt x="11956" y="9376"/>
                </a:cubicBezTo>
                <a:cubicBezTo>
                  <a:pt x="11972" y="9392"/>
                  <a:pt x="11989" y="9410"/>
                  <a:pt x="12005" y="9426"/>
                </a:cubicBezTo>
                <a:cubicBezTo>
                  <a:pt x="12021" y="9442"/>
                  <a:pt x="12045" y="9478"/>
                  <a:pt x="12080" y="9500"/>
                </a:cubicBezTo>
                <a:cubicBezTo>
                  <a:pt x="12096" y="9511"/>
                  <a:pt x="12159" y="9545"/>
                  <a:pt x="12179" y="9550"/>
                </a:cubicBezTo>
                <a:cubicBezTo>
                  <a:pt x="12240" y="9566"/>
                  <a:pt x="12271" y="9528"/>
                  <a:pt x="12328" y="9525"/>
                </a:cubicBezTo>
                <a:cubicBezTo>
                  <a:pt x="12376" y="9522"/>
                  <a:pt x="12415" y="9507"/>
                  <a:pt x="12452" y="9500"/>
                </a:cubicBezTo>
                <a:cubicBezTo>
                  <a:pt x="12506" y="9489"/>
                  <a:pt x="12499" y="9510"/>
                  <a:pt x="12526" y="9475"/>
                </a:cubicBezTo>
                <a:cubicBezTo>
                  <a:pt x="12546" y="9449"/>
                  <a:pt x="12568" y="9437"/>
                  <a:pt x="12601" y="9401"/>
                </a:cubicBezTo>
                <a:cubicBezTo>
                  <a:pt x="12631" y="9368"/>
                  <a:pt x="12641" y="9345"/>
                  <a:pt x="12650" y="9302"/>
                </a:cubicBezTo>
                <a:cubicBezTo>
                  <a:pt x="12660" y="9255"/>
                  <a:pt x="12633" y="9267"/>
                  <a:pt x="12626" y="9252"/>
                </a:cubicBezTo>
                <a:cubicBezTo>
                  <a:pt x="12626" y="9305"/>
                  <a:pt x="12644" y="9298"/>
                  <a:pt x="12650" y="9351"/>
                </a:cubicBezTo>
                <a:cubicBezTo>
                  <a:pt x="12658" y="9423"/>
                  <a:pt x="12664" y="9432"/>
                  <a:pt x="12700" y="9475"/>
                </a:cubicBezTo>
                <a:cubicBezTo>
                  <a:pt x="12744" y="9527"/>
                  <a:pt x="12810" y="9542"/>
                  <a:pt x="12874" y="9550"/>
                </a:cubicBezTo>
                <a:cubicBezTo>
                  <a:pt x="12941" y="9558"/>
                  <a:pt x="12983" y="9585"/>
                  <a:pt x="13047" y="9599"/>
                </a:cubicBezTo>
                <a:cubicBezTo>
                  <a:pt x="13126" y="9616"/>
                  <a:pt x="13248" y="9605"/>
                  <a:pt x="13320" y="9575"/>
                </a:cubicBezTo>
                <a:cubicBezTo>
                  <a:pt x="13370" y="9554"/>
                  <a:pt x="13431" y="9533"/>
                  <a:pt x="13469" y="9500"/>
                </a:cubicBezTo>
                <a:cubicBezTo>
                  <a:pt x="13525" y="9452"/>
                  <a:pt x="13575" y="9364"/>
                  <a:pt x="13618" y="9302"/>
                </a:cubicBezTo>
                <a:cubicBezTo>
                  <a:pt x="13649" y="9257"/>
                  <a:pt x="13667" y="9195"/>
                  <a:pt x="13692" y="9153"/>
                </a:cubicBezTo>
                <a:cubicBezTo>
                  <a:pt x="13692" y="9128"/>
                  <a:pt x="13692" y="9120"/>
                  <a:pt x="13717" y="9128"/>
                </a:cubicBezTo>
              </a:path>
              <a:path w="1837" h="2804">
                <a:moveTo>
                  <a:pt x="12353" y="10269"/>
                </a:moveTo>
                <a:cubicBezTo>
                  <a:pt x="12334" y="10293"/>
                  <a:pt x="12283" y="10315"/>
                  <a:pt x="12328" y="10368"/>
                </a:cubicBezTo>
                <a:cubicBezTo>
                  <a:pt x="12383" y="10433"/>
                  <a:pt x="12456" y="10487"/>
                  <a:pt x="12551" y="10517"/>
                </a:cubicBezTo>
                <a:cubicBezTo>
                  <a:pt x="12688" y="10560"/>
                  <a:pt x="12836" y="10499"/>
                  <a:pt x="12973" y="10468"/>
                </a:cubicBezTo>
                <a:cubicBezTo>
                  <a:pt x="13102" y="10438"/>
                  <a:pt x="13203" y="10371"/>
                  <a:pt x="13320" y="10319"/>
                </a:cubicBezTo>
                <a:cubicBezTo>
                  <a:pt x="13448" y="10262"/>
                  <a:pt x="13442" y="10222"/>
                  <a:pt x="13494" y="10096"/>
                </a:cubicBezTo>
                <a:cubicBezTo>
                  <a:pt x="13510" y="10057"/>
                  <a:pt x="13519" y="10088"/>
                  <a:pt x="13519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17760" y="6518160"/>
            <a:ext cx="19080" cy="9720"/>
          </a:xfrm>
          <a:custGeom>
            <a:avLst/>
            <a:gdLst/>
            <a:ahLst/>
            <a:rect l="l" t="t" r="r" b="b"/>
            <a:pathLst>
              <a:path w="50" h="26">
                <a:moveTo>
                  <a:pt x="4266" y="18107"/>
                </a:moveTo>
                <a:cubicBezTo>
                  <a:pt x="4250" y="18115"/>
                  <a:pt x="4233" y="18124"/>
                  <a:pt x="4217" y="181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Students will review adding, subtracting and multiplying dec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9.4 x 12.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.14 x 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95840" y="1366920"/>
            <a:ext cx="1963440" cy="2106360"/>
          </a:xfrm>
          <a:custGeom>
            <a:avLst/>
            <a:gdLst/>
            <a:ahLst/>
            <a:rect l="l" t="t" r="r" b="b"/>
            <a:pathLst>
              <a:path w="5458" h="5855">
                <a:moveTo>
                  <a:pt x="12551" y="4787"/>
                </a:moveTo>
                <a:cubicBezTo>
                  <a:pt x="12614" y="4933"/>
                  <a:pt x="12576" y="5169"/>
                  <a:pt x="12576" y="5333"/>
                </a:cubicBezTo>
                <a:cubicBezTo>
                  <a:pt x="12576" y="5458"/>
                  <a:pt x="12567" y="5518"/>
                  <a:pt x="12551" y="5631"/>
                </a:cubicBezTo>
              </a:path>
              <a:path w="5458" h="5855">
                <a:moveTo>
                  <a:pt x="12998" y="4862"/>
                </a:moveTo>
                <a:cubicBezTo>
                  <a:pt x="13037" y="4782"/>
                  <a:pt x="13076" y="4774"/>
                  <a:pt x="13171" y="4738"/>
                </a:cubicBezTo>
                <a:cubicBezTo>
                  <a:pt x="13262" y="4828"/>
                  <a:pt x="13273" y="4949"/>
                  <a:pt x="13171" y="5060"/>
                </a:cubicBezTo>
                <a:cubicBezTo>
                  <a:pt x="13112" y="5100"/>
                  <a:pt x="13100" y="5104"/>
                  <a:pt x="13072" y="5135"/>
                </a:cubicBezTo>
                <a:cubicBezTo>
                  <a:pt x="13153" y="5119"/>
                  <a:pt x="13276" y="5027"/>
                  <a:pt x="13345" y="5135"/>
                </a:cubicBezTo>
                <a:cubicBezTo>
                  <a:pt x="13429" y="5267"/>
                  <a:pt x="13237" y="5495"/>
                  <a:pt x="13122" y="5531"/>
                </a:cubicBezTo>
                <a:cubicBezTo>
                  <a:pt x="12963" y="5581"/>
                  <a:pt x="12944" y="5488"/>
                  <a:pt x="12898" y="5383"/>
                </a:cubicBezTo>
              </a:path>
              <a:path w="5458" h="5855">
                <a:moveTo>
                  <a:pt x="13915" y="4887"/>
                </a:moveTo>
                <a:cubicBezTo>
                  <a:pt x="13873" y="4790"/>
                  <a:pt x="13850" y="4706"/>
                  <a:pt x="13717" y="4738"/>
                </a:cubicBezTo>
                <a:cubicBezTo>
                  <a:pt x="13543" y="4780"/>
                  <a:pt x="13467" y="4875"/>
                  <a:pt x="13494" y="5035"/>
                </a:cubicBezTo>
                <a:cubicBezTo>
                  <a:pt x="13643" y="5070"/>
                  <a:pt x="13726" y="5054"/>
                  <a:pt x="13816" y="4911"/>
                </a:cubicBezTo>
                <a:cubicBezTo>
                  <a:pt x="13824" y="4886"/>
                  <a:pt x="13833" y="4862"/>
                  <a:pt x="13841" y="4837"/>
                </a:cubicBezTo>
                <a:cubicBezTo>
                  <a:pt x="13841" y="4997"/>
                  <a:pt x="13827" y="5149"/>
                  <a:pt x="13816" y="5308"/>
                </a:cubicBezTo>
                <a:cubicBezTo>
                  <a:pt x="13809" y="5403"/>
                  <a:pt x="13814" y="5465"/>
                  <a:pt x="13791" y="5556"/>
                </a:cubicBezTo>
              </a:path>
              <a:path w="5458" h="5855">
                <a:moveTo>
                  <a:pt x="14238" y="5333"/>
                </a:moveTo>
                <a:cubicBezTo>
                  <a:pt x="14246" y="5333"/>
                  <a:pt x="14255" y="5333"/>
                  <a:pt x="14263" y="5333"/>
                </a:cubicBezTo>
              </a:path>
              <a:path w="5458" h="5855">
                <a:moveTo>
                  <a:pt x="14511" y="4837"/>
                </a:moveTo>
                <a:cubicBezTo>
                  <a:pt x="14511" y="4941"/>
                  <a:pt x="14499" y="5034"/>
                  <a:pt x="14486" y="5135"/>
                </a:cubicBezTo>
                <a:cubicBezTo>
                  <a:pt x="14486" y="5151"/>
                  <a:pt x="14486" y="5168"/>
                  <a:pt x="14486" y="5184"/>
                </a:cubicBezTo>
                <a:cubicBezTo>
                  <a:pt x="14646" y="5184"/>
                  <a:pt x="14725" y="5141"/>
                  <a:pt x="14858" y="5060"/>
                </a:cubicBezTo>
              </a:path>
              <a:path w="5458" h="5855">
                <a:moveTo>
                  <a:pt x="14883" y="4539"/>
                </a:moveTo>
                <a:cubicBezTo>
                  <a:pt x="14859" y="4780"/>
                  <a:pt x="14858" y="5016"/>
                  <a:pt x="14858" y="5259"/>
                </a:cubicBezTo>
                <a:cubicBezTo>
                  <a:pt x="14858" y="5333"/>
                  <a:pt x="14858" y="5342"/>
                  <a:pt x="14858" y="5383"/>
                </a:cubicBezTo>
              </a:path>
              <a:path w="5458" h="5855">
                <a:moveTo>
                  <a:pt x="11311" y="6474"/>
                </a:moveTo>
                <a:cubicBezTo>
                  <a:pt x="11390" y="6665"/>
                  <a:pt x="11485" y="6851"/>
                  <a:pt x="11559" y="7045"/>
                </a:cubicBezTo>
                <a:cubicBezTo>
                  <a:pt x="11581" y="7110"/>
                  <a:pt x="11589" y="7144"/>
                  <a:pt x="11584" y="7069"/>
                </a:cubicBezTo>
              </a:path>
              <a:path w="5458" h="5855">
                <a:moveTo>
                  <a:pt x="11584" y="6474"/>
                </a:moveTo>
                <a:cubicBezTo>
                  <a:pt x="11530" y="6641"/>
                  <a:pt x="11410" y="6869"/>
                  <a:pt x="11410" y="7045"/>
                </a:cubicBezTo>
                <a:cubicBezTo>
                  <a:pt x="11418" y="7045"/>
                  <a:pt x="11427" y="7045"/>
                  <a:pt x="11435" y="7045"/>
                </a:cubicBezTo>
              </a:path>
              <a:path w="5458" h="5855">
                <a:moveTo>
                  <a:pt x="12601" y="6077"/>
                </a:moveTo>
                <a:cubicBezTo>
                  <a:pt x="12601" y="6227"/>
                  <a:pt x="12579" y="6376"/>
                  <a:pt x="12551" y="6524"/>
                </a:cubicBezTo>
                <a:cubicBezTo>
                  <a:pt x="12530" y="6606"/>
                  <a:pt x="12522" y="6621"/>
                  <a:pt x="12526" y="6672"/>
                </a:cubicBezTo>
              </a:path>
              <a:path w="5458" h="5855">
                <a:moveTo>
                  <a:pt x="12998" y="5978"/>
                </a:moveTo>
                <a:cubicBezTo>
                  <a:pt x="13086" y="5978"/>
                  <a:pt x="13158" y="5946"/>
                  <a:pt x="13196" y="6052"/>
                </a:cubicBezTo>
                <a:cubicBezTo>
                  <a:pt x="13264" y="6240"/>
                  <a:pt x="13245" y="6499"/>
                  <a:pt x="13047" y="6598"/>
                </a:cubicBezTo>
                <a:cubicBezTo>
                  <a:pt x="12954" y="6644"/>
                  <a:pt x="12936" y="6552"/>
                  <a:pt x="12923" y="6499"/>
                </a:cubicBezTo>
                <a:cubicBezTo>
                  <a:pt x="13023" y="6439"/>
                  <a:pt x="13160" y="6409"/>
                  <a:pt x="13271" y="6499"/>
                </a:cubicBezTo>
                <a:cubicBezTo>
                  <a:pt x="13317" y="6569"/>
                  <a:pt x="13334" y="6589"/>
                  <a:pt x="13320" y="6648"/>
                </a:cubicBezTo>
              </a:path>
              <a:path w="5458" h="5855">
                <a:moveTo>
                  <a:pt x="13543" y="6524"/>
                </a:moveTo>
                <a:cubicBezTo>
                  <a:pt x="13543" y="6548"/>
                  <a:pt x="13543" y="6557"/>
                  <a:pt x="13543" y="6573"/>
                </a:cubicBezTo>
              </a:path>
              <a:path w="5458" h="5855">
                <a:moveTo>
                  <a:pt x="13841" y="5978"/>
                </a:moveTo>
                <a:cubicBezTo>
                  <a:pt x="13914" y="5920"/>
                  <a:pt x="13976" y="5888"/>
                  <a:pt x="14064" y="5854"/>
                </a:cubicBezTo>
                <a:cubicBezTo>
                  <a:pt x="14167" y="5957"/>
                  <a:pt x="14145" y="6049"/>
                  <a:pt x="14064" y="6176"/>
                </a:cubicBezTo>
                <a:cubicBezTo>
                  <a:pt x="14056" y="6184"/>
                  <a:pt x="14047" y="6193"/>
                  <a:pt x="14039" y="6201"/>
                </a:cubicBezTo>
                <a:cubicBezTo>
                  <a:pt x="14039" y="6118"/>
                  <a:pt x="14157" y="6133"/>
                  <a:pt x="14213" y="6176"/>
                </a:cubicBezTo>
                <a:cubicBezTo>
                  <a:pt x="14350" y="6281"/>
                  <a:pt x="14346" y="6462"/>
                  <a:pt x="14188" y="6524"/>
                </a:cubicBezTo>
                <a:cubicBezTo>
                  <a:pt x="14066" y="6572"/>
                  <a:pt x="14032" y="6552"/>
                  <a:pt x="13965" y="6474"/>
                </a:cubicBezTo>
              </a:path>
              <a:path w="5458" h="5855">
                <a:moveTo>
                  <a:pt x="14709" y="5854"/>
                </a:moveTo>
                <a:cubicBezTo>
                  <a:pt x="14731" y="5766"/>
                  <a:pt x="14753" y="5763"/>
                  <a:pt x="14833" y="5705"/>
                </a:cubicBezTo>
                <a:cubicBezTo>
                  <a:pt x="14976" y="5796"/>
                  <a:pt x="15019" y="5947"/>
                  <a:pt x="14957" y="6127"/>
                </a:cubicBezTo>
                <a:cubicBezTo>
                  <a:pt x="14901" y="6288"/>
                  <a:pt x="14817" y="6300"/>
                  <a:pt x="14684" y="6300"/>
                </a:cubicBezTo>
                <a:cubicBezTo>
                  <a:pt x="14727" y="6132"/>
                  <a:pt x="14855" y="6058"/>
                  <a:pt x="15032" y="6152"/>
                </a:cubicBezTo>
                <a:cubicBezTo>
                  <a:pt x="15152" y="6215"/>
                  <a:pt x="15104" y="6302"/>
                  <a:pt x="15081" y="6400"/>
                </a:cubicBezTo>
              </a:path>
              <a:path w="5458" h="5855">
                <a:moveTo>
                  <a:pt x="12080" y="6921"/>
                </a:moveTo>
                <a:cubicBezTo>
                  <a:pt x="12196" y="6938"/>
                  <a:pt x="12261" y="6944"/>
                  <a:pt x="12378" y="6945"/>
                </a:cubicBezTo>
                <a:cubicBezTo>
                  <a:pt x="12863" y="6951"/>
                  <a:pt x="13360" y="6906"/>
                  <a:pt x="13841" y="6846"/>
                </a:cubicBezTo>
                <a:cubicBezTo>
                  <a:pt x="14446" y="6770"/>
                  <a:pt x="15050" y="6686"/>
                  <a:pt x="15652" y="6598"/>
                </a:cubicBezTo>
                <a:cubicBezTo>
                  <a:pt x="15771" y="6581"/>
                  <a:pt x="15884" y="6567"/>
                  <a:pt x="15999" y="6548"/>
                </a:cubicBezTo>
              </a:path>
              <a:path w="5458" h="5855">
                <a:moveTo>
                  <a:pt x="15230" y="7045"/>
                </a:moveTo>
                <a:cubicBezTo>
                  <a:pt x="15238" y="7037"/>
                  <a:pt x="15247" y="7028"/>
                  <a:pt x="15255" y="7020"/>
                </a:cubicBezTo>
                <a:cubicBezTo>
                  <a:pt x="15182" y="6932"/>
                  <a:pt x="15093" y="6983"/>
                  <a:pt x="15007" y="7069"/>
                </a:cubicBezTo>
                <a:cubicBezTo>
                  <a:pt x="14982" y="7102"/>
                  <a:pt x="14957" y="7136"/>
                  <a:pt x="14932" y="7169"/>
                </a:cubicBezTo>
                <a:cubicBezTo>
                  <a:pt x="15031" y="7233"/>
                  <a:pt x="15153" y="7215"/>
                  <a:pt x="15255" y="7268"/>
                </a:cubicBezTo>
                <a:cubicBezTo>
                  <a:pt x="15389" y="7338"/>
                  <a:pt x="15211" y="7491"/>
                  <a:pt x="15156" y="7541"/>
                </a:cubicBezTo>
                <a:cubicBezTo>
                  <a:pt x="15028" y="7414"/>
                  <a:pt x="15092" y="7248"/>
                  <a:pt x="15180" y="7094"/>
                </a:cubicBezTo>
                <a:cubicBezTo>
                  <a:pt x="15219" y="7056"/>
                  <a:pt x="15236" y="7054"/>
                  <a:pt x="15230" y="7020"/>
                </a:cubicBezTo>
              </a:path>
              <a:path w="5458" h="5855">
                <a:moveTo>
                  <a:pt x="14312" y="7144"/>
                </a:moveTo>
                <a:cubicBezTo>
                  <a:pt x="14291" y="7079"/>
                  <a:pt x="14155" y="7167"/>
                  <a:pt x="14114" y="7193"/>
                </a:cubicBezTo>
                <a:cubicBezTo>
                  <a:pt x="13981" y="7277"/>
                  <a:pt x="13946" y="7342"/>
                  <a:pt x="14064" y="7441"/>
                </a:cubicBezTo>
                <a:cubicBezTo>
                  <a:pt x="14127" y="7494"/>
                  <a:pt x="14367" y="7599"/>
                  <a:pt x="14263" y="7714"/>
                </a:cubicBezTo>
                <a:cubicBezTo>
                  <a:pt x="14209" y="7773"/>
                  <a:pt x="14166" y="7785"/>
                  <a:pt x="14114" y="7764"/>
                </a:cubicBezTo>
                <a:cubicBezTo>
                  <a:pt x="14134" y="7585"/>
                  <a:pt x="14190" y="7447"/>
                  <a:pt x="14288" y="7293"/>
                </a:cubicBezTo>
                <a:cubicBezTo>
                  <a:pt x="14296" y="7285"/>
                  <a:pt x="14304" y="7276"/>
                  <a:pt x="14312" y="7268"/>
                </a:cubicBezTo>
              </a:path>
              <a:path w="5458" h="5855">
                <a:moveTo>
                  <a:pt x="12898" y="4043"/>
                </a:moveTo>
                <a:cubicBezTo>
                  <a:pt x="12898" y="3976"/>
                  <a:pt x="12881" y="4125"/>
                  <a:pt x="12874" y="4192"/>
                </a:cubicBezTo>
                <a:cubicBezTo>
                  <a:pt x="12868" y="4256"/>
                  <a:pt x="12874" y="4326"/>
                  <a:pt x="12874" y="4390"/>
                </a:cubicBezTo>
              </a:path>
              <a:path w="5458" h="5855">
                <a:moveTo>
                  <a:pt x="13122" y="7218"/>
                </a:moveTo>
                <a:cubicBezTo>
                  <a:pt x="13032" y="7188"/>
                  <a:pt x="13231" y="7172"/>
                  <a:pt x="13246" y="7169"/>
                </a:cubicBezTo>
                <a:cubicBezTo>
                  <a:pt x="13273" y="7163"/>
                  <a:pt x="13521" y="7061"/>
                  <a:pt x="13543" y="7094"/>
                </a:cubicBezTo>
                <a:cubicBezTo>
                  <a:pt x="13614" y="7201"/>
                  <a:pt x="13517" y="7474"/>
                  <a:pt x="13494" y="7590"/>
                </a:cubicBezTo>
                <a:cubicBezTo>
                  <a:pt x="13493" y="7595"/>
                  <a:pt x="13469" y="7797"/>
                  <a:pt x="13469" y="7665"/>
                </a:cubicBezTo>
              </a:path>
              <a:path w="5458" h="5855">
                <a:moveTo>
                  <a:pt x="12427" y="7293"/>
                </a:moveTo>
                <a:cubicBezTo>
                  <a:pt x="12400" y="7252"/>
                  <a:pt x="12426" y="7259"/>
                  <a:pt x="12477" y="7243"/>
                </a:cubicBezTo>
                <a:cubicBezTo>
                  <a:pt x="12534" y="7225"/>
                  <a:pt x="12672" y="7186"/>
                  <a:pt x="12650" y="7317"/>
                </a:cubicBezTo>
                <a:cubicBezTo>
                  <a:pt x="12621" y="7492"/>
                  <a:pt x="12448" y="7608"/>
                  <a:pt x="12328" y="7714"/>
                </a:cubicBezTo>
                <a:cubicBezTo>
                  <a:pt x="12286" y="7756"/>
                  <a:pt x="12278" y="7763"/>
                  <a:pt x="12254" y="7789"/>
                </a:cubicBezTo>
                <a:cubicBezTo>
                  <a:pt x="12337" y="7789"/>
                  <a:pt x="12425" y="7721"/>
                  <a:pt x="12502" y="7689"/>
                </a:cubicBezTo>
                <a:cubicBezTo>
                  <a:pt x="12576" y="7658"/>
                  <a:pt x="12699" y="7573"/>
                  <a:pt x="12774" y="7565"/>
                </a:cubicBezTo>
                <a:cubicBezTo>
                  <a:pt x="12782" y="7565"/>
                  <a:pt x="12791" y="7565"/>
                  <a:pt x="12799" y="7565"/>
                </a:cubicBezTo>
              </a:path>
              <a:path w="5458" h="5855">
                <a:moveTo>
                  <a:pt x="15255" y="7913"/>
                </a:moveTo>
                <a:cubicBezTo>
                  <a:pt x="15248" y="7891"/>
                  <a:pt x="15216" y="7868"/>
                  <a:pt x="15180" y="7888"/>
                </a:cubicBezTo>
                <a:cubicBezTo>
                  <a:pt x="15133" y="7915"/>
                  <a:pt x="15105" y="7976"/>
                  <a:pt x="15081" y="8012"/>
                </a:cubicBezTo>
                <a:cubicBezTo>
                  <a:pt x="15048" y="8061"/>
                  <a:pt x="15056" y="8097"/>
                  <a:pt x="15056" y="8161"/>
                </a:cubicBezTo>
                <a:cubicBezTo>
                  <a:pt x="15056" y="8211"/>
                  <a:pt x="15079" y="8236"/>
                  <a:pt x="15106" y="8260"/>
                </a:cubicBezTo>
                <a:cubicBezTo>
                  <a:pt x="15159" y="8306"/>
                  <a:pt x="15156" y="8310"/>
                  <a:pt x="15230" y="8310"/>
                </a:cubicBezTo>
                <a:cubicBezTo>
                  <a:pt x="15305" y="8310"/>
                  <a:pt x="15316" y="8285"/>
                  <a:pt x="15379" y="8260"/>
                </a:cubicBezTo>
                <a:cubicBezTo>
                  <a:pt x="15430" y="8240"/>
                  <a:pt x="15441" y="8203"/>
                  <a:pt x="15478" y="8161"/>
                </a:cubicBezTo>
                <a:cubicBezTo>
                  <a:pt x="15526" y="8106"/>
                  <a:pt x="15553" y="8085"/>
                  <a:pt x="15553" y="8012"/>
                </a:cubicBezTo>
                <a:cubicBezTo>
                  <a:pt x="15553" y="7978"/>
                  <a:pt x="15566" y="7932"/>
                  <a:pt x="15528" y="7913"/>
                </a:cubicBezTo>
                <a:cubicBezTo>
                  <a:pt x="15500" y="7899"/>
                  <a:pt x="15471" y="7876"/>
                  <a:pt x="15429" y="7863"/>
                </a:cubicBezTo>
                <a:cubicBezTo>
                  <a:pt x="15375" y="7847"/>
                  <a:pt x="15327" y="7880"/>
                  <a:pt x="15280" y="7888"/>
                </a:cubicBezTo>
                <a:cubicBezTo>
                  <a:pt x="15233" y="7896"/>
                  <a:pt x="15221" y="7903"/>
                  <a:pt x="15180" y="7913"/>
                </a:cubicBezTo>
              </a:path>
              <a:path w="5458" h="5855">
                <a:moveTo>
                  <a:pt x="14263" y="8086"/>
                </a:moveTo>
                <a:cubicBezTo>
                  <a:pt x="14208" y="8060"/>
                  <a:pt x="14367" y="7997"/>
                  <a:pt x="14412" y="7987"/>
                </a:cubicBezTo>
                <a:cubicBezTo>
                  <a:pt x="14428" y="7987"/>
                  <a:pt x="14445" y="7987"/>
                  <a:pt x="14461" y="7987"/>
                </a:cubicBezTo>
                <a:cubicBezTo>
                  <a:pt x="14475" y="8165"/>
                  <a:pt x="14358" y="8291"/>
                  <a:pt x="14238" y="8434"/>
                </a:cubicBezTo>
                <a:cubicBezTo>
                  <a:pt x="14221" y="8450"/>
                  <a:pt x="14205" y="8467"/>
                  <a:pt x="14188" y="8483"/>
                </a:cubicBezTo>
                <a:cubicBezTo>
                  <a:pt x="14334" y="8378"/>
                  <a:pt x="14493" y="8291"/>
                  <a:pt x="14635" y="8186"/>
                </a:cubicBezTo>
              </a:path>
              <a:path w="5458" h="5855">
                <a:moveTo>
                  <a:pt x="13667" y="3845"/>
                </a:moveTo>
                <a:cubicBezTo>
                  <a:pt x="13728" y="3935"/>
                  <a:pt x="13731" y="4058"/>
                  <a:pt x="13742" y="4167"/>
                </a:cubicBezTo>
                <a:cubicBezTo>
                  <a:pt x="13742" y="4217"/>
                  <a:pt x="13742" y="4233"/>
                  <a:pt x="13742" y="4266"/>
                </a:cubicBezTo>
              </a:path>
              <a:path w="5458" h="5855">
                <a:moveTo>
                  <a:pt x="13568" y="8037"/>
                </a:moveTo>
                <a:cubicBezTo>
                  <a:pt x="13559" y="8002"/>
                  <a:pt x="13517" y="7958"/>
                  <a:pt x="13469" y="7962"/>
                </a:cubicBezTo>
                <a:cubicBezTo>
                  <a:pt x="13387" y="7969"/>
                  <a:pt x="13311" y="8043"/>
                  <a:pt x="13246" y="8086"/>
                </a:cubicBezTo>
                <a:cubicBezTo>
                  <a:pt x="13264" y="8230"/>
                  <a:pt x="13362" y="8204"/>
                  <a:pt x="13494" y="8235"/>
                </a:cubicBezTo>
                <a:cubicBezTo>
                  <a:pt x="13589" y="8259"/>
                  <a:pt x="13618" y="8265"/>
                  <a:pt x="13667" y="8310"/>
                </a:cubicBezTo>
                <a:cubicBezTo>
                  <a:pt x="13644" y="8448"/>
                  <a:pt x="13612" y="8479"/>
                  <a:pt x="13469" y="8508"/>
                </a:cubicBezTo>
                <a:cubicBezTo>
                  <a:pt x="13382" y="8350"/>
                  <a:pt x="13449" y="8231"/>
                  <a:pt x="13519" y="8062"/>
                </a:cubicBezTo>
                <a:cubicBezTo>
                  <a:pt x="13527" y="8045"/>
                  <a:pt x="13535" y="8029"/>
                  <a:pt x="13543" y="8012"/>
                </a:cubicBezTo>
              </a:path>
              <a:path w="5458" h="5855">
                <a:moveTo>
                  <a:pt x="12601" y="4291"/>
                </a:moveTo>
                <a:cubicBezTo>
                  <a:pt x="12593" y="4291"/>
                  <a:pt x="12584" y="4291"/>
                  <a:pt x="12576" y="4291"/>
                </a:cubicBezTo>
                <a:cubicBezTo>
                  <a:pt x="12576" y="4202"/>
                  <a:pt x="12675" y="4174"/>
                  <a:pt x="12750" y="4142"/>
                </a:cubicBezTo>
                <a:cubicBezTo>
                  <a:pt x="12812" y="4115"/>
                  <a:pt x="12858" y="4118"/>
                  <a:pt x="12923" y="4118"/>
                </a:cubicBezTo>
                <a:cubicBezTo>
                  <a:pt x="12923" y="4225"/>
                  <a:pt x="12915" y="4301"/>
                  <a:pt x="12849" y="4390"/>
                </a:cubicBezTo>
                <a:cubicBezTo>
                  <a:pt x="12800" y="4457"/>
                  <a:pt x="12799" y="4424"/>
                  <a:pt x="12799" y="4490"/>
                </a:cubicBezTo>
                <a:cubicBezTo>
                  <a:pt x="12869" y="4472"/>
                  <a:pt x="12953" y="4402"/>
                  <a:pt x="13022" y="4366"/>
                </a:cubicBezTo>
                <a:cubicBezTo>
                  <a:pt x="13073" y="4340"/>
                  <a:pt x="13122" y="4303"/>
                  <a:pt x="13171" y="4291"/>
                </a:cubicBezTo>
              </a:path>
              <a:path w="5458" h="5855">
                <a:moveTo>
                  <a:pt x="12650" y="8111"/>
                </a:moveTo>
                <a:cubicBezTo>
                  <a:pt x="12650" y="8028"/>
                  <a:pt x="12650" y="8227"/>
                  <a:pt x="12650" y="8310"/>
                </a:cubicBezTo>
                <a:cubicBezTo>
                  <a:pt x="12650" y="8401"/>
                  <a:pt x="12685" y="8615"/>
                  <a:pt x="12626" y="8558"/>
                </a:cubicBezTo>
              </a:path>
              <a:path w="5458" h="5855">
                <a:moveTo>
                  <a:pt x="11881" y="4192"/>
                </a:moveTo>
                <a:cubicBezTo>
                  <a:pt x="11881" y="4122"/>
                  <a:pt x="11877" y="4271"/>
                  <a:pt x="11881" y="4341"/>
                </a:cubicBezTo>
                <a:cubicBezTo>
                  <a:pt x="11885" y="4406"/>
                  <a:pt x="11881" y="4473"/>
                  <a:pt x="11881" y="4539"/>
                </a:cubicBezTo>
              </a:path>
              <a:path w="5458" h="5855">
                <a:moveTo>
                  <a:pt x="11633" y="8161"/>
                </a:moveTo>
                <a:cubicBezTo>
                  <a:pt x="11633" y="8092"/>
                  <a:pt x="11587" y="8324"/>
                  <a:pt x="11584" y="8334"/>
                </a:cubicBezTo>
                <a:cubicBezTo>
                  <a:pt x="11563" y="8417"/>
                  <a:pt x="11555" y="8432"/>
                  <a:pt x="11559" y="8483"/>
                </a:cubicBezTo>
                <a:cubicBezTo>
                  <a:pt x="11645" y="8483"/>
                  <a:pt x="11724" y="8452"/>
                  <a:pt x="11807" y="8434"/>
                </a:cubicBezTo>
                <a:cubicBezTo>
                  <a:pt x="11865" y="8421"/>
                  <a:pt x="11966" y="8364"/>
                  <a:pt x="11981" y="8409"/>
                </a:cubicBezTo>
              </a:path>
              <a:path w="5458" h="5855">
                <a:moveTo>
                  <a:pt x="11956" y="8086"/>
                </a:moveTo>
                <a:cubicBezTo>
                  <a:pt x="11956" y="8342"/>
                  <a:pt x="11956" y="9062"/>
                  <a:pt x="11956" y="8806"/>
                </a:cubicBezTo>
              </a:path>
              <a:path w="5458" h="5855">
                <a:moveTo>
                  <a:pt x="15404" y="8582"/>
                </a:moveTo>
                <a:cubicBezTo>
                  <a:pt x="15314" y="8618"/>
                  <a:pt x="15246" y="8757"/>
                  <a:pt x="15230" y="8855"/>
                </a:cubicBezTo>
                <a:cubicBezTo>
                  <a:pt x="15200" y="9036"/>
                  <a:pt x="15252" y="9047"/>
                  <a:pt x="15379" y="9128"/>
                </a:cubicBezTo>
                <a:cubicBezTo>
                  <a:pt x="15521" y="9019"/>
                  <a:pt x="15658" y="8860"/>
                  <a:pt x="15577" y="8657"/>
                </a:cubicBezTo>
                <a:cubicBezTo>
                  <a:pt x="15529" y="8536"/>
                  <a:pt x="15364" y="8634"/>
                  <a:pt x="15304" y="8657"/>
                </a:cubicBezTo>
              </a:path>
              <a:path w="5458" h="5855">
                <a:moveTo>
                  <a:pt x="14461" y="8806"/>
                </a:moveTo>
                <a:cubicBezTo>
                  <a:pt x="14389" y="8806"/>
                  <a:pt x="14352" y="8823"/>
                  <a:pt x="14288" y="8855"/>
                </a:cubicBezTo>
                <a:cubicBezTo>
                  <a:pt x="14159" y="8919"/>
                  <a:pt x="14164" y="9108"/>
                  <a:pt x="14213" y="9227"/>
                </a:cubicBezTo>
                <a:cubicBezTo>
                  <a:pt x="14230" y="9252"/>
                  <a:pt x="14246" y="9277"/>
                  <a:pt x="14263" y="9302"/>
                </a:cubicBezTo>
                <a:cubicBezTo>
                  <a:pt x="14407" y="9224"/>
                  <a:pt x="14531" y="9114"/>
                  <a:pt x="14536" y="8930"/>
                </a:cubicBezTo>
                <a:cubicBezTo>
                  <a:pt x="14528" y="8905"/>
                  <a:pt x="14519" y="8880"/>
                  <a:pt x="14511" y="8855"/>
                </a:cubicBezTo>
                <a:cubicBezTo>
                  <a:pt x="14396" y="8826"/>
                  <a:pt x="14347" y="8831"/>
                  <a:pt x="14238" y="8880"/>
                </a:cubicBezTo>
              </a:path>
              <a:path w="5458" h="5855">
                <a:moveTo>
                  <a:pt x="13791" y="8930"/>
                </a:moveTo>
                <a:cubicBezTo>
                  <a:pt x="13863" y="8906"/>
                  <a:pt x="13747" y="8878"/>
                  <a:pt x="13717" y="8880"/>
                </a:cubicBezTo>
                <a:cubicBezTo>
                  <a:pt x="13623" y="8888"/>
                  <a:pt x="13558" y="8971"/>
                  <a:pt x="13494" y="9029"/>
                </a:cubicBezTo>
                <a:cubicBezTo>
                  <a:pt x="13512" y="9153"/>
                  <a:pt x="13631" y="9149"/>
                  <a:pt x="13742" y="9178"/>
                </a:cubicBezTo>
                <a:cubicBezTo>
                  <a:pt x="13836" y="9202"/>
                  <a:pt x="13965" y="9221"/>
                  <a:pt x="13891" y="9351"/>
                </a:cubicBezTo>
                <a:cubicBezTo>
                  <a:pt x="13832" y="9455"/>
                  <a:pt x="13732" y="9412"/>
                  <a:pt x="13643" y="9401"/>
                </a:cubicBezTo>
                <a:cubicBezTo>
                  <a:pt x="13621" y="9237"/>
                  <a:pt x="13664" y="9114"/>
                  <a:pt x="13717" y="8954"/>
                </a:cubicBezTo>
              </a:path>
              <a:path w="5458" h="5855">
                <a:moveTo>
                  <a:pt x="12824" y="9103"/>
                </a:moveTo>
                <a:cubicBezTo>
                  <a:pt x="12859" y="9092"/>
                  <a:pt x="12865" y="9042"/>
                  <a:pt x="12824" y="9004"/>
                </a:cubicBezTo>
                <a:cubicBezTo>
                  <a:pt x="12743" y="8929"/>
                  <a:pt x="12682" y="8916"/>
                  <a:pt x="12576" y="8954"/>
                </a:cubicBezTo>
                <a:cubicBezTo>
                  <a:pt x="12510" y="8978"/>
                  <a:pt x="12480" y="9061"/>
                  <a:pt x="12502" y="9128"/>
                </a:cubicBezTo>
                <a:cubicBezTo>
                  <a:pt x="12533" y="9225"/>
                  <a:pt x="12564" y="9288"/>
                  <a:pt x="12675" y="9302"/>
                </a:cubicBezTo>
                <a:cubicBezTo>
                  <a:pt x="12763" y="9313"/>
                  <a:pt x="12981" y="9284"/>
                  <a:pt x="12998" y="9426"/>
                </a:cubicBezTo>
                <a:cubicBezTo>
                  <a:pt x="13012" y="9538"/>
                  <a:pt x="12871" y="9638"/>
                  <a:pt x="12774" y="9624"/>
                </a:cubicBezTo>
                <a:cubicBezTo>
                  <a:pt x="12758" y="9616"/>
                  <a:pt x="12741" y="9607"/>
                  <a:pt x="12725" y="9599"/>
                </a:cubicBezTo>
                <a:cubicBezTo>
                  <a:pt x="12736" y="9444"/>
                  <a:pt x="12781" y="9302"/>
                  <a:pt x="12824" y="9153"/>
                </a:cubicBezTo>
                <a:cubicBezTo>
                  <a:pt x="12843" y="9086"/>
                  <a:pt x="12874" y="9071"/>
                  <a:pt x="12824" y="9054"/>
                </a:cubicBezTo>
              </a:path>
              <a:path w="5458" h="5855">
                <a:moveTo>
                  <a:pt x="12650" y="4043"/>
                </a:moveTo>
                <a:cubicBezTo>
                  <a:pt x="12676" y="4009"/>
                  <a:pt x="12675" y="3888"/>
                  <a:pt x="12675" y="3994"/>
                </a:cubicBezTo>
                <a:cubicBezTo>
                  <a:pt x="12675" y="4124"/>
                  <a:pt x="12692" y="4239"/>
                  <a:pt x="12700" y="4366"/>
                </a:cubicBezTo>
                <a:cubicBezTo>
                  <a:pt x="12700" y="4374"/>
                  <a:pt x="12700" y="4382"/>
                  <a:pt x="12700" y="4390"/>
                </a:cubicBezTo>
                <a:cubicBezTo>
                  <a:pt x="12700" y="4245"/>
                  <a:pt x="12710" y="4087"/>
                  <a:pt x="12725" y="3944"/>
                </a:cubicBezTo>
                <a:cubicBezTo>
                  <a:pt x="12755" y="3666"/>
                  <a:pt x="12776" y="3868"/>
                  <a:pt x="12799" y="3994"/>
                </a:cubicBezTo>
                <a:cubicBezTo>
                  <a:pt x="12833" y="4182"/>
                  <a:pt x="12849" y="4327"/>
                  <a:pt x="12849" y="4514"/>
                </a:cubicBezTo>
                <a:cubicBezTo>
                  <a:pt x="12849" y="4663"/>
                  <a:pt x="12849" y="4267"/>
                  <a:pt x="12849" y="4118"/>
                </a:cubicBezTo>
                <a:cubicBezTo>
                  <a:pt x="12849" y="3672"/>
                  <a:pt x="12871" y="4270"/>
                  <a:pt x="12874" y="4316"/>
                </a:cubicBezTo>
                <a:cubicBezTo>
                  <a:pt x="12883" y="4457"/>
                  <a:pt x="12882" y="4729"/>
                  <a:pt x="12898" y="4589"/>
                </a:cubicBezTo>
                <a:cubicBezTo>
                  <a:pt x="12924" y="4407"/>
                  <a:pt x="12931" y="4341"/>
                  <a:pt x="12898" y="4217"/>
                </a:cubicBezTo>
                <a:cubicBezTo>
                  <a:pt x="12898" y="4077"/>
                  <a:pt x="12898" y="4382"/>
                  <a:pt x="12898" y="4415"/>
                </a:cubicBezTo>
                <a:cubicBezTo>
                  <a:pt x="12898" y="4423"/>
                  <a:pt x="12898" y="4432"/>
                  <a:pt x="12898" y="4440"/>
                </a:cubicBezTo>
              </a:path>
              <a:path w="5458" h="5855">
                <a:moveTo>
                  <a:pt x="11658" y="9079"/>
                </a:moveTo>
                <a:cubicBezTo>
                  <a:pt x="11695" y="9091"/>
                  <a:pt x="11680" y="9103"/>
                  <a:pt x="11733" y="9103"/>
                </a:cubicBezTo>
                <a:cubicBezTo>
                  <a:pt x="11838" y="9103"/>
                  <a:pt x="12069" y="9137"/>
                  <a:pt x="12129" y="9079"/>
                </a:cubicBezTo>
                <a:cubicBezTo>
                  <a:pt x="12084" y="9228"/>
                  <a:pt x="11986" y="9405"/>
                  <a:pt x="11906" y="9550"/>
                </a:cubicBezTo>
                <a:cubicBezTo>
                  <a:pt x="11869" y="9606"/>
                  <a:pt x="11852" y="9610"/>
                  <a:pt x="11857" y="9649"/>
                </a:cubicBezTo>
                <a:cubicBezTo>
                  <a:pt x="11857" y="9596"/>
                  <a:pt x="11864" y="9585"/>
                  <a:pt x="11881" y="9525"/>
                </a:cubicBezTo>
              </a:path>
              <a:path w="5458" h="5855">
                <a:moveTo>
                  <a:pt x="10567" y="9103"/>
                </a:moveTo>
                <a:cubicBezTo>
                  <a:pt x="10675" y="9082"/>
                  <a:pt x="10771" y="9042"/>
                  <a:pt x="10889" y="9054"/>
                </a:cubicBezTo>
                <a:cubicBezTo>
                  <a:pt x="11068" y="9072"/>
                  <a:pt x="11061" y="9202"/>
                  <a:pt x="10964" y="9327"/>
                </a:cubicBezTo>
                <a:cubicBezTo>
                  <a:pt x="10908" y="9399"/>
                  <a:pt x="10764" y="9538"/>
                  <a:pt x="10691" y="9575"/>
                </a:cubicBezTo>
                <a:cubicBezTo>
                  <a:pt x="10784" y="9575"/>
                  <a:pt x="10873" y="9547"/>
                  <a:pt x="10964" y="9525"/>
                </a:cubicBezTo>
                <a:cubicBezTo>
                  <a:pt x="11051" y="9504"/>
                  <a:pt x="11124" y="9500"/>
                  <a:pt x="11212" y="9500"/>
                </a:cubicBezTo>
              </a:path>
              <a:path w="5458" h="5855">
                <a:moveTo>
                  <a:pt x="13717" y="6722"/>
                </a:moveTo>
                <a:cubicBezTo>
                  <a:pt x="13706" y="6677"/>
                  <a:pt x="13674" y="6638"/>
                  <a:pt x="13643" y="6598"/>
                </a:cubicBezTo>
                <a:cubicBezTo>
                  <a:pt x="13643" y="6710"/>
                  <a:pt x="13633" y="6811"/>
                  <a:pt x="13618" y="6921"/>
                </a:cubicBezTo>
                <a:cubicBezTo>
                  <a:pt x="13618" y="6945"/>
                  <a:pt x="13618" y="6954"/>
                  <a:pt x="13618" y="6970"/>
                </a:cubicBezTo>
              </a:path>
              <a:path w="5458" h="5855">
                <a:moveTo>
                  <a:pt x="12080" y="6548"/>
                </a:moveTo>
                <a:cubicBezTo>
                  <a:pt x="12158" y="6548"/>
                  <a:pt x="12171" y="6474"/>
                  <a:pt x="12254" y="6474"/>
                </a:cubicBezTo>
                <a:cubicBezTo>
                  <a:pt x="12286" y="6474"/>
                  <a:pt x="12322" y="6516"/>
                  <a:pt x="12353" y="6524"/>
                </a:cubicBezTo>
                <a:cubicBezTo>
                  <a:pt x="12322" y="6660"/>
                  <a:pt x="12246" y="6793"/>
                  <a:pt x="12179" y="6921"/>
                </a:cubicBezTo>
                <a:cubicBezTo>
                  <a:pt x="12171" y="6937"/>
                  <a:pt x="12162" y="6954"/>
                  <a:pt x="12154" y="6970"/>
                </a:cubicBezTo>
                <a:cubicBezTo>
                  <a:pt x="12222" y="6956"/>
                  <a:pt x="12285" y="6908"/>
                  <a:pt x="12353" y="6896"/>
                </a:cubicBezTo>
                <a:cubicBezTo>
                  <a:pt x="12394" y="6896"/>
                  <a:pt x="12402" y="6896"/>
                  <a:pt x="12427" y="6896"/>
                </a:cubicBezTo>
              </a:path>
              <a:path w="5458" h="5855">
                <a:moveTo>
                  <a:pt x="11757" y="7367"/>
                </a:moveTo>
                <a:cubicBezTo>
                  <a:pt x="11735" y="7460"/>
                  <a:pt x="11733" y="7559"/>
                  <a:pt x="11733" y="7665"/>
                </a:cubicBezTo>
                <a:cubicBezTo>
                  <a:pt x="11733" y="7714"/>
                  <a:pt x="11733" y="7764"/>
                  <a:pt x="11733" y="7813"/>
                </a:cubicBezTo>
              </a:path>
              <a:path w="5458" h="5855">
                <a:moveTo>
                  <a:pt x="10542" y="7640"/>
                </a:moveTo>
                <a:cubicBezTo>
                  <a:pt x="10640" y="7624"/>
                  <a:pt x="10719" y="7567"/>
                  <a:pt x="10815" y="7541"/>
                </a:cubicBezTo>
                <a:cubicBezTo>
                  <a:pt x="10823" y="7541"/>
                  <a:pt x="10832" y="7541"/>
                  <a:pt x="10840" y="7541"/>
                </a:cubicBezTo>
                <a:cubicBezTo>
                  <a:pt x="10827" y="7740"/>
                  <a:pt x="10763" y="7836"/>
                  <a:pt x="10691" y="8012"/>
                </a:cubicBezTo>
                <a:cubicBezTo>
                  <a:pt x="10691" y="8020"/>
                  <a:pt x="10691" y="8029"/>
                  <a:pt x="10691" y="8037"/>
                </a:cubicBezTo>
                <a:cubicBezTo>
                  <a:pt x="10766" y="7987"/>
                  <a:pt x="10861" y="7965"/>
                  <a:pt x="10939" y="7913"/>
                </a:cubicBezTo>
                <a:cubicBezTo>
                  <a:pt x="10969" y="7883"/>
                  <a:pt x="10983" y="7878"/>
                  <a:pt x="11013" y="7913"/>
                </a:cubicBezTo>
              </a:path>
              <a:path w="5458" h="5855">
                <a:moveTo>
                  <a:pt x="14312" y="5432"/>
                </a:moveTo>
                <a:cubicBezTo>
                  <a:pt x="14359" y="5557"/>
                  <a:pt x="14465" y="5716"/>
                  <a:pt x="14610" y="5755"/>
                </a:cubicBezTo>
                <a:cubicBezTo>
                  <a:pt x="14822" y="5812"/>
                  <a:pt x="15065" y="5647"/>
                  <a:pt x="15205" y="5507"/>
                </a:cubicBezTo>
                <a:cubicBezTo>
                  <a:pt x="15257" y="5455"/>
                  <a:pt x="15354" y="5364"/>
                  <a:pt x="15354" y="5283"/>
                </a:cubicBezTo>
              </a:path>
              <a:path w="5458" h="5855">
                <a:moveTo>
                  <a:pt x="13519" y="6672"/>
                </a:moveTo>
                <a:cubicBezTo>
                  <a:pt x="13527" y="6658"/>
                  <a:pt x="13564" y="6598"/>
                  <a:pt x="13568" y="6598"/>
                </a:cubicBezTo>
                <a:cubicBezTo>
                  <a:pt x="13642" y="6598"/>
                  <a:pt x="13742" y="6680"/>
                  <a:pt x="13791" y="6722"/>
                </a:cubicBezTo>
                <a:cubicBezTo>
                  <a:pt x="13877" y="6796"/>
                  <a:pt x="13964" y="6910"/>
                  <a:pt x="14089" y="6896"/>
                </a:cubicBezTo>
                <a:cubicBezTo>
                  <a:pt x="14224" y="6881"/>
                  <a:pt x="14318" y="6812"/>
                  <a:pt x="14412" y="6722"/>
                </a:cubicBezTo>
                <a:cubicBezTo>
                  <a:pt x="14456" y="6680"/>
                  <a:pt x="14526" y="6608"/>
                  <a:pt x="14560" y="6573"/>
                </a:cubicBezTo>
                <a:cubicBezTo>
                  <a:pt x="14570" y="6583"/>
                  <a:pt x="14600" y="6616"/>
                  <a:pt x="14610" y="6623"/>
                </a:cubicBezTo>
                <a:cubicBezTo>
                  <a:pt x="14741" y="6719"/>
                  <a:pt x="14827" y="6744"/>
                  <a:pt x="14982" y="6772"/>
                </a:cubicBezTo>
                <a:cubicBezTo>
                  <a:pt x="15112" y="6795"/>
                  <a:pt x="15159" y="6764"/>
                  <a:pt x="15280" y="6722"/>
                </a:cubicBezTo>
                <a:cubicBezTo>
                  <a:pt x="15362" y="6693"/>
                  <a:pt x="15407" y="6642"/>
                  <a:pt x="15478" y="6598"/>
                </a:cubicBezTo>
                <a:cubicBezTo>
                  <a:pt x="15533" y="6564"/>
                  <a:pt x="15566" y="6535"/>
                  <a:pt x="15602" y="6474"/>
                </a:cubicBezTo>
                <a:cubicBezTo>
                  <a:pt x="15620" y="6443"/>
                  <a:pt x="15638" y="6434"/>
                  <a:pt x="15652" y="6400"/>
                </a:cubicBezTo>
                <a:cubicBezTo>
                  <a:pt x="15652" y="6392"/>
                  <a:pt x="15652" y="6383"/>
                  <a:pt x="15652" y="63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60840" y="3983040"/>
            <a:ext cx="2135160" cy="419040"/>
          </a:xfrm>
          <a:custGeom>
            <a:avLst/>
            <a:gdLst/>
            <a:ahLst/>
            <a:rect l="l" t="t" r="r" b="b"/>
            <a:pathLst>
              <a:path w="5929" h="1167">
                <a:moveTo>
                  <a:pt x="13866" y="11137"/>
                </a:moveTo>
                <a:cubicBezTo>
                  <a:pt x="13810" y="11193"/>
                  <a:pt x="13763" y="11383"/>
                  <a:pt x="13791" y="11485"/>
                </a:cubicBezTo>
                <a:cubicBezTo>
                  <a:pt x="13831" y="11631"/>
                  <a:pt x="14035" y="11541"/>
                  <a:pt x="14114" y="11485"/>
                </a:cubicBezTo>
                <a:cubicBezTo>
                  <a:pt x="14209" y="11417"/>
                  <a:pt x="14228" y="11339"/>
                  <a:pt x="14263" y="11237"/>
                </a:cubicBezTo>
              </a:path>
              <a:path w="5929" h="1167">
                <a:moveTo>
                  <a:pt x="14238" y="11063"/>
                </a:moveTo>
                <a:cubicBezTo>
                  <a:pt x="14158" y="11291"/>
                  <a:pt x="14119" y="11529"/>
                  <a:pt x="14039" y="11757"/>
                </a:cubicBezTo>
                <a:cubicBezTo>
                  <a:pt x="14031" y="11774"/>
                  <a:pt x="14023" y="11790"/>
                  <a:pt x="14015" y="11807"/>
                </a:cubicBezTo>
              </a:path>
              <a:path w="5929" h="1167">
                <a:moveTo>
                  <a:pt x="12725" y="11162"/>
                </a:moveTo>
                <a:cubicBezTo>
                  <a:pt x="12854" y="11162"/>
                  <a:pt x="12971" y="11140"/>
                  <a:pt x="13097" y="11112"/>
                </a:cubicBezTo>
                <a:cubicBezTo>
                  <a:pt x="13171" y="11094"/>
                  <a:pt x="13178" y="11086"/>
                  <a:pt x="13221" y="11088"/>
                </a:cubicBezTo>
                <a:cubicBezTo>
                  <a:pt x="13221" y="11303"/>
                  <a:pt x="13204" y="11520"/>
                  <a:pt x="13171" y="11733"/>
                </a:cubicBezTo>
                <a:cubicBezTo>
                  <a:pt x="13150" y="11815"/>
                  <a:pt x="13142" y="11866"/>
                  <a:pt x="13146" y="11782"/>
                </a:cubicBezTo>
              </a:path>
              <a:path w="5929" h="1167">
                <a:moveTo>
                  <a:pt x="12154" y="11187"/>
                </a:moveTo>
                <a:cubicBezTo>
                  <a:pt x="12154" y="11053"/>
                  <a:pt x="12125" y="11402"/>
                  <a:pt x="12105" y="11534"/>
                </a:cubicBezTo>
                <a:cubicBezTo>
                  <a:pt x="12094" y="11612"/>
                  <a:pt x="12052" y="12141"/>
                  <a:pt x="12030" y="11708"/>
                </a:cubicBezTo>
              </a:path>
              <a:path w="5929" h="1167">
                <a:moveTo>
                  <a:pt x="10914" y="11212"/>
                </a:moveTo>
                <a:cubicBezTo>
                  <a:pt x="10844" y="11212"/>
                  <a:pt x="11079" y="11164"/>
                  <a:pt x="11088" y="11162"/>
                </a:cubicBezTo>
                <a:cubicBezTo>
                  <a:pt x="11189" y="11139"/>
                  <a:pt x="11286" y="11118"/>
                  <a:pt x="11385" y="11088"/>
                </a:cubicBezTo>
                <a:cubicBezTo>
                  <a:pt x="11360" y="11295"/>
                  <a:pt x="11272" y="11484"/>
                  <a:pt x="11212" y="11683"/>
                </a:cubicBezTo>
                <a:cubicBezTo>
                  <a:pt x="11205" y="11706"/>
                  <a:pt x="11187" y="11882"/>
                  <a:pt x="11187" y="11757"/>
                </a:cubicBezTo>
              </a:path>
              <a:path w="5929" h="1167">
                <a:moveTo>
                  <a:pt x="10269" y="11187"/>
                </a:moveTo>
                <a:cubicBezTo>
                  <a:pt x="10261" y="11179"/>
                  <a:pt x="10252" y="11170"/>
                  <a:pt x="10244" y="11162"/>
                </a:cubicBezTo>
                <a:cubicBezTo>
                  <a:pt x="10244" y="11288"/>
                  <a:pt x="10206" y="11409"/>
                  <a:pt x="10195" y="11534"/>
                </a:cubicBezTo>
                <a:cubicBezTo>
                  <a:pt x="10190" y="11595"/>
                  <a:pt x="10170" y="11719"/>
                  <a:pt x="10170" y="11658"/>
                </a:cubicBezTo>
              </a:path>
              <a:path w="5929" h="1167">
                <a:moveTo>
                  <a:pt x="16098" y="11435"/>
                </a:moveTo>
                <a:cubicBezTo>
                  <a:pt x="16065" y="11518"/>
                  <a:pt x="16040" y="11548"/>
                  <a:pt x="15974" y="11609"/>
                </a:cubicBezTo>
                <a:cubicBezTo>
                  <a:pt x="15871" y="11704"/>
                  <a:pt x="15691" y="11761"/>
                  <a:pt x="15553" y="11733"/>
                </a:cubicBezTo>
                <a:cubicBezTo>
                  <a:pt x="15468" y="11716"/>
                  <a:pt x="15327" y="11658"/>
                  <a:pt x="15255" y="11609"/>
                </a:cubicBezTo>
                <a:cubicBezTo>
                  <a:pt x="15207" y="11577"/>
                  <a:pt x="15200" y="11529"/>
                  <a:pt x="15180" y="11485"/>
                </a:cubicBezTo>
                <a:cubicBezTo>
                  <a:pt x="15149" y="11419"/>
                  <a:pt x="15156" y="11358"/>
                  <a:pt x="15156" y="11286"/>
                </a:cubicBezTo>
                <a:cubicBezTo>
                  <a:pt x="15156" y="11303"/>
                  <a:pt x="15156" y="11319"/>
                  <a:pt x="15156" y="11336"/>
                </a:cubicBezTo>
                <a:cubicBezTo>
                  <a:pt x="15186" y="11469"/>
                  <a:pt x="15204" y="11584"/>
                  <a:pt x="15131" y="11708"/>
                </a:cubicBezTo>
                <a:cubicBezTo>
                  <a:pt x="15072" y="11809"/>
                  <a:pt x="14993" y="11908"/>
                  <a:pt x="14883" y="11881"/>
                </a:cubicBezTo>
                <a:cubicBezTo>
                  <a:pt x="14798" y="11860"/>
                  <a:pt x="14755" y="11801"/>
                  <a:pt x="14684" y="11757"/>
                </a:cubicBezTo>
                <a:cubicBezTo>
                  <a:pt x="14632" y="11725"/>
                  <a:pt x="14593" y="11705"/>
                  <a:pt x="14536" y="11683"/>
                </a:cubicBezTo>
                <a:cubicBezTo>
                  <a:pt x="14472" y="11658"/>
                  <a:pt x="14481" y="11686"/>
                  <a:pt x="14436" y="11609"/>
                </a:cubicBezTo>
                <a:cubicBezTo>
                  <a:pt x="14419" y="11580"/>
                  <a:pt x="14417" y="11501"/>
                  <a:pt x="14412" y="11534"/>
                </a:cubicBezTo>
                <a:cubicBezTo>
                  <a:pt x="14396" y="11645"/>
                  <a:pt x="14397" y="11746"/>
                  <a:pt x="14362" y="11857"/>
                </a:cubicBezTo>
                <a:cubicBezTo>
                  <a:pt x="14339" y="11930"/>
                  <a:pt x="14315" y="11942"/>
                  <a:pt x="14238" y="11956"/>
                </a:cubicBezTo>
                <a:cubicBezTo>
                  <a:pt x="14129" y="11975"/>
                  <a:pt x="14019" y="11943"/>
                  <a:pt x="13915" y="11931"/>
                </a:cubicBezTo>
                <a:cubicBezTo>
                  <a:pt x="13816" y="11920"/>
                  <a:pt x="13739" y="11871"/>
                  <a:pt x="13643" y="11857"/>
                </a:cubicBezTo>
                <a:cubicBezTo>
                  <a:pt x="13564" y="11845"/>
                  <a:pt x="13534" y="11844"/>
                  <a:pt x="13494" y="11807"/>
                </a:cubicBezTo>
                <a:cubicBezTo>
                  <a:pt x="13494" y="11799"/>
                  <a:pt x="13494" y="11790"/>
                  <a:pt x="13494" y="11782"/>
                </a:cubicBezTo>
                <a:cubicBezTo>
                  <a:pt x="13600" y="11782"/>
                  <a:pt x="13550" y="11830"/>
                  <a:pt x="13643" y="11931"/>
                </a:cubicBezTo>
                <a:cubicBezTo>
                  <a:pt x="13713" y="11978"/>
                  <a:pt x="13732" y="11995"/>
                  <a:pt x="13791" y="11981"/>
                </a:cubicBezTo>
                <a:cubicBezTo>
                  <a:pt x="13831" y="11896"/>
                  <a:pt x="13890" y="11731"/>
                  <a:pt x="13742" y="11683"/>
                </a:cubicBezTo>
                <a:cubicBezTo>
                  <a:pt x="13612" y="11641"/>
                  <a:pt x="13513" y="11741"/>
                  <a:pt x="13519" y="11857"/>
                </a:cubicBezTo>
                <a:cubicBezTo>
                  <a:pt x="13525" y="11974"/>
                  <a:pt x="13668" y="12094"/>
                  <a:pt x="13767" y="11981"/>
                </a:cubicBezTo>
                <a:cubicBezTo>
                  <a:pt x="13852" y="11884"/>
                  <a:pt x="13792" y="11708"/>
                  <a:pt x="13643" y="11733"/>
                </a:cubicBezTo>
                <a:cubicBezTo>
                  <a:pt x="13618" y="11749"/>
                  <a:pt x="13593" y="11766"/>
                  <a:pt x="13568" y="11782"/>
                </a:cubicBezTo>
                <a:cubicBezTo>
                  <a:pt x="13577" y="11879"/>
                  <a:pt x="13599" y="11991"/>
                  <a:pt x="13717" y="11881"/>
                </a:cubicBezTo>
                <a:cubicBezTo>
                  <a:pt x="13802" y="11802"/>
                  <a:pt x="13683" y="11670"/>
                  <a:pt x="13643" y="11757"/>
                </a:cubicBezTo>
                <a:cubicBezTo>
                  <a:pt x="13613" y="11787"/>
                  <a:pt x="13608" y="11801"/>
                  <a:pt x="13643" y="11832"/>
                </a:cubicBezTo>
              </a:path>
              <a:path w="5929" h="1167">
                <a:moveTo>
                  <a:pt x="10864" y="11782"/>
                </a:moveTo>
                <a:cubicBezTo>
                  <a:pt x="10824" y="11905"/>
                  <a:pt x="10824" y="12031"/>
                  <a:pt x="10765" y="12154"/>
                </a:cubicBezTo>
                <a:cubicBezTo>
                  <a:pt x="10749" y="12179"/>
                  <a:pt x="10732" y="12204"/>
                  <a:pt x="10716" y="122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95920" y="5340240"/>
            <a:ext cx="374400" cy="268560"/>
          </a:xfrm>
          <a:custGeom>
            <a:avLst/>
            <a:gdLst/>
            <a:ahLst/>
            <a:rect l="l" t="t" r="r" b="b"/>
            <a:pathLst>
              <a:path w="1043" h="745">
                <a:moveTo>
                  <a:pt x="13667" y="14957"/>
                </a:moveTo>
                <a:cubicBezTo>
                  <a:pt x="13614" y="14957"/>
                  <a:pt x="13586" y="14962"/>
                  <a:pt x="13568" y="14908"/>
                </a:cubicBezTo>
                <a:cubicBezTo>
                  <a:pt x="13556" y="14874"/>
                  <a:pt x="13571" y="14841"/>
                  <a:pt x="13519" y="14833"/>
                </a:cubicBezTo>
                <a:cubicBezTo>
                  <a:pt x="13447" y="14822"/>
                  <a:pt x="13356" y="14852"/>
                  <a:pt x="13345" y="14932"/>
                </a:cubicBezTo>
                <a:cubicBezTo>
                  <a:pt x="13329" y="15047"/>
                  <a:pt x="13457" y="15103"/>
                  <a:pt x="13519" y="15180"/>
                </a:cubicBezTo>
                <a:cubicBezTo>
                  <a:pt x="13567" y="15239"/>
                  <a:pt x="13606" y="15397"/>
                  <a:pt x="13519" y="15453"/>
                </a:cubicBezTo>
                <a:cubicBezTo>
                  <a:pt x="13445" y="15500"/>
                  <a:pt x="13341" y="15475"/>
                  <a:pt x="13320" y="15379"/>
                </a:cubicBezTo>
                <a:cubicBezTo>
                  <a:pt x="13295" y="15265"/>
                  <a:pt x="13424" y="15154"/>
                  <a:pt x="13494" y="15081"/>
                </a:cubicBezTo>
                <a:cubicBezTo>
                  <a:pt x="13549" y="15024"/>
                  <a:pt x="13624" y="14958"/>
                  <a:pt x="13643" y="14883"/>
                </a:cubicBezTo>
              </a:path>
              <a:path w="1043" h="745">
                <a:moveTo>
                  <a:pt x="14039" y="14833"/>
                </a:moveTo>
                <a:cubicBezTo>
                  <a:pt x="14078" y="14898"/>
                  <a:pt x="14052" y="15002"/>
                  <a:pt x="14039" y="15081"/>
                </a:cubicBezTo>
                <a:cubicBezTo>
                  <a:pt x="14018" y="15206"/>
                  <a:pt x="13959" y="15333"/>
                  <a:pt x="13940" y="15453"/>
                </a:cubicBezTo>
                <a:cubicBezTo>
                  <a:pt x="13923" y="15560"/>
                  <a:pt x="14013" y="15604"/>
                  <a:pt x="14114" y="15577"/>
                </a:cubicBezTo>
                <a:cubicBezTo>
                  <a:pt x="14224" y="15548"/>
                  <a:pt x="14306" y="15470"/>
                  <a:pt x="14362" y="15379"/>
                </a:cubicBezTo>
                <a:cubicBezTo>
                  <a:pt x="14321" y="15296"/>
                  <a:pt x="14280" y="15310"/>
                  <a:pt x="14213" y="15354"/>
                </a:cubicBezTo>
                <a:cubicBezTo>
                  <a:pt x="14135" y="15405"/>
                  <a:pt x="14108" y="15449"/>
                  <a:pt x="14064" y="15528"/>
                </a:cubicBezTo>
              </a:path>
              <a:path w="1043" h="745">
                <a:moveTo>
                  <a:pt x="13791" y="15577"/>
                </a:moveTo>
                <a:lnTo>
                  <a:pt x="13791" y="15577"/>
                </a:lnTo>
                <a:lnTo>
                  <a:pt x="13791" y="1557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33800" y="3473280"/>
            <a:ext cx="2644560" cy="723960"/>
          </a:xfrm>
          <a:custGeom>
            <a:avLst/>
            <a:gdLst/>
            <a:ahLst/>
            <a:rect l="l" t="t" r="r" b="b"/>
            <a:pathLst>
              <a:path w="7344" h="2010">
                <a:moveTo>
                  <a:pt x="9897" y="10716"/>
                </a:moveTo>
                <a:cubicBezTo>
                  <a:pt x="9889" y="10716"/>
                  <a:pt x="9880" y="10716"/>
                  <a:pt x="9872" y="10716"/>
                </a:cubicBezTo>
                <a:cubicBezTo>
                  <a:pt x="9905" y="10700"/>
                  <a:pt x="9959" y="10682"/>
                  <a:pt x="10021" y="10666"/>
                </a:cubicBezTo>
                <a:cubicBezTo>
                  <a:pt x="10113" y="10643"/>
                  <a:pt x="10151" y="10651"/>
                  <a:pt x="10244" y="10666"/>
                </a:cubicBezTo>
                <a:cubicBezTo>
                  <a:pt x="10312" y="10677"/>
                  <a:pt x="10374" y="10680"/>
                  <a:pt x="10443" y="10691"/>
                </a:cubicBezTo>
                <a:cubicBezTo>
                  <a:pt x="10574" y="10713"/>
                  <a:pt x="10706" y="10720"/>
                  <a:pt x="10840" y="10740"/>
                </a:cubicBezTo>
                <a:cubicBezTo>
                  <a:pt x="10964" y="10758"/>
                  <a:pt x="11088" y="10771"/>
                  <a:pt x="11212" y="10790"/>
                </a:cubicBezTo>
                <a:cubicBezTo>
                  <a:pt x="11299" y="10803"/>
                  <a:pt x="11394" y="10802"/>
                  <a:pt x="11485" y="10815"/>
                </a:cubicBezTo>
                <a:cubicBezTo>
                  <a:pt x="11604" y="10832"/>
                  <a:pt x="11712" y="10857"/>
                  <a:pt x="11832" y="10864"/>
                </a:cubicBezTo>
                <a:cubicBezTo>
                  <a:pt x="11976" y="10872"/>
                  <a:pt x="12137" y="10861"/>
                  <a:pt x="12278" y="10840"/>
                </a:cubicBezTo>
                <a:cubicBezTo>
                  <a:pt x="12442" y="10815"/>
                  <a:pt x="12609" y="10801"/>
                  <a:pt x="12774" y="10790"/>
                </a:cubicBezTo>
                <a:cubicBezTo>
                  <a:pt x="12889" y="10782"/>
                  <a:pt x="12987" y="10799"/>
                  <a:pt x="13097" y="10815"/>
                </a:cubicBezTo>
                <a:cubicBezTo>
                  <a:pt x="13210" y="10832"/>
                  <a:pt x="13285" y="10827"/>
                  <a:pt x="13395" y="10815"/>
                </a:cubicBezTo>
                <a:cubicBezTo>
                  <a:pt x="13568" y="10796"/>
                  <a:pt x="13741" y="10768"/>
                  <a:pt x="13915" y="10740"/>
                </a:cubicBezTo>
                <a:cubicBezTo>
                  <a:pt x="14109" y="10709"/>
                  <a:pt x="14315" y="10682"/>
                  <a:pt x="14511" y="10666"/>
                </a:cubicBezTo>
                <a:cubicBezTo>
                  <a:pt x="14730" y="10648"/>
                  <a:pt x="14939" y="10610"/>
                  <a:pt x="15156" y="10567"/>
                </a:cubicBezTo>
                <a:cubicBezTo>
                  <a:pt x="15301" y="10538"/>
                  <a:pt x="15434" y="10479"/>
                  <a:pt x="15577" y="10443"/>
                </a:cubicBezTo>
                <a:cubicBezTo>
                  <a:pt x="15640" y="10427"/>
                  <a:pt x="15735" y="10392"/>
                  <a:pt x="15801" y="10393"/>
                </a:cubicBezTo>
                <a:cubicBezTo>
                  <a:pt x="15856" y="10394"/>
                  <a:pt x="15999" y="10418"/>
                  <a:pt x="16049" y="10443"/>
                </a:cubicBezTo>
                <a:cubicBezTo>
                  <a:pt x="16032" y="10443"/>
                  <a:pt x="16016" y="10443"/>
                  <a:pt x="15999" y="10443"/>
                </a:cubicBezTo>
              </a:path>
              <a:path w="7344" h="2010">
                <a:moveTo>
                  <a:pt x="9079" y="9649"/>
                </a:moveTo>
                <a:cubicBezTo>
                  <a:pt x="9041" y="9779"/>
                  <a:pt x="9018" y="9914"/>
                  <a:pt x="9004" y="10046"/>
                </a:cubicBezTo>
                <a:cubicBezTo>
                  <a:pt x="9004" y="10071"/>
                  <a:pt x="9004" y="10095"/>
                  <a:pt x="9004" y="10120"/>
                </a:cubicBezTo>
              </a:path>
              <a:path w="7344" h="2010">
                <a:moveTo>
                  <a:pt x="8706" y="9872"/>
                </a:moveTo>
                <a:cubicBezTo>
                  <a:pt x="8868" y="9883"/>
                  <a:pt x="9052" y="9904"/>
                  <a:pt x="9203" y="9971"/>
                </a:cubicBezTo>
                <a:cubicBezTo>
                  <a:pt x="9259" y="10009"/>
                  <a:pt x="9262" y="10026"/>
                  <a:pt x="9302" y="10021"/>
                </a:cubicBezTo>
              </a:path>
              <a:path w="7344" h="2010">
                <a:moveTo>
                  <a:pt x="15925" y="10815"/>
                </a:moveTo>
                <a:cubicBezTo>
                  <a:pt x="15978" y="10815"/>
                  <a:pt x="15894" y="10792"/>
                  <a:pt x="15875" y="10790"/>
                </a:cubicBezTo>
                <a:cubicBezTo>
                  <a:pt x="15844" y="10787"/>
                  <a:pt x="15773" y="10802"/>
                  <a:pt x="15751" y="10815"/>
                </a:cubicBezTo>
                <a:cubicBezTo>
                  <a:pt x="15636" y="10883"/>
                  <a:pt x="15518" y="10943"/>
                  <a:pt x="15478" y="11063"/>
                </a:cubicBezTo>
                <a:cubicBezTo>
                  <a:pt x="15559" y="11103"/>
                  <a:pt x="15820" y="11126"/>
                  <a:pt x="15850" y="11212"/>
                </a:cubicBezTo>
                <a:cubicBezTo>
                  <a:pt x="15881" y="11301"/>
                  <a:pt x="15703" y="11374"/>
                  <a:pt x="15652" y="11385"/>
                </a:cubicBezTo>
                <a:cubicBezTo>
                  <a:pt x="15675" y="11225"/>
                  <a:pt x="15729" y="11097"/>
                  <a:pt x="15825" y="10964"/>
                </a:cubicBezTo>
                <a:cubicBezTo>
                  <a:pt x="15833" y="10956"/>
                  <a:pt x="15842" y="10947"/>
                  <a:pt x="15850" y="10939"/>
                </a:cubicBezTo>
              </a:path>
              <a:path w="7344" h="2010">
                <a:moveTo>
                  <a:pt x="14784" y="10988"/>
                </a:moveTo>
                <a:cubicBezTo>
                  <a:pt x="14784" y="10916"/>
                  <a:pt x="14726" y="11067"/>
                  <a:pt x="14709" y="11137"/>
                </a:cubicBezTo>
                <a:cubicBezTo>
                  <a:pt x="14666" y="11318"/>
                  <a:pt x="14589" y="11520"/>
                  <a:pt x="14709" y="11658"/>
                </a:cubicBezTo>
                <a:cubicBezTo>
                  <a:pt x="14903" y="11520"/>
                  <a:pt x="15136" y="11276"/>
                  <a:pt x="15056" y="10988"/>
                </a:cubicBezTo>
                <a:cubicBezTo>
                  <a:pt x="14975" y="10907"/>
                  <a:pt x="14942" y="10879"/>
                  <a:pt x="14858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37160" y="3419640"/>
            <a:ext cx="160200" cy="206280"/>
          </a:xfrm>
          <a:custGeom>
            <a:avLst/>
            <a:gdLst/>
            <a:ahLst/>
            <a:rect l="l" t="t" r="r" b="b"/>
            <a:pathLst>
              <a:path w="447" h="572">
                <a:moveTo>
                  <a:pt x="15478" y="9500"/>
                </a:moveTo>
                <a:cubicBezTo>
                  <a:pt x="15452" y="9605"/>
                  <a:pt x="15392" y="9701"/>
                  <a:pt x="15379" y="9823"/>
                </a:cubicBezTo>
                <a:cubicBezTo>
                  <a:pt x="15368" y="9933"/>
                  <a:pt x="15426" y="10132"/>
                  <a:pt x="15577" y="10046"/>
                </a:cubicBezTo>
                <a:cubicBezTo>
                  <a:pt x="15758" y="9943"/>
                  <a:pt x="15813" y="9815"/>
                  <a:pt x="15825" y="9624"/>
                </a:cubicBezTo>
                <a:cubicBezTo>
                  <a:pt x="15664" y="9574"/>
                  <a:pt x="15569" y="9608"/>
                  <a:pt x="15404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84840" y="3490920"/>
            <a:ext cx="419040" cy="206280"/>
          </a:xfrm>
          <a:custGeom>
            <a:avLst/>
            <a:gdLst/>
            <a:ahLst/>
            <a:rect l="l" t="t" r="r" b="b"/>
            <a:pathLst>
              <a:path w="1167" h="571">
                <a:moveTo>
                  <a:pt x="14585" y="9723"/>
                </a:moveTo>
                <a:cubicBezTo>
                  <a:pt x="14495" y="9701"/>
                  <a:pt x="14476" y="9707"/>
                  <a:pt x="14412" y="9823"/>
                </a:cubicBezTo>
                <a:cubicBezTo>
                  <a:pt x="14339" y="9955"/>
                  <a:pt x="14329" y="10056"/>
                  <a:pt x="14337" y="10195"/>
                </a:cubicBezTo>
                <a:cubicBezTo>
                  <a:pt x="14525" y="10280"/>
                  <a:pt x="14625" y="10225"/>
                  <a:pt x="14709" y="10021"/>
                </a:cubicBezTo>
                <a:cubicBezTo>
                  <a:pt x="14807" y="9783"/>
                  <a:pt x="14625" y="9798"/>
                  <a:pt x="14461" y="9798"/>
                </a:cubicBezTo>
              </a:path>
              <a:path w="1167" h="571">
                <a:moveTo>
                  <a:pt x="13891" y="9872"/>
                </a:moveTo>
                <a:cubicBezTo>
                  <a:pt x="13891" y="9821"/>
                  <a:pt x="13893" y="9766"/>
                  <a:pt x="13816" y="9773"/>
                </a:cubicBezTo>
                <a:cubicBezTo>
                  <a:pt x="13746" y="9779"/>
                  <a:pt x="13620" y="9855"/>
                  <a:pt x="13593" y="9922"/>
                </a:cubicBezTo>
                <a:cubicBezTo>
                  <a:pt x="13540" y="10056"/>
                  <a:pt x="13586" y="10131"/>
                  <a:pt x="13643" y="10244"/>
                </a:cubicBezTo>
                <a:cubicBezTo>
                  <a:pt x="13794" y="10244"/>
                  <a:pt x="13969" y="10197"/>
                  <a:pt x="13990" y="9996"/>
                </a:cubicBezTo>
                <a:cubicBezTo>
                  <a:pt x="14005" y="9850"/>
                  <a:pt x="13898" y="9750"/>
                  <a:pt x="13767" y="9798"/>
                </a:cubicBezTo>
                <a:cubicBezTo>
                  <a:pt x="13734" y="9814"/>
                  <a:pt x="13700" y="9831"/>
                  <a:pt x="13667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2640" y="3517920"/>
            <a:ext cx="144360" cy="21420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12799" y="9922"/>
                </a:moveTo>
                <a:cubicBezTo>
                  <a:pt x="12799" y="9897"/>
                  <a:pt x="12799" y="9889"/>
                  <a:pt x="12799" y="9872"/>
                </a:cubicBezTo>
                <a:cubicBezTo>
                  <a:pt x="12780" y="9965"/>
                  <a:pt x="12713" y="10035"/>
                  <a:pt x="12675" y="10120"/>
                </a:cubicBezTo>
                <a:cubicBezTo>
                  <a:pt x="12675" y="10128"/>
                  <a:pt x="12675" y="10137"/>
                  <a:pt x="12675" y="10145"/>
                </a:cubicBezTo>
                <a:cubicBezTo>
                  <a:pt x="12784" y="10133"/>
                  <a:pt x="12889" y="10089"/>
                  <a:pt x="12998" y="10071"/>
                </a:cubicBezTo>
                <a:cubicBezTo>
                  <a:pt x="13039" y="10071"/>
                  <a:pt x="13047" y="10071"/>
                  <a:pt x="13072" y="10071"/>
                </a:cubicBezTo>
              </a:path>
              <a:path w="398" h="596">
                <a:moveTo>
                  <a:pt x="13072" y="9773"/>
                </a:moveTo>
                <a:cubicBezTo>
                  <a:pt x="12982" y="9974"/>
                  <a:pt x="12948" y="10147"/>
                  <a:pt x="12948" y="103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14880" y="3517920"/>
            <a:ext cx="152280" cy="206280"/>
          </a:xfrm>
          <a:custGeom>
            <a:avLst/>
            <a:gdLst/>
            <a:ahLst/>
            <a:rect l="l" t="t" r="r" b="b"/>
            <a:pathLst>
              <a:path w="422" h="572">
                <a:moveTo>
                  <a:pt x="12129" y="9922"/>
                </a:moveTo>
                <a:cubicBezTo>
                  <a:pt x="12083" y="9848"/>
                  <a:pt x="12013" y="9741"/>
                  <a:pt x="11906" y="9773"/>
                </a:cubicBezTo>
                <a:cubicBezTo>
                  <a:pt x="11780" y="9811"/>
                  <a:pt x="11678" y="9975"/>
                  <a:pt x="11733" y="10096"/>
                </a:cubicBezTo>
                <a:cubicBezTo>
                  <a:pt x="11802" y="10248"/>
                  <a:pt x="11970" y="10067"/>
                  <a:pt x="12005" y="9996"/>
                </a:cubicBezTo>
                <a:cubicBezTo>
                  <a:pt x="12026" y="9912"/>
                  <a:pt x="12028" y="9893"/>
                  <a:pt x="12055" y="9847"/>
                </a:cubicBezTo>
                <a:cubicBezTo>
                  <a:pt x="12037" y="9992"/>
                  <a:pt x="12031" y="10152"/>
                  <a:pt x="12005" y="10294"/>
                </a:cubicBezTo>
                <a:cubicBezTo>
                  <a:pt x="11985" y="10335"/>
                  <a:pt x="11977" y="10362"/>
                  <a:pt x="11981" y="103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67120" y="3510000"/>
            <a:ext cx="150840" cy="187200"/>
          </a:xfrm>
          <a:custGeom>
            <a:avLst/>
            <a:gdLst/>
            <a:ahLst/>
            <a:rect l="l" t="t" r="r" b="b"/>
            <a:pathLst>
              <a:path w="423" h="522">
                <a:moveTo>
                  <a:pt x="10790" y="9847"/>
                </a:moveTo>
                <a:cubicBezTo>
                  <a:pt x="10668" y="9808"/>
                  <a:pt x="10936" y="9746"/>
                  <a:pt x="10964" y="9748"/>
                </a:cubicBezTo>
                <a:cubicBezTo>
                  <a:pt x="11119" y="9757"/>
                  <a:pt x="11091" y="9926"/>
                  <a:pt x="11038" y="10021"/>
                </a:cubicBezTo>
                <a:cubicBezTo>
                  <a:pt x="10994" y="10099"/>
                  <a:pt x="10975" y="10089"/>
                  <a:pt x="10914" y="10071"/>
                </a:cubicBezTo>
                <a:cubicBezTo>
                  <a:pt x="10930" y="9959"/>
                  <a:pt x="11008" y="9979"/>
                  <a:pt x="11112" y="9971"/>
                </a:cubicBezTo>
                <a:cubicBezTo>
                  <a:pt x="11171" y="10099"/>
                  <a:pt x="11195" y="10221"/>
                  <a:pt x="11013" y="10269"/>
                </a:cubicBezTo>
                <a:cubicBezTo>
                  <a:pt x="10931" y="10291"/>
                  <a:pt x="10823" y="10250"/>
                  <a:pt x="10740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6200" y="3510000"/>
            <a:ext cx="9720" cy="204840"/>
          </a:xfrm>
          <a:custGeom>
            <a:avLst/>
            <a:gdLst/>
            <a:ahLst/>
            <a:rect l="l" t="t" r="r" b="b"/>
            <a:pathLst>
              <a:path w="26" h="572">
                <a:moveTo>
                  <a:pt x="10071" y="9748"/>
                </a:moveTo>
                <a:cubicBezTo>
                  <a:pt x="10071" y="9892"/>
                  <a:pt x="10055" y="10027"/>
                  <a:pt x="10046" y="10170"/>
                </a:cubicBezTo>
                <a:cubicBezTo>
                  <a:pt x="10042" y="10236"/>
                  <a:pt x="10046" y="10335"/>
                  <a:pt x="10046" y="102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33840" y="5946840"/>
            <a:ext cx="1768320" cy="500040"/>
          </a:xfrm>
          <a:custGeom>
            <a:avLst/>
            <a:gdLst/>
            <a:ahLst/>
            <a:rect l="l" t="t" r="r" b="b"/>
            <a:pathLst>
              <a:path w="4912" h="1390">
                <a:moveTo>
                  <a:pt x="10393" y="17115"/>
                </a:moveTo>
                <a:cubicBezTo>
                  <a:pt x="10341" y="17115"/>
                  <a:pt x="10523" y="16998"/>
                  <a:pt x="10542" y="16991"/>
                </a:cubicBezTo>
                <a:cubicBezTo>
                  <a:pt x="10567" y="16991"/>
                  <a:pt x="10591" y="16991"/>
                  <a:pt x="10616" y="16991"/>
                </a:cubicBezTo>
                <a:cubicBezTo>
                  <a:pt x="10756" y="17178"/>
                  <a:pt x="10644" y="17284"/>
                  <a:pt x="10468" y="17438"/>
                </a:cubicBezTo>
                <a:cubicBezTo>
                  <a:pt x="10443" y="17454"/>
                  <a:pt x="10418" y="17471"/>
                  <a:pt x="10393" y="17487"/>
                </a:cubicBezTo>
                <a:cubicBezTo>
                  <a:pt x="10305" y="17443"/>
                  <a:pt x="10621" y="17410"/>
                  <a:pt x="10641" y="17413"/>
                </a:cubicBezTo>
                <a:cubicBezTo>
                  <a:pt x="10682" y="17429"/>
                  <a:pt x="10724" y="17446"/>
                  <a:pt x="10765" y="17462"/>
                </a:cubicBezTo>
                <a:cubicBezTo>
                  <a:pt x="10727" y="17679"/>
                  <a:pt x="10592" y="17808"/>
                  <a:pt x="10368" y="17884"/>
                </a:cubicBezTo>
                <a:cubicBezTo>
                  <a:pt x="10072" y="17984"/>
                  <a:pt x="10133" y="17850"/>
                  <a:pt x="10195" y="17686"/>
                </a:cubicBezTo>
              </a:path>
              <a:path w="4912" h="1390">
                <a:moveTo>
                  <a:pt x="11187" y="16966"/>
                </a:moveTo>
                <a:cubicBezTo>
                  <a:pt x="11088" y="17065"/>
                  <a:pt x="11090" y="17217"/>
                  <a:pt x="11063" y="17363"/>
                </a:cubicBezTo>
                <a:cubicBezTo>
                  <a:pt x="11035" y="17513"/>
                  <a:pt x="11026" y="17697"/>
                  <a:pt x="11237" y="17661"/>
                </a:cubicBezTo>
                <a:cubicBezTo>
                  <a:pt x="11466" y="17622"/>
                  <a:pt x="11475" y="17480"/>
                  <a:pt x="11485" y="17289"/>
                </a:cubicBezTo>
                <a:cubicBezTo>
                  <a:pt x="11340" y="17325"/>
                  <a:pt x="11210" y="17466"/>
                  <a:pt x="11187" y="17636"/>
                </a:cubicBezTo>
                <a:cubicBezTo>
                  <a:pt x="11214" y="17718"/>
                  <a:pt x="11230" y="17741"/>
                  <a:pt x="11311" y="17686"/>
                </a:cubicBezTo>
              </a:path>
              <a:path w="4912" h="1390">
                <a:moveTo>
                  <a:pt x="11782" y="16991"/>
                </a:moveTo>
                <a:cubicBezTo>
                  <a:pt x="11821" y="16913"/>
                  <a:pt x="11960" y="16869"/>
                  <a:pt x="12055" y="16892"/>
                </a:cubicBezTo>
                <a:cubicBezTo>
                  <a:pt x="12282" y="16946"/>
                  <a:pt x="12137" y="17331"/>
                  <a:pt x="12055" y="17438"/>
                </a:cubicBezTo>
                <a:cubicBezTo>
                  <a:pt x="11938" y="17590"/>
                  <a:pt x="11802" y="17593"/>
                  <a:pt x="11633" y="17611"/>
                </a:cubicBezTo>
                <a:cubicBezTo>
                  <a:pt x="11646" y="17494"/>
                  <a:pt x="11817" y="17348"/>
                  <a:pt x="11981" y="17388"/>
                </a:cubicBezTo>
                <a:cubicBezTo>
                  <a:pt x="12133" y="17425"/>
                  <a:pt x="12085" y="17587"/>
                  <a:pt x="12055" y="17686"/>
                </a:cubicBezTo>
              </a:path>
              <a:path w="4912" h="1390">
                <a:moveTo>
                  <a:pt x="12502" y="17487"/>
                </a:moveTo>
                <a:lnTo>
                  <a:pt x="12502" y="17487"/>
                </a:lnTo>
                <a:lnTo>
                  <a:pt x="12502" y="17487"/>
                </a:lnTo>
              </a:path>
              <a:path w="4912" h="1390">
                <a:moveTo>
                  <a:pt x="13022" y="16892"/>
                </a:moveTo>
                <a:cubicBezTo>
                  <a:pt x="12967" y="17005"/>
                  <a:pt x="12895" y="17102"/>
                  <a:pt x="12998" y="17214"/>
                </a:cubicBezTo>
                <a:cubicBezTo>
                  <a:pt x="13155" y="17384"/>
                  <a:pt x="13331" y="17270"/>
                  <a:pt x="13469" y="17165"/>
                </a:cubicBezTo>
              </a:path>
              <a:path w="4912" h="1390">
                <a:moveTo>
                  <a:pt x="13469" y="16768"/>
                </a:moveTo>
                <a:cubicBezTo>
                  <a:pt x="13393" y="16984"/>
                  <a:pt x="13369" y="17216"/>
                  <a:pt x="13295" y="17438"/>
                </a:cubicBezTo>
                <a:cubicBezTo>
                  <a:pt x="13276" y="17496"/>
                  <a:pt x="13246" y="17623"/>
                  <a:pt x="13246" y="17562"/>
                </a:cubicBezTo>
              </a:path>
              <a:path w="4912" h="1390">
                <a:moveTo>
                  <a:pt x="13965" y="16942"/>
                </a:moveTo>
                <a:cubicBezTo>
                  <a:pt x="13932" y="17105"/>
                  <a:pt x="13789" y="17219"/>
                  <a:pt x="13717" y="17363"/>
                </a:cubicBezTo>
                <a:cubicBezTo>
                  <a:pt x="13676" y="17486"/>
                  <a:pt x="13659" y="17508"/>
                  <a:pt x="13667" y="17587"/>
                </a:cubicBezTo>
                <a:cubicBezTo>
                  <a:pt x="13839" y="17648"/>
                  <a:pt x="14019" y="17511"/>
                  <a:pt x="14089" y="17314"/>
                </a:cubicBezTo>
                <a:cubicBezTo>
                  <a:pt x="14162" y="17108"/>
                  <a:pt x="14071" y="17023"/>
                  <a:pt x="13940" y="16892"/>
                </a:cubicBezTo>
              </a:path>
              <a:path w="4912" h="1390">
                <a:moveTo>
                  <a:pt x="14635" y="16768"/>
                </a:moveTo>
                <a:cubicBezTo>
                  <a:pt x="14612" y="16867"/>
                  <a:pt x="14516" y="17073"/>
                  <a:pt x="14585" y="17165"/>
                </a:cubicBezTo>
                <a:cubicBezTo>
                  <a:pt x="14696" y="17314"/>
                  <a:pt x="14927" y="17135"/>
                  <a:pt x="15007" y="17066"/>
                </a:cubicBezTo>
              </a:path>
              <a:path w="4912" h="1390">
                <a:moveTo>
                  <a:pt x="14908" y="16520"/>
                </a:moveTo>
                <a:cubicBezTo>
                  <a:pt x="14889" y="16871"/>
                  <a:pt x="14809" y="17174"/>
                  <a:pt x="14709" y="17512"/>
                </a:cubicBezTo>
                <a:cubicBezTo>
                  <a:pt x="14668" y="17657"/>
                  <a:pt x="14669" y="17689"/>
                  <a:pt x="14610" y="177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44920" y="5303880"/>
            <a:ext cx="179280" cy="339840"/>
          </a:xfrm>
          <a:custGeom>
            <a:avLst/>
            <a:gdLst/>
            <a:ahLst/>
            <a:rect l="l" t="t" r="r" b="b"/>
            <a:pathLst>
              <a:path w="498" h="944">
                <a:moveTo>
                  <a:pt x="9897" y="14734"/>
                </a:moveTo>
                <a:cubicBezTo>
                  <a:pt x="10082" y="14945"/>
                  <a:pt x="10215" y="15155"/>
                  <a:pt x="10294" y="15429"/>
                </a:cubicBezTo>
                <a:cubicBezTo>
                  <a:pt x="10313" y="15539"/>
                  <a:pt x="10294" y="15562"/>
                  <a:pt x="10344" y="15602"/>
                </a:cubicBezTo>
              </a:path>
              <a:path w="498" h="944">
                <a:moveTo>
                  <a:pt x="10220" y="14908"/>
                </a:moveTo>
                <a:cubicBezTo>
                  <a:pt x="10084" y="15153"/>
                  <a:pt x="9915" y="15407"/>
                  <a:pt x="9847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0240" y="4840200"/>
            <a:ext cx="955800" cy="374760"/>
          </a:xfrm>
          <a:custGeom>
            <a:avLst/>
            <a:gdLst/>
            <a:ahLst/>
            <a:rect l="l" t="t" r="r" b="b"/>
            <a:pathLst>
              <a:path w="2655" h="1043">
                <a:moveTo>
                  <a:pt x="11658" y="13543"/>
                </a:moveTo>
                <a:cubicBezTo>
                  <a:pt x="11680" y="13500"/>
                  <a:pt x="11684" y="13488"/>
                  <a:pt x="11708" y="13469"/>
                </a:cubicBezTo>
                <a:cubicBezTo>
                  <a:pt x="11694" y="13641"/>
                  <a:pt x="11589" y="13799"/>
                  <a:pt x="11584" y="13965"/>
                </a:cubicBezTo>
                <a:cubicBezTo>
                  <a:pt x="11592" y="13982"/>
                  <a:pt x="11601" y="13998"/>
                  <a:pt x="11609" y="14015"/>
                </a:cubicBezTo>
                <a:cubicBezTo>
                  <a:pt x="11791" y="13974"/>
                  <a:pt x="11981" y="13959"/>
                  <a:pt x="12154" y="13891"/>
                </a:cubicBezTo>
              </a:path>
              <a:path w="2655" h="1043">
                <a:moveTo>
                  <a:pt x="12204" y="13692"/>
                </a:moveTo>
                <a:cubicBezTo>
                  <a:pt x="12129" y="13876"/>
                  <a:pt x="11910" y="14232"/>
                  <a:pt x="11956" y="14436"/>
                </a:cubicBezTo>
                <a:cubicBezTo>
                  <a:pt x="11964" y="14420"/>
                  <a:pt x="11973" y="14403"/>
                  <a:pt x="11981" y="14387"/>
                </a:cubicBezTo>
              </a:path>
              <a:path w="2655" h="1043">
                <a:moveTo>
                  <a:pt x="12452" y="13618"/>
                </a:moveTo>
                <a:cubicBezTo>
                  <a:pt x="12476" y="13691"/>
                  <a:pt x="12561" y="13548"/>
                  <a:pt x="12650" y="13593"/>
                </a:cubicBezTo>
                <a:cubicBezTo>
                  <a:pt x="12903" y="13722"/>
                  <a:pt x="12732" y="14116"/>
                  <a:pt x="12601" y="14263"/>
                </a:cubicBezTo>
                <a:cubicBezTo>
                  <a:pt x="12474" y="14406"/>
                  <a:pt x="12389" y="14398"/>
                  <a:pt x="12303" y="14312"/>
                </a:cubicBezTo>
                <a:cubicBezTo>
                  <a:pt x="12373" y="14160"/>
                  <a:pt x="12505" y="14143"/>
                  <a:pt x="12650" y="14288"/>
                </a:cubicBezTo>
                <a:cubicBezTo>
                  <a:pt x="12695" y="14333"/>
                  <a:pt x="12675" y="14432"/>
                  <a:pt x="12675" y="14486"/>
                </a:cubicBezTo>
              </a:path>
              <a:path w="2655" h="1043">
                <a:moveTo>
                  <a:pt x="12948" y="14288"/>
                </a:moveTo>
                <a:cubicBezTo>
                  <a:pt x="12956" y="14296"/>
                  <a:pt x="12965" y="14304"/>
                  <a:pt x="12973" y="14312"/>
                </a:cubicBezTo>
              </a:path>
              <a:path w="2655" h="1043">
                <a:moveTo>
                  <a:pt x="13419" y="13742"/>
                </a:moveTo>
                <a:cubicBezTo>
                  <a:pt x="13419" y="13944"/>
                  <a:pt x="13420" y="14139"/>
                  <a:pt x="13395" y="14337"/>
                </a:cubicBezTo>
                <a:cubicBezTo>
                  <a:pt x="13395" y="14345"/>
                  <a:pt x="13395" y="14354"/>
                  <a:pt x="13395" y="14362"/>
                </a:cubicBezTo>
              </a:path>
              <a:path w="2655" h="1043">
                <a:moveTo>
                  <a:pt x="13717" y="13717"/>
                </a:moveTo>
                <a:cubicBezTo>
                  <a:pt x="13714" y="13767"/>
                  <a:pt x="13657" y="13961"/>
                  <a:pt x="13717" y="13990"/>
                </a:cubicBezTo>
                <a:cubicBezTo>
                  <a:pt x="13866" y="14061"/>
                  <a:pt x="14049" y="14015"/>
                  <a:pt x="14188" y="13965"/>
                </a:cubicBezTo>
              </a:path>
              <a:path w="2655" h="1043">
                <a:moveTo>
                  <a:pt x="14238" y="13444"/>
                </a:moveTo>
                <a:cubicBezTo>
                  <a:pt x="14151" y="13762"/>
                  <a:pt x="14092" y="14107"/>
                  <a:pt x="13965" y="14412"/>
                </a:cubicBezTo>
                <a:cubicBezTo>
                  <a:pt x="13957" y="14420"/>
                  <a:pt x="13948" y="14428"/>
                  <a:pt x="13940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8040" y="5607000"/>
            <a:ext cx="1608120" cy="152280"/>
          </a:xfrm>
          <a:custGeom>
            <a:avLst/>
            <a:gdLst/>
            <a:ahLst/>
            <a:rect l="l" t="t" r="r" b="b"/>
            <a:pathLst>
              <a:path w="4466" h="423">
                <a:moveTo>
                  <a:pt x="10691" y="15999"/>
                </a:moveTo>
                <a:cubicBezTo>
                  <a:pt x="10874" y="15938"/>
                  <a:pt x="11085" y="15903"/>
                  <a:pt x="11286" y="15875"/>
                </a:cubicBezTo>
                <a:cubicBezTo>
                  <a:pt x="11966" y="15780"/>
                  <a:pt x="12660" y="15739"/>
                  <a:pt x="13345" y="15677"/>
                </a:cubicBezTo>
                <a:cubicBezTo>
                  <a:pt x="13906" y="15626"/>
                  <a:pt x="14468" y="15586"/>
                  <a:pt x="15032" y="15577"/>
                </a:cubicBezTo>
                <a:cubicBezTo>
                  <a:pt x="15095" y="15576"/>
                  <a:pt x="15133" y="15594"/>
                  <a:pt x="15156" y="156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3:21:54Z</dcterms:created>
  <dc:creator>Brian McGrath</dc:creator>
  <dc:description/>
  <dc:language>en-US</dc:language>
  <cp:lastModifiedBy>ccps</cp:lastModifiedBy>
  <dcterms:modified xsi:type="dcterms:W3CDTF">2010-04-09T17:39:53Z</dcterms:modified>
  <cp:revision>2</cp:revision>
  <dc:subject/>
  <dc:title>Friday, April 9, 2010</dc:title>
</cp:coreProperties>
</file>